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274-308B-4157-BFC2-F6E8451B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AD3-3A8E-479F-9167-CBC0F628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860-8915-413C-B263-4AA79496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061-DDF0-4329-96C3-F343289C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B3AC-0038-419A-B447-8AC11D48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4C22-2109-420B-AD45-08D2C032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7170-B199-4BBD-A78C-A546E6FF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B88D-246B-410B-BB30-9F9AD0CC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F22B-9BE2-4F55-8D33-06E7D0E7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E583-BFD0-4580-9EB1-425D182F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B6DA-6FFC-4E73-AB8F-0642AAA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8BD-8A64-4AB8-BEAB-338485CF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3047-D7DF-47D8-B442-22C2A06D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AE98-F8F2-4CB4-B9C5-C912CB6D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05E2-6F0A-4DE4-B7B6-8F1070EF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5188-ED3B-4A7A-BE23-66FABC4D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7CB2-A82B-4684-9F65-A12410EE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3600-F323-40CE-A7A7-F1A6B277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4F51-D274-4A77-9430-61E94E94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555C8-02AE-4DDB-8787-1610C6C8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3FBF-2724-4D4F-8EF1-3B95CFBD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AF2E-C8A1-4298-84BD-EFC9AB96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32D-D75B-4292-9399-B1C6C717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D5ADE-CAFF-4892-AD01-454F8613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D175-74E3-4E6F-AAE5-E272F91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7D94-A34B-49DC-B702-8A8232EA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9EF7-95CD-4350-942E-677A397B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1C77-A187-46C6-AB43-E88FD112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D7B8-A02F-462F-BF0C-D376F08C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7BAD1-F739-4926-9622-4009A5CA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0A30-7FCB-41C8-BF39-CDCC5E8E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B21B-A7EC-4664-91BA-A6534066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75F4-1455-4A1B-ABF3-23773F27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F72-6612-431D-B868-33A31F21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B775-35B0-4870-BF9D-7A0C2F5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326D-7B46-48D4-B953-3EED9977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1B56-23BE-4B35-A7D0-7E13725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3D32-A846-480D-B78D-DBE71A6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F4A6-A8A6-40CC-83EA-C7365DB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380C-0F6F-4270-BAFD-7C0BCC3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B643E-ACBC-4A10-BE16-8650027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FD3B-75EC-4391-B152-237C5213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1072-118F-4047-8549-C6E841B6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731C-4466-4952-B4CC-370A8F6A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F7A-0870-410A-B5F1-5D7B01F8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AAAF-2D58-437B-8A29-89618CE5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49AC-C496-4204-B9D7-D37CC326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25052-A077-4C0F-8036-E52927E1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BD3E7-61F9-4D88-AF1B-F2027480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052C-F3D7-4A6B-AED4-35022958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05AE-88CB-43F1-8EB7-2586E2A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4A6DB-78BD-48F2-BE89-11911C7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18D4-1B96-49DD-A802-671B9FC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D581-9383-4A37-B5FA-B408B674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CA34-5BBD-4D07-87A4-E62E6D92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CDD-F2BA-41F5-8A7A-A0697A9C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DFD8-AF56-4791-A54C-5DFE5824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A10-7A5C-4092-B6DA-33D0AFA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ED1-C84F-401E-84AE-4F4C426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AD1-B848-4F2B-BB08-ECB8BB7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F9EE5-8F35-4891-9D98-41F068154A9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7D8EA-4815-4B57-A953-AA613042D5B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97400-1B89-419B-86FB-C8CC39E0B90C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0CA74-937D-4AAA-90A0-01F4AB435D3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3DE0E-A114-4935-BCE6-96621E69225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gOSnedhJxs" TargetMode="External"/><Relationship Id="rId2" Type="http://schemas.openxmlformats.org/officeDocument/2006/relationships/hyperlink" Target="https://www.youtube.com/watch?v=lgOSnedhJxs" TargetMode="External"/><Relationship Id="rId3" Type="http://schemas.openxmlformats.org/officeDocument/2006/relationships/hyperlink" Target="https://www.youtube.com/watch?v=lgOSnedhJxs" TargetMode="External"/><Relationship Id="rId4" Type="http://schemas.openxmlformats.org/officeDocument/2006/relationships/hyperlink" Target="https://www.youtube.com/watch?v=lgOSnedhJxs" TargetMode="External"/><Relationship Id="rId5" Type="http://schemas.openxmlformats.org/officeDocument/2006/relationships/hyperlink" Target="https://www.youtube.com/watch?v=lgOSnedhJxs" TargetMode="External"/><Relationship Id="rId6" Type="http://schemas.openxmlformats.org/officeDocument/2006/relationships/hyperlink" Target="https://www.youtube.com/watch?v=lgOSnedhJxs" TargetMode="External"/><Relationship Id="rId7" Type="http://schemas.openxmlformats.org/officeDocument/2006/relationships/hyperlink" Target="https://www.youtube.com/watch?v=lgOSnedhJxs" TargetMode="External"/><Relationship Id="rId8" Type="http://schemas.openxmlformats.org/officeDocument/2006/relationships/hyperlink" Target="https://www.youtube.com/watch?v=lgOSnedhJxs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04920" y="218448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Τ</a:t>
            </a: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ΟΥ ΓΙΟΦΥΡΙΟΥ ΤΗ</a:t>
            </a: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Σ </a:t>
            </a: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ΑΡΤΑΣ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 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 u="sng">
                <a:solidFill>
                  <a:srgbClr val="335b74"/>
                </a:solidFill>
                <a:uFillTx/>
                <a:latin typeface="Franklin Gothic Book"/>
              </a:rPr>
              <a:t>Δημιουργο</a:t>
            </a:r>
            <a:r>
              <a:rPr b="0" lang="el-GR" sz="2300" spc="-1" strike="noStrike" u="sng">
                <a:solidFill>
                  <a:srgbClr val="335b74"/>
                </a:solidFill>
                <a:uFillTx/>
                <a:latin typeface="Franklin Gothic Book"/>
              </a:rPr>
              <a:t>ί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: Ελένη Κασελούρη (Μουσικολόγος ΠΕ79.01)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                     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Μελίνα Κατίου (Θεατρολόγος ΠΕ91.01)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Εικόνα 5" descr=""/>
          <p:cNvPicPr/>
          <p:nvPr/>
        </p:nvPicPr>
        <p:blipFill>
          <a:blip r:embed="rId1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79" name="Εικόνα 3" descr=""/>
          <p:cNvPicPr/>
          <p:nvPr/>
        </p:nvPicPr>
        <p:blipFill>
          <a:blip r:embed="rId2"/>
          <a:stretch/>
        </p:blipFill>
        <p:spPr>
          <a:xfrm>
            <a:off x="9941040" y="2147760"/>
            <a:ext cx="1811160" cy="2737080"/>
          </a:xfrm>
          <a:prstGeom prst="rect">
            <a:avLst/>
          </a:prstGeom>
          <a:ln w="0">
            <a:noFill/>
          </a:ln>
        </p:spPr>
      </p:pic>
      <p:pic>
        <p:nvPicPr>
          <p:cNvPr id="280" name="Εικόνα 4" descr=""/>
          <p:cNvPicPr/>
          <p:nvPr/>
        </p:nvPicPr>
        <p:blipFill>
          <a:blip r:embed="rId3"/>
          <a:stretch/>
        </p:blipFill>
        <p:spPr>
          <a:xfrm>
            <a:off x="10090080" y="152280"/>
            <a:ext cx="1462320" cy="1462320"/>
          </a:xfrm>
          <a:prstGeom prst="rect">
            <a:avLst/>
          </a:prstGeom>
          <a:ln w="0">
            <a:noFill/>
          </a:ln>
        </p:spPr>
      </p:pic>
      <p:pic>
        <p:nvPicPr>
          <p:cNvPr id="281" name="Εικόνα 5" descr=""/>
          <p:cNvPicPr/>
          <p:nvPr/>
        </p:nvPicPr>
        <p:blipFill>
          <a:blip r:embed="rId4"/>
          <a:stretch/>
        </p:blipFill>
        <p:spPr>
          <a:xfrm>
            <a:off x="954000" y="1293840"/>
            <a:ext cx="7672320" cy="4976640"/>
          </a:xfrm>
          <a:prstGeom prst="rect">
            <a:avLst/>
          </a:prstGeom>
          <a:ln w="0">
            <a:noFill/>
          </a:ln>
        </p:spPr>
      </p:pic>
      <p:sp>
        <p:nvSpPr>
          <p:cNvPr id="282" name="Τίτλος 1"/>
          <p:cNvSpPr/>
          <p:nvPr/>
        </p:nvSpPr>
        <p:spPr>
          <a:xfrm>
            <a:off x="954000" y="0"/>
            <a:ext cx="767232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ο γεφύρι της Άρτα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όπως το ζωγράφισαν οι μαθητ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579600"/>
            <a:ext cx="7562880" cy="5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Παιχνίδια με βάση το ποίημ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14320" y="4143240"/>
            <a:ext cx="960120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439200" y="492444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1"/>
          <p:cNvSpPr/>
          <p:nvPr/>
        </p:nvSpPr>
        <p:spPr>
          <a:xfrm>
            <a:off x="814320" y="1293840"/>
            <a:ext cx="7875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φήγηση από τον/την εκπαιδευτικ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λάκι εδιάβη κι έκατσε αντίκρυ στο ποτάμ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ν εκελάηδε σαν πουλί, μηδέ σα χελιδόν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 εκελάηδε κι έλεγε, ανθρωπινή λαλίτσ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Α δε στοιχειώσετε άνθρωπο, γιοφύρι δε στεριώνει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μη στοιχειώσετε ορφανό, μη ξένο, μη διαβάτ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 του πρωτομάστορα την όμορφη γυναίκα,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' άκουσ' ο πρωτομάστορας και του θανάτου πέφτε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άνει, μηνάει της λυγερής με το πουλί τ' αηδόν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γά ντυθεί, αργά αλλαχτεί, αργά να πάει το γιόμ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γά να πάει και να διαβεί της Άρτας το γιοφύρ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το πουλί παράκουσε κι αλλιώς επήγε κι είπ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Γοργά ντύσου, γοργά άλλαξε, γοργά να πας το γιόμ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οργά να πας και να διαβείς της Άρτας το γιοφύρ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 τηνε κι εξανάφανεν* από την άσπρη στρά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ν είδ' ο πρωτομάστορας, ραγίζεται η καρδιά το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20640" y="9478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7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0" name="Ορθογώνιο 1"/>
          <p:cNvSpPr/>
          <p:nvPr/>
        </p:nvSpPr>
        <p:spPr>
          <a:xfrm>
            <a:off x="1411200" y="326880"/>
            <a:ext cx="7732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2"/>
          <p:cNvSpPr/>
          <p:nvPr/>
        </p:nvSpPr>
        <p:spPr>
          <a:xfrm>
            <a:off x="846000" y="3724200"/>
            <a:ext cx="857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Ανίχνευση σκέψη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Πρωτομάστορας «είπε» στα πουλιά να ζητήσουν από τη  γυναίκα του να αργήσει να ετοιμαστεί, ελπίζοντας ότι θα περάσει κάποια άλλη γυναίκα απ’ το γεφύρι πριν προφτάσει να έρθει η δική του. Ο/η εκπαιδευτικός ζητά από τα παιδιά να μιμηθούν την έκφραση του Πρωτομάστορα όταν λέει ψέματα στα πουλιά και την έκφρασή του όταν  τελικά είδε να έρχεται η γυναίκα του. Ποια από τις δυο εκφράσεις πονά και από ποια στοιχεία το καταλαβαίνουμε; Αν μιλούσε το δεύτερο πρόσωπο, τι θα έλεγ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Ορθογώνιο 4"/>
          <p:cNvSpPr/>
          <p:nvPr/>
        </p:nvSpPr>
        <p:spPr>
          <a:xfrm>
            <a:off x="846000" y="392040"/>
            <a:ext cx="857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Ρόλος στον τοίχ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χαρτί του μέτρου ο/η εκπαιδευτικός ζωγραφίζει το περίγραμμα ενός άντρα και το τοποθετεί στον τοίχο. Αναφέρει στα παιδιά ότι αυτός είναι ο Πρωτομάστορας τη στιγμή που μαθαίνει ότι για να στεριώσει το γεφύρι θα πρέπει να θυσιαστεί η γυναίκα του. Όταν τη βλέπει να έρχεται, «ραγίζεται η καρδιά του». Οι μαθητές χρησιμοποιώντας μαρκαδόρους, γράφουν μέσα στο περίγραμμα του χαρτιού, τα συναισθήματα που μπορεί να ένιωσε ο Πρωτομάστορ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 Όση ώρα τα παιδιά γράφουν, ακούγεται το τραγούδι «Το γεφύρι της Άρτας» από τη Μαρία Σουλτάτο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7040" y="469440"/>
            <a:ext cx="868680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  <a:ea typeface="Calibri"/>
              </a:rPr>
              <a:t>Κατασκευή μουσικού οργάνου 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  <a:ea typeface="Calibri"/>
              </a:rPr>
              <a:t>(ράβδος βροχής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)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4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6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7" name="Ορθογώνιο 1"/>
          <p:cNvSpPr/>
          <p:nvPr/>
        </p:nvSpPr>
        <p:spPr>
          <a:xfrm>
            <a:off x="932040" y="1846440"/>
            <a:ext cx="8681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χρειαστούμε: έναν κυλινδρικό χάρτινο σωλήνα στον οποίο θα έχουμε κάνει τρύπες σε ελικοειδή μορφή, καλαμάκια από σουβλάκι, ένα κοφτάκι, χαρτοταινία, διάφορα υλικά όπως κορδέλες, χρώματα, γκλίτερ κτλ , διαφόρων ειδών σπόρια, όσπρια και διάφορα άλλα μικρά αντικείμενα, ένα κομμάτι χαρτόνι για να φτιάξουμε τα καπάκια, κόλλ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1. Κάνουμε τρύπες στο χάρτινο σωλήνα σε ελικοειδή μορφ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Εικόνα 9" descr=""/>
          <p:cNvPicPr/>
          <p:nvPr/>
        </p:nvPicPr>
        <p:blipFill>
          <a:blip r:embed="rId4"/>
          <a:stretch/>
        </p:blipFill>
        <p:spPr>
          <a:xfrm>
            <a:off x="4795920" y="4303800"/>
            <a:ext cx="1974600" cy="2455920"/>
          </a:xfrm>
          <a:prstGeom prst="rect">
            <a:avLst/>
          </a:prstGeom>
          <a:ln w="0">
            <a:noFill/>
          </a:ln>
        </p:spPr>
      </p:pic>
      <p:pic>
        <p:nvPicPr>
          <p:cNvPr id="239" name="Εικόνα 10" descr=""/>
          <p:cNvPicPr/>
          <p:nvPr/>
        </p:nvPicPr>
        <p:blipFill>
          <a:blip r:embed="rId5"/>
          <a:stretch/>
        </p:blipFill>
        <p:spPr>
          <a:xfrm>
            <a:off x="2146320" y="4303800"/>
            <a:ext cx="18414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44" name="Ορθογώνιο 2"/>
          <p:cNvSpPr/>
          <p:nvPr/>
        </p:nvSpPr>
        <p:spPr>
          <a:xfrm>
            <a:off x="1036800" y="146160"/>
            <a:ext cx="8721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2. Βάζουμε τα ξυλάκια στις τρύπες ώστε να δημιουργηθούν εμπόδια στο εσωτερικό του σωλήνα. Έτσι, όταν ρίξουμε μέσα τα σποράκια ,να βρίσκουν αντίσταση και να πέφτουν σταδιακά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Εικόνα 6" descr=""/>
          <p:cNvPicPr/>
          <p:nvPr/>
        </p:nvPicPr>
        <p:blipFill>
          <a:blip r:embed="rId4"/>
          <a:stretch/>
        </p:blipFill>
        <p:spPr>
          <a:xfrm>
            <a:off x="1036800" y="1308240"/>
            <a:ext cx="1841400" cy="228888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7" descr=""/>
          <p:cNvPicPr/>
          <p:nvPr/>
        </p:nvPicPr>
        <p:blipFill>
          <a:blip r:embed="rId5"/>
          <a:stretch/>
        </p:blipFill>
        <p:spPr>
          <a:xfrm>
            <a:off x="3233880" y="1308240"/>
            <a:ext cx="1841400" cy="228888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8" descr=""/>
          <p:cNvPicPr/>
          <p:nvPr/>
        </p:nvPicPr>
        <p:blipFill>
          <a:blip r:embed="rId6"/>
          <a:stretch/>
        </p:blipFill>
        <p:spPr>
          <a:xfrm>
            <a:off x="5381640" y="1343160"/>
            <a:ext cx="1841400" cy="225396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9" descr=""/>
          <p:cNvPicPr/>
          <p:nvPr/>
        </p:nvPicPr>
        <p:blipFill>
          <a:blip r:embed="rId7"/>
          <a:stretch/>
        </p:blipFill>
        <p:spPr>
          <a:xfrm>
            <a:off x="7547040" y="1343160"/>
            <a:ext cx="1843200" cy="2253960"/>
          </a:xfrm>
          <a:prstGeom prst="rect">
            <a:avLst/>
          </a:prstGeom>
          <a:ln w="0">
            <a:noFill/>
          </a:ln>
        </p:spPr>
      </p:pic>
      <p:sp>
        <p:nvSpPr>
          <p:cNvPr id="249" name="Ορθογώνιο 3"/>
          <p:cNvSpPr/>
          <p:nvPr/>
        </p:nvSpPr>
        <p:spPr>
          <a:xfrm>
            <a:off x="966960" y="3710160"/>
            <a:ext cx="9065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3. Κόβουμε το μέρος από το ξυλάκι που περισσεύει και στη συνέχεια βάζουμε χαρτοταινία για να μην κουνιούνται τα ξυλάκια από τη θέση του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Εικόνα 11" descr=""/>
          <p:cNvPicPr/>
          <p:nvPr/>
        </p:nvPicPr>
        <p:blipFill>
          <a:blip r:embed="rId8"/>
          <a:stretch/>
        </p:blipFill>
        <p:spPr>
          <a:xfrm>
            <a:off x="1633680" y="4481640"/>
            <a:ext cx="1841400" cy="241920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12" descr=""/>
          <p:cNvPicPr/>
          <p:nvPr/>
        </p:nvPicPr>
        <p:blipFill>
          <a:blip r:embed="rId9"/>
          <a:stretch/>
        </p:blipFill>
        <p:spPr>
          <a:xfrm>
            <a:off x="4095720" y="4481640"/>
            <a:ext cx="1841400" cy="236988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13" descr=""/>
          <p:cNvPicPr/>
          <p:nvPr/>
        </p:nvPicPr>
        <p:blipFill>
          <a:blip r:embed="rId10"/>
          <a:stretch/>
        </p:blipFill>
        <p:spPr>
          <a:xfrm>
            <a:off x="6558120" y="4470480"/>
            <a:ext cx="178884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96680" y="2700360"/>
            <a:ext cx="11395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5. Ρίχνουμε στο εσωτερικό του σωλήνα όσπρια, σπόρια κ.α. και πειραματιζόμαστε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ε τον ήχο. Βάζουμε υλικά που έχουν διαφορετικό μέγεθος ώστε να κυλάνε πιο αργά και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έχουμε διάρκεια στον ήχο. Φτιάχνουμε χάρτινα καπάκια για να κλείσουμε τα δύο 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νοίγματ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4" name="Εικόνα 3" descr=""/>
          <p:cNvPicPr/>
          <p:nvPr/>
        </p:nvPicPr>
        <p:blipFill>
          <a:blip r:embed="rId1"/>
          <a:stretch/>
        </p:blipFill>
        <p:spPr>
          <a:xfrm>
            <a:off x="10063080" y="195588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4" descr=""/>
          <p:cNvPicPr/>
          <p:nvPr/>
        </p:nvPicPr>
        <p:blipFill>
          <a:blip r:embed="rId2"/>
          <a:stretch/>
        </p:blipFill>
        <p:spPr>
          <a:xfrm>
            <a:off x="10063080" y="458640"/>
            <a:ext cx="1462320" cy="124488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57" name="Θέση περιεχομένου 2"/>
          <p:cNvSpPr/>
          <p:nvPr/>
        </p:nvSpPr>
        <p:spPr>
          <a:xfrm flipV="1">
            <a:off x="666720" y="6857280"/>
            <a:ext cx="9047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Ορθογώνιο 2"/>
          <p:cNvSpPr/>
          <p:nvPr/>
        </p:nvSpPr>
        <p:spPr>
          <a:xfrm>
            <a:off x="992160" y="11736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4. Στολίζουμε εξωτερικά τη ράβδο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Εικόνα 9" descr=""/>
          <p:cNvPicPr/>
          <p:nvPr/>
        </p:nvPicPr>
        <p:blipFill>
          <a:blip r:embed="rId4"/>
          <a:stretch/>
        </p:blipFill>
        <p:spPr>
          <a:xfrm>
            <a:off x="992160" y="577800"/>
            <a:ext cx="1892160" cy="206064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10" descr=""/>
          <p:cNvPicPr/>
          <p:nvPr/>
        </p:nvPicPr>
        <p:blipFill>
          <a:blip r:embed="rId5"/>
          <a:stretch/>
        </p:blipFill>
        <p:spPr>
          <a:xfrm>
            <a:off x="3519360" y="577800"/>
            <a:ext cx="1743120" cy="203040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11" descr=""/>
          <p:cNvPicPr/>
          <p:nvPr/>
        </p:nvPicPr>
        <p:blipFill>
          <a:blip r:embed="rId6"/>
          <a:stretch/>
        </p:blipFill>
        <p:spPr>
          <a:xfrm>
            <a:off x="5897520" y="577800"/>
            <a:ext cx="1801800" cy="206064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12" descr=""/>
          <p:cNvPicPr/>
          <p:nvPr/>
        </p:nvPicPr>
        <p:blipFill>
          <a:blip r:embed="rId7"/>
          <a:stretch/>
        </p:blipFill>
        <p:spPr>
          <a:xfrm>
            <a:off x="3432240" y="4078440"/>
            <a:ext cx="18637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17480"/>
            <a:ext cx="9642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Que llueva</a:t>
            </a: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(τραγούδι από το 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Μεξικό, αφιερωμένο στη βροχή)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4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4" descr=""/>
          <p:cNvPicPr/>
          <p:nvPr/>
        </p:nvPicPr>
        <p:blipFill>
          <a:blip r:embed="rId2"/>
          <a:stretch/>
        </p:blipFill>
        <p:spPr>
          <a:xfrm>
            <a:off x="10063080" y="5778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pic>
        <p:nvPicPr>
          <p:cNvPr id="267" name="Θέση περιεχομένου 6" descr=""/>
          <p:cNvPicPr/>
          <p:nvPr/>
        </p:nvPicPr>
        <p:blipFill>
          <a:blip r:embed="rId4"/>
          <a:stretch/>
        </p:blipFill>
        <p:spPr>
          <a:xfrm>
            <a:off x="1763640" y="2376360"/>
            <a:ext cx="69883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449280"/>
            <a:ext cx="876132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9000"/>
              </a:lnSpc>
              <a:buClr>
                <a:srgbClr val="335b7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5b74"/>
                </a:solidFill>
                <a:uFillTx/>
                <a:latin typeface="Franklin Gothic Book"/>
              </a:rPr>
              <a:t>Ο θρύλος του γεφυριού της Άρτας- </a:t>
            </a:r>
            <a:r>
              <a:rPr b="1" lang="el-GR" sz="2400" spc="-1" strike="noStrike">
                <a:solidFill>
                  <a:srgbClr val="335b74"/>
                </a:solidFill>
                <a:latin typeface="Franklin Gothic Book"/>
              </a:rPr>
              <a:t>βίντεο </a:t>
            </a:r>
            <a:r>
              <a:rPr b="1" lang="en-US" sz="2400" spc="-1" strike="noStrike">
                <a:solidFill>
                  <a:srgbClr val="335b74"/>
                </a:solidFill>
                <a:latin typeface="Franklin Gothic Book"/>
              </a:rPr>
              <a:t>animation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52200" y="448920"/>
            <a:ext cx="911052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1"/>
              </a:rPr>
              <a:t>https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3"/>
              </a:rPr>
              <a:t>www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5"/>
              </a:rPr>
              <a:t>youtube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7"/>
              </a:rPr>
              <a:t>com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8"/>
              </a:rPr>
              <a:t>/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watch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?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v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=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lgOSnedhJxs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5b74"/>
                </a:solidFill>
                <a:uFillTx/>
                <a:latin typeface="Franklin Gothic Book"/>
              </a:rPr>
              <a:t>Θέατρο μπροστά σ’ ένα μικρόφωνο 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Ο παρακάτω σύνδεσμος σας δίνει τη δυνατότητα να ακούσετε συμμετοχές μαθητών στον ραδιοφωνικό διαγωνισμ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YOUTH THEATRE ON AI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. Στον διαγωνισμό αυτό συμμετείχε  και το έργο «Του γιοφυριού της ‘Άρτας», στην 4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 Διεθνή Συνάντηση/ Φεστιβάλ, με το οποίο διακριθήκαμε και αποσπάσαμε τον τίτλ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«Έπαινος μουσικής υπόκρουσης ραδιοφωνικού θεάτρου»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Franklin Gothic Book"/>
                <a:ea typeface="Calibri"/>
              </a:rPr>
              <a:t>https://www.dramacenter.gr/copy-of-theatro-mprosta-apo-ena-mik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0" name="Εικόνα 3" descr=""/>
          <p:cNvPicPr/>
          <p:nvPr/>
        </p:nvPicPr>
        <p:blipFill>
          <a:blip r:embed="rId9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71" name="Εικόνα 4" descr=""/>
          <p:cNvPicPr/>
          <p:nvPr/>
        </p:nvPicPr>
        <p:blipFill>
          <a:blip r:embed="rId10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72" name="Εικόνα 5" descr=""/>
          <p:cNvPicPr/>
          <p:nvPr/>
        </p:nvPicPr>
        <p:blipFill>
          <a:blip r:embed="rId11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60120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Έπαινος μουσικής υπόκρουσ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4" name="Εικόνα 4" descr=""/>
          <p:cNvPicPr/>
          <p:nvPr/>
        </p:nvPicPr>
        <p:blipFill>
          <a:blip r:embed="rId1"/>
          <a:stretch/>
        </p:blipFill>
        <p:spPr>
          <a:xfrm>
            <a:off x="10090080" y="152280"/>
            <a:ext cx="1462320" cy="1462320"/>
          </a:xfrm>
          <a:prstGeom prst="rect">
            <a:avLst/>
          </a:prstGeom>
          <a:ln w="0">
            <a:noFill/>
          </a:ln>
        </p:spPr>
      </p:pic>
      <p:pic>
        <p:nvPicPr>
          <p:cNvPr id="275" name="Εικόνα 3" descr=""/>
          <p:cNvPicPr/>
          <p:nvPr/>
        </p:nvPicPr>
        <p:blipFill>
          <a:blip r:embed="rId2"/>
          <a:stretch/>
        </p:blipFill>
        <p:spPr>
          <a:xfrm>
            <a:off x="9941040" y="2147760"/>
            <a:ext cx="1811160" cy="2737080"/>
          </a:xfrm>
          <a:prstGeom prst="rect">
            <a:avLst/>
          </a:prstGeom>
          <a:ln w="0">
            <a:noFill/>
          </a:ln>
        </p:spPr>
      </p:pic>
      <p:pic>
        <p:nvPicPr>
          <p:cNvPr id="276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96280" y="51721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77" name="Εικόνα 6" descr=""/>
          <p:cNvPicPr/>
          <p:nvPr/>
        </p:nvPicPr>
        <p:blipFill>
          <a:blip r:embed="rId4"/>
          <a:stretch/>
        </p:blipFill>
        <p:spPr>
          <a:xfrm>
            <a:off x="1467000" y="1587600"/>
            <a:ext cx="69404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7:25:28Z</dcterms:modified>
  <cp:revision>208</cp:revision>
  <dc:subject/>
  <dc:title>Παρουσίαση του PowerPoint</dc:title>
</cp:coreProperties>
</file>