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76D-D450-4DF9-B531-5F2E9721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437-3DB4-4FDD-B906-E618B752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57B-71B7-44B5-83B7-F4CEE186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430-805E-4338-9EE5-03176595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4D28-5D95-4242-B2FE-7A87F3C7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A7FE-B47A-4A6A-8614-90675F2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4D56-C8C7-4BDF-8684-F0DFCE06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F641-C19A-4CBF-9357-01C904A2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6F93-4A23-4040-B249-5E3BC2B9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189C-0217-4E50-969B-7F17448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3DE3-7FAB-42BA-8440-BD8D82FC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117-7C27-473C-B556-6564B4B0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A590-7403-404B-9992-AB6C6AD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81F0-8983-43DC-9760-7C5F25A3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77A7-4B49-4974-B56F-7417BCBC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862B-0B90-48EF-BDAB-44963ED0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CCD1-2750-492D-964D-D9225F72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B609-5424-4269-8AB9-55ECA758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5CB5-9521-4B2E-8773-9473200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B522-CD28-4272-98D2-B3B45E1D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ED85-59AB-48BD-BA15-ABC01277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042E-9574-48E7-AD0A-9EFA899C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59B-F98D-4F32-B3D9-5AC21605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4948-E0C3-4111-9D4A-DA781075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5970-77B3-415C-8F44-C88B9450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F37C-8345-410A-B760-53BF5A6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1B4B-228D-4335-B1C5-489336C4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8D43-99DE-403B-B71B-86B2EAA9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8A89-97F6-42EC-ADAA-E41FE7EA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F8B5-C838-4E2A-9130-3A22DFE3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2CFA-50DE-429C-8D9C-18B28B22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73D9-C58A-4516-9D1E-9D6083D9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CBAF-99D2-4510-83B6-39422B3B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819-C2CB-4E92-9586-12F8B736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55BCF-0C01-4210-BD1E-7DA04C93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0B1B-BFD1-440E-927F-8E5DB168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8D7B-BF0B-44C6-81FE-F98FBFAB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97C4-06F0-465D-99E7-1A598400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6788-A2D4-427E-A87B-BD07DF7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5242-253D-4256-9A1A-5746206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022C-4AF6-4706-949F-11DDEEAA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D829-410E-463D-B38F-939DC32C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213D-E2D9-47C5-8C89-E9C49F3A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BA654-9CD6-4B8A-AAF3-6D75FD47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3BB-5BD2-4557-98E5-D03F7053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95D4F-358D-442F-B862-99A7750A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FC199-FB1D-4E23-AE91-48A40C97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D7594-FCA5-4084-BC30-EDA0F982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753C-5991-45B4-901D-520C2CA5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7171F-9788-4527-B438-619E681D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A243-8030-46D4-A304-7169326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44F0-E3AA-4C18-B641-955A628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FD576-E553-4650-9D58-2816B791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8A580-C424-43BF-BEF9-47C1C822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325C-EE94-4EBA-9721-95B74777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C84-65C0-45E5-A230-DCBDEC3E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D6F6-3144-4F2F-981C-7D681C30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5C2-E0CD-4E4E-B9BF-0AD55C3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182-A928-49CD-83AA-2CB63AB5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DC1-105A-426A-83FB-2FD69363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B9189-B9E4-4128-8AE3-5CD923F13186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custGeom>
              <a:avLst/>
              <a:gdLst>
                <a:gd name="textAreaLeft" fmla="*/ 0 w 3274920"/>
                <a:gd name="textAreaRight" fmla="*/ 327528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custGeom>
              <a:avLst/>
              <a:gdLst>
                <a:gd name="textAreaLeft" fmla="*/ -360 w 3274920"/>
                <a:gd name="textAreaRight" fmla="*/ 327492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52EF9-528F-4791-BC17-66B4E7295DC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4408560"/>
              <a:gd name="textAreaBottom" fmla="*/ 4408920 h 4408560"/>
            </a:gdLst>
            <a:ahLst/>
            <a:rect l="textAreaLeft" t="textAreaTop" r="textAreaRight" b="textAreaBottom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C51C2-0878-4DEF-B51A-72C66B2676E4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3CFB5-E406-4A3A-83B7-0B75B178463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274E1-9155-4CEA-804B-EA881AE95442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1482ac"/>
                </a:solidFill>
                <a:latin typeface="Franklin Gothic Book"/>
              </a:rPr>
              <a:t>Μαθαίνω για τα αγγεία</a:t>
            </a:r>
            <a:endParaRPr b="0" lang="en-US" sz="6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92120" y="4038480"/>
            <a:ext cx="48182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Δημιουργός/οί:  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ΣΤΟΥΚΑ ΝΕΚΤΑΡΙΑ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ΚΡΑΜΠΗ ΑΓΓΕΛΙΚΗ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335b74"/>
                </a:solidFill>
                <a:latin typeface="Franklin Gothic Book"/>
              </a:rPr>
              <a:t>ΜΠΙΖΑΣ ΜΑΡΚΟΣ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1030320" y="92880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201680" y="1247760"/>
            <a:ext cx="1811520" cy="270972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6120" y="219240"/>
            <a:ext cx="749124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70c0"/>
                </a:solidFill>
                <a:uFillTx/>
                <a:latin typeface="Franklin Gothic Book"/>
              </a:rPr>
              <a:t>Δραστηριότητες για την τάξη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Τίτλος 1"/>
          <p:cNvSpPr/>
          <p:nvPr/>
        </p:nvSpPr>
        <p:spPr>
          <a:xfrm>
            <a:off x="5521320" y="884160"/>
            <a:ext cx="40608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ΠΟΙΗΜΑ</a:t>
            </a:r>
            <a:r>
              <a:rPr b="1" lang="en-US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ff"/>
                </a:solidFill>
                <a:latin typeface="Franklin Gothic Book"/>
                <a:ea typeface="Arial"/>
              </a:rPr>
              <a:t>«Αγγειο-ποίημα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Εικόνα 2" descr=""/>
          <p:cNvPicPr/>
          <p:nvPr/>
        </p:nvPicPr>
        <p:blipFill>
          <a:blip r:embed="rId4"/>
          <a:stretch/>
        </p:blipFill>
        <p:spPr>
          <a:xfrm>
            <a:off x="868320" y="884160"/>
            <a:ext cx="3963960" cy="4813200"/>
          </a:xfrm>
          <a:prstGeom prst="rect">
            <a:avLst/>
          </a:prstGeom>
          <a:ln w="0">
            <a:noFill/>
          </a:ln>
        </p:spPr>
      </p:pic>
      <p:pic>
        <p:nvPicPr>
          <p:cNvPr id="227" name="Εικόνα 4" descr=""/>
          <p:cNvPicPr/>
          <p:nvPr/>
        </p:nvPicPr>
        <p:blipFill>
          <a:blip r:embed="rId5"/>
          <a:stretch/>
        </p:blipFill>
        <p:spPr>
          <a:xfrm>
            <a:off x="5072040" y="2766960"/>
            <a:ext cx="4089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2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0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1" name="Τίτλος 1"/>
          <p:cNvSpPr/>
          <p:nvPr/>
        </p:nvSpPr>
        <p:spPr>
          <a:xfrm>
            <a:off x="1144440" y="187200"/>
            <a:ext cx="95346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    </a:t>
            </a:r>
            <a:r>
              <a:rPr b="1" lang="el-GR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ΔΗΜΙΟΥΡΓΙΑ </a:t>
            </a:r>
            <a:r>
              <a:rPr b="1" lang="en-US" sz="4400" spc="-1" strike="noStrike">
                <a:solidFill>
                  <a:srgbClr val="335b74"/>
                </a:solidFill>
                <a:latin typeface="Franklin Gothic Book"/>
                <a:ea typeface="Arial"/>
              </a:rPr>
              <a:t> COMIC</a:t>
            </a:r>
            <a:br>
              <a:rPr sz="4400"/>
            </a:br>
            <a:r>
              <a:rPr b="1" lang="el-GR" sz="4000" spc="-1" strike="noStrike">
                <a:solidFill>
                  <a:srgbClr val="0000ff"/>
                </a:solidFill>
                <a:latin typeface="Franklin Gothic Book"/>
                <a:ea typeface="Arial"/>
              </a:rPr>
              <a:t>«Ένα αγγείο διηγείται την ιστορία το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Εικόνα 1" descr=""/>
          <p:cNvPicPr/>
          <p:nvPr/>
        </p:nvPicPr>
        <p:blipFill>
          <a:blip r:embed="rId4"/>
          <a:stretch/>
        </p:blipFill>
        <p:spPr>
          <a:xfrm>
            <a:off x="3832200" y="1386000"/>
            <a:ext cx="3013200" cy="2259000"/>
          </a:xfrm>
          <a:prstGeom prst="rect">
            <a:avLst/>
          </a:prstGeom>
          <a:ln w="0">
            <a:noFill/>
          </a:ln>
        </p:spPr>
      </p:pic>
      <p:pic>
        <p:nvPicPr>
          <p:cNvPr id="233" name="Εικόνα 3" descr=""/>
          <p:cNvPicPr/>
          <p:nvPr/>
        </p:nvPicPr>
        <p:blipFill>
          <a:blip r:embed="rId5"/>
          <a:stretch/>
        </p:blipFill>
        <p:spPr>
          <a:xfrm>
            <a:off x="1076400" y="3749760"/>
            <a:ext cx="79344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5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3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7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38" name="Τίτλος 1"/>
          <p:cNvSpPr/>
          <p:nvPr/>
        </p:nvSpPr>
        <p:spPr>
          <a:xfrm>
            <a:off x="1136520" y="216000"/>
            <a:ext cx="10267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e5772"/>
                </a:solidFill>
                <a:latin typeface="Franklin Gothic Book"/>
                <a:ea typeface="Arial"/>
              </a:rPr>
              <a:t>ΚΑΤΑΣΚΕΥΗ ΑΓΓΕΙΟΥ ΜΕ ΠΗΛ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Εικόνα 2" descr=""/>
          <p:cNvPicPr/>
          <p:nvPr/>
        </p:nvPicPr>
        <p:blipFill>
          <a:blip r:embed="rId4"/>
          <a:stretch/>
        </p:blipFill>
        <p:spPr>
          <a:xfrm>
            <a:off x="749160" y="849240"/>
            <a:ext cx="4094280" cy="2710080"/>
          </a:xfrm>
          <a:prstGeom prst="rect">
            <a:avLst/>
          </a:prstGeom>
          <a:ln w="0">
            <a:noFill/>
          </a:ln>
        </p:spPr>
      </p:pic>
      <p:pic>
        <p:nvPicPr>
          <p:cNvPr id="240" name="Εικόνα 3" descr=""/>
          <p:cNvPicPr/>
          <p:nvPr/>
        </p:nvPicPr>
        <p:blipFill>
          <a:blip r:embed="rId5"/>
          <a:stretch/>
        </p:blipFill>
        <p:spPr>
          <a:xfrm>
            <a:off x="749160" y="3676680"/>
            <a:ext cx="4094280" cy="29336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6" descr=""/>
          <p:cNvPicPr/>
          <p:nvPr/>
        </p:nvPicPr>
        <p:blipFill>
          <a:blip r:embed="rId6"/>
          <a:stretch/>
        </p:blipFill>
        <p:spPr>
          <a:xfrm>
            <a:off x="4924440" y="849240"/>
            <a:ext cx="4259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914400" y="212760"/>
            <a:ext cx="960120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3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5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6" name="Ορθογώνιο 1"/>
          <p:cNvSpPr/>
          <p:nvPr/>
        </p:nvSpPr>
        <p:spPr>
          <a:xfrm>
            <a:off x="990720" y="65160"/>
            <a:ext cx="7429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6000" spc="-1" strike="noStrike">
                <a:solidFill>
                  <a:srgbClr val="0e5772"/>
                </a:solidFill>
                <a:latin typeface="Franklin Gothic Book"/>
              </a:rPr>
              <a:t>ΕΡΩΤΗΜΑΤΟΛΟΓΙ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e5772"/>
                </a:solidFill>
                <a:latin typeface="Franklin Gothic Book"/>
              </a:rPr>
              <a:t>(</a:t>
            </a:r>
            <a:r>
              <a:rPr b="1" lang="en-US" sz="2800" spc="-1" strike="noStrike">
                <a:solidFill>
                  <a:srgbClr val="0e5772"/>
                </a:solidFill>
                <a:latin typeface="Franklin Gothic Book"/>
              </a:rPr>
              <a:t>google form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Εικόνα 3" descr=""/>
          <p:cNvPicPr/>
          <p:nvPr/>
        </p:nvPicPr>
        <p:blipFill>
          <a:blip r:embed="rId4"/>
          <a:stretch/>
        </p:blipFill>
        <p:spPr>
          <a:xfrm>
            <a:off x="5369040" y="939960"/>
            <a:ext cx="4344840" cy="323208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4" descr=""/>
          <p:cNvPicPr/>
          <p:nvPr/>
        </p:nvPicPr>
        <p:blipFill>
          <a:blip r:embed="rId5"/>
          <a:stretch/>
        </p:blipFill>
        <p:spPr>
          <a:xfrm>
            <a:off x="754200" y="3308400"/>
            <a:ext cx="45385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69840" y="2160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e5772"/>
                </a:solidFill>
                <a:latin typeface="Franklin Gothic Book"/>
              </a:rPr>
              <a:t>Εργαστήριο αγγειοπλαστικής σήμερα</a:t>
            </a:r>
            <a:br>
              <a:rPr sz="4400"/>
            </a:b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0" name="Θέση περιεχομένου 1" descr=""/>
          <p:cNvPicPr/>
          <p:nvPr/>
        </p:nvPicPr>
        <p:blipFill>
          <a:blip r:embed="rId1"/>
          <a:stretch/>
        </p:blipFill>
        <p:spPr>
          <a:xfrm>
            <a:off x="1260360" y="1251000"/>
            <a:ext cx="7902720" cy="435600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Ορθογώνιο 2"/>
          <p:cNvSpPr/>
          <p:nvPr/>
        </p:nvSpPr>
        <p:spPr>
          <a:xfrm>
            <a:off x="1894680" y="578952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ίντεο απ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0160" y="0"/>
            <a:ext cx="930456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e5772"/>
                </a:solidFill>
                <a:latin typeface="Franklin Gothic Book"/>
              </a:rPr>
              <a:t>Οι μορφές των αγγείων αποκτούν ζωή»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6" name="Θέση περιεχομένου 1" descr=""/>
          <p:cNvPicPr/>
          <p:nvPr/>
        </p:nvPicPr>
        <p:blipFill>
          <a:blip r:embed="rId1"/>
          <a:stretch/>
        </p:blipFill>
        <p:spPr>
          <a:xfrm>
            <a:off x="2935440" y="727200"/>
            <a:ext cx="5151240" cy="557820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3" descr=""/>
          <p:cNvPicPr/>
          <p:nvPr/>
        </p:nvPicPr>
        <p:blipFill>
          <a:blip r:embed="rId2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59" name="Εικόνα 5" descr=""/>
          <p:cNvPicPr/>
          <p:nvPr/>
        </p:nvPicPr>
        <p:blipFill>
          <a:blip r:embed="rId4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  <p:sp>
        <p:nvSpPr>
          <p:cNvPr id="260" name="Ορθογώνιο 2"/>
          <p:cNvSpPr/>
          <p:nvPr/>
        </p:nvSpPr>
        <p:spPr>
          <a:xfrm>
            <a:off x="2935440" y="6305400"/>
            <a:ext cx="58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ίντεο απ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SOFIA</cp:lastModifiedBy>
  <dcterms:modified xsi:type="dcterms:W3CDTF">2023-11-29T18:51:51Z</dcterms:modified>
  <cp:revision>134</cp:revision>
  <dc:subject/>
  <dc:title>Παρουσίαση του PowerPoint</dc:title>
</cp:coreProperties>
</file>