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691-7A67-47FD-ACF4-9C4E2E81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F8B-6718-4ADC-A9D0-50DCDDFA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BBE1-0C92-48EA-B86F-C21A0C2F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822-9F72-4A0D-930C-E5727C8F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706-8940-4C48-8D48-476162E6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7769-9176-4825-9132-9CC338E0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3C4-7A4F-43B9-BE99-AFC554E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D60-728A-4C6F-891B-3D6A532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48D5-0622-4F1A-A2B1-9BE4474D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22B9-B4E3-4375-BE07-5B6310AC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F683-7417-4472-B7EF-3FE64AD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388-DA9F-477A-B8D0-CE03272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08D8-AD20-46E8-B3D5-B1EA468A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00A1-5C72-41B0-8D19-390B307C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98E7-4449-4512-B2AA-BE29A3EA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1BDC-3BDF-451E-A098-9B211005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B295-D5F2-4550-AA82-92517F2F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59BE-5CF1-4AC6-B9B7-3887DC6D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E2928-9937-486E-8A04-D7111D25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84CE-9CAD-4090-AC2A-987CD72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1BCC-4B84-4C22-8B31-EEFC76CE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F0D0-7CD6-4ED1-BACC-DCCC6982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0F0-A10C-4EEB-8A92-A266C7AE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768C2-D83A-40FB-849D-7432B740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DFFE-5E75-458F-A2E2-581F1D5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FD2CB-3C39-4F85-BA6E-C943B59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D7D7E-D3EE-4048-9552-E51A3485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23B5-5CA9-4D4E-B574-E88B72E1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1F11-CEB7-43D5-AC2C-69433A15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F09A-3ECA-4D12-8F72-67FCBC1A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77613-63CF-4000-BB6F-927675E2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4D76-04A5-4EBC-9481-7965766D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1C807-914E-4FEA-AB88-CEA55D81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58A-565A-4235-A25A-C6073A60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59341-44E5-4335-9C86-3543BBA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5F80-245D-49B9-815A-AF85C903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1CA1F-3C87-4C68-891E-4CD612F3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B3E1-C8C5-4184-A086-19F9D58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A21B1-431F-46ED-9F38-51C43389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D81E3-46FC-4E48-AA56-688045A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CAB85-8C26-4797-89DA-6A95932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06DD-F919-419A-B25C-6CABBE28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80B84-3D0D-4F3B-85D0-1AFD0C47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04EF-9DE1-4425-B125-548D03E02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F08-73A8-4B99-9FFF-4AA570BF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8B29F-8998-42CE-A8B9-5519E8C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92437-28C0-4736-94D3-D8B1B3D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58DF2-2E6D-4C71-8FCD-82522281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B103-2C67-41D9-B29E-191A1579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16DE-764A-4F01-BBDF-1824FECF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F7C8B-8B08-4239-A415-5B6D913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F8B84-6943-423A-ACE0-38D5C06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DCE3-52FB-4294-881F-D27135AA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8BCFD-E950-40D2-A5F9-AB1E971C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85D64-37D7-4803-B94D-CA970FD0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BEB3-BB20-4E23-97A6-7AB9DA25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80E6-26D1-40EE-BBE4-5E6E066C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518-4715-4461-8C0E-E5E1CF2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C5E6-669B-41B8-922F-5E543611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5CF-0AA0-4DD6-8A24-0E79CEB6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40F5B-8ECD-4B8B-BD0A-C7F0D5FEC830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920E8-0C9A-42BA-978A-81C942576CE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CC40E-8AD2-487C-8F57-E7184D35CCAF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3EEDD7-2723-4A66-B0DA-21AE959C6F0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5645B-D878-4350-92BE-0141B4F910E3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s://meteo.gr/meteoedu/forecast.cf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2360" y="273852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ΧΕΙ Ο ΚΑΙΡΟΣ ΓΥΡΙΣΜΑΤΑ…ΑΛΛΑ Ο ΑΝΘΡΩΠΟΣ ΕΧΕΙ ΜΗΧΑΝΗΜΑΤΑ!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4146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ιουργοί: Στεργιανή Γεροδήμου, Ελένη Λαυδαριά,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ΟΤΙΚΟ ΣΧΟΛΕΙΟ ΑΝΕΖΑΣ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19040" y="579600"/>
            <a:ext cx="7629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wiki.meteo.gr/index.php?title=%CE%9A%CE%B1%CE%BB%CF%8E%CF%82_%CE%AE%CE%BB%CE%B8%CE%B1%CF%84%CE%B5_%CF%83%CF%84%CE%B7_Meteopedia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6 - Θέση περιεχομένου" descr="Meteopedia_Logo_800.jpg"/>
          <p:cNvPicPr/>
          <p:nvPr/>
        </p:nvPicPr>
        <p:blipFill>
          <a:blip r:embed="rId1"/>
          <a:stretch/>
        </p:blipFill>
        <p:spPr>
          <a:xfrm>
            <a:off x="1123920" y="1789200"/>
            <a:ext cx="7257960" cy="397188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3" descr=""/>
          <p:cNvPicPr/>
          <p:nvPr/>
        </p:nvPicPr>
        <p:blipFill>
          <a:blip r:embed="rId2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3" name="Εικόνα 5" descr=""/>
          <p:cNvPicPr/>
          <p:nvPr/>
        </p:nvPicPr>
        <p:blipFill>
          <a:blip r:embed="rId4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53720" y="587160"/>
            <a:ext cx="7061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ο δημοτικό συμβούλιο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5" name="6 - Θέση περιεχομένου" descr="arta-dimotiko-pkjgtiqnm0773zo309e4i8uihg9l9jyl98h3g0aw1k.jpg"/>
          <p:cNvPicPr/>
          <p:nvPr/>
        </p:nvPicPr>
        <p:blipFill>
          <a:blip r:embed="rId1"/>
          <a:stretch/>
        </p:blipFill>
        <p:spPr>
          <a:xfrm>
            <a:off x="2298600" y="1881360"/>
            <a:ext cx="5983560" cy="35654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8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1160" y="663480"/>
            <a:ext cx="8124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λημμύρες στην Άρτα Φεβρουάριος 2015</a:t>
            </a:r>
            <a:br>
              <a:rPr sz="2000"/>
            </a:b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Άποψη του κάμπου της Άρτας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dell\Desktop\plymhra-arta-01-02-2015-074.jpg"/>
          <p:cNvPicPr/>
          <p:nvPr/>
        </p:nvPicPr>
        <p:blipFill>
          <a:blip r:embed="rId4"/>
          <a:stretch/>
        </p:blipFill>
        <p:spPr>
          <a:xfrm>
            <a:off x="1743120" y="1854360"/>
            <a:ext cx="6734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0" name="6 - Εικόνα" descr="502.jpg"/>
          <p:cNvPicPr/>
          <p:nvPr/>
        </p:nvPicPr>
        <p:blipFill>
          <a:blip r:embed="rId4"/>
          <a:stretch/>
        </p:blipFill>
        <p:spPr>
          <a:xfrm>
            <a:off x="1254240" y="1714680"/>
            <a:ext cx="8020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280" y="812880"/>
            <a:ext cx="9277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ΑΚΡΑΙΑ ΚΑΙΡΙΚΑ ΦΑΙΝΟΜΕΝ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9640" y="2063880"/>
            <a:ext cx="8359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δεοθύελλα: Ποια είναι τα ακραία καιρικά φαινόμενα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ς ευθύνεται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ες οι συνέπειες για τον άνθρωπο και το περιβάλλον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ι είναι οι τρόποι αντιμετώπισης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πορούμε να βοηθήσουμε; Μπορούμε να προστατευτούμε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70240" y="836640"/>
            <a:ext cx="102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ι είναι ο ανεμομείκτης;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7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40" name="6 - Ορθογώνιο"/>
          <p:cNvSpPr/>
          <p:nvPr/>
        </p:nvSpPr>
        <p:spPr>
          <a:xfrm>
            <a:off x="954000" y="1668600"/>
            <a:ext cx="8582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 ανεμομείκτης, το πιο διαδεδομένο αλλά και οικονομικά συμφέρον σύστημα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ντιπαγετικής προστασίας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ων καλλιεργειών αποτελείται από διάφορα εξαρτήματα καθένα από τα οποία κατασκευάζεται και ελέγχεται προσεκτικά πριν την τελική του συναρμολόγησ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ανεμομείκτες μπήκαν σε ευρεία χρή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ις Η.Π.Α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., στα πάρκα εσπεριδοειδών στη δεκαετία του 1940 και του 1950 και από τότε έχουν γίνει το βασικό στοιχείο στην προστασία από τον παγετ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ε τη χρήση του ανεμομείκτη επιτυγχάνοντα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μετακίνηση του βαρέος κρύου αέρα για την αποτροπή της στρωματοποίησης και την καθυστέρηση του σχηματισμού παγετο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ντικατάστα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ου πιο κρύου αέρα από το θερμότερο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έρα του στρώματος αναστροφής στο επίπεδο των δένδρω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παραγωγή θερμότητας από την τριβή, όταν ο παρεχόμενος αέρας κινεί το στρώμα αέρα από το φύλλωμα για να αντικαταστήσει τον πιο κρύο αέρα του περιβάλλοντο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5" name="5 - Ορθογώνιο"/>
          <p:cNvSpPr/>
          <p:nvPr/>
        </p:nvSpPr>
        <p:spPr>
          <a:xfrm>
            <a:off x="1214280" y="719280"/>
            <a:ext cx="820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οφέλη από τη χρήση του ανεμομείκτη είν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ποτελεσματική προστασία του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φυτικού κεφαλαί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παράταση και κλιμάκωση τη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γκομιδής σε περιόδου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εξυπηρετούν την ομαλότερη διακίνηση της παραγωγής στην αγορ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μετάθεση του χρόνου εκτέλεσης ορισμένων καλλιεργητικών εργασιώ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λλές εκατοντάδε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νεμομεικτών έχουν εγκατασταθεί στην Ελλάδα μέχρι τώρα και ιδιαίτερα στους νομούς Αργολίδας, Άρτας, Ηλείας, Θεσπρωτίας και Λακων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ι καλλιεργητές διαπίστωσαν ότι ο καλύτερος τρόπος προστασίας της συγκομιδής τους, είναι η εγκατάσταση ανεμομείκτ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πηγή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koliatsis.gr/wind-machine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ράγμα Πουρναρίου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7" name="3 - Θέση περιεχομένου" descr="ydro_pournari3.jpg"/>
          <p:cNvPicPr/>
          <p:nvPr/>
        </p:nvPicPr>
        <p:blipFill>
          <a:blip r:embed="rId1"/>
          <a:stretch/>
        </p:blipFill>
        <p:spPr>
          <a:xfrm>
            <a:off x="1854360" y="1763640"/>
            <a:ext cx="81914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ΟΛΙΤΙΚΗ ΠΡΟΣΤΑΣΙ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80800" y="1751040"/>
            <a:ext cx="8761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αριθμός 112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53" name="6 - Εικόνα" descr="112_mikro7_el_gr-400x314 - Αντιγραφή.jpg"/>
          <p:cNvPicPr/>
          <p:nvPr/>
        </p:nvPicPr>
        <p:blipFill>
          <a:blip r:embed="rId4"/>
          <a:stretch/>
        </p:blipFill>
        <p:spPr>
          <a:xfrm>
            <a:off x="2690640" y="2521080"/>
            <a:ext cx="5119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b74"/>
                </a:solidFill>
                <a:latin typeface="Franklin Gothic Book"/>
              </a:rPr>
              <a:t>https://meteo.gr/meteoedu/</a:t>
            </a:r>
            <a:br>
              <a:rPr sz="2800"/>
            </a:br>
            <a:r>
              <a:rPr b="0" lang="el-GR" sz="2800" spc="-1" strike="noStrike">
                <a:solidFill>
                  <a:srgbClr val="335b74"/>
                </a:solidFill>
                <a:latin typeface="Franklin Gothic Book"/>
              </a:rPr>
              <a:t>Μαθαίνω για τον καιρό και το κλίμα, από το .... σπίτ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https://meteo.gr/meteoedu/forecast.cf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6:44:18Z</dcterms:modified>
  <cp:revision>143</cp:revision>
  <dc:subject/>
  <dc:title>Παρουσίαση του PowerPoint</dc:title>
</cp:coreProperties>
</file>