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085-466F-49F5-B426-95CF905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6C5-6BCE-461A-8AEB-FE8D346E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BF6-23D9-4274-A16B-11137ECA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D64-9980-4BA9-9FDD-CC771236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D51C-ECDA-47A5-BDD5-2AE55E27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A583-8DA2-4EFF-8A82-4B7B0CCD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458E-CFA6-4E0A-AAAA-8F820E14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3FE-1B71-4BF6-B389-1430576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86BB-E922-4F20-858C-961EC7E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502C-F145-4C4E-B509-48B11F8C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6578-707A-4DD9-A590-987BADD1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0AF-0B77-4C90-B3BC-9147684C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204-A98F-4307-813F-D8502BB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129F-CA7D-4D5E-95B7-1246E3D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CB6-694E-4024-AB12-3BEE2C3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92C4-EC5D-4F6D-911E-31F9C570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9A2A-6BBB-41A5-BBE3-2661F5CE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F0F2-D1D8-4A9F-A6C5-975C2646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312E-BFFC-4938-BF71-3717BA5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C100-730F-46B8-A1D6-752291A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B879-FDC7-446C-AF20-325E6B45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B010-799C-40F5-B2F0-C391E84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CCD-1CF6-4044-BE70-0AE513C7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03C6-D176-4B80-9633-E3A57046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6C20-8206-4C24-B170-E9F57814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7999-15AB-4DD5-9918-EC3D4812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A967-3182-4867-8666-0C912B3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4610-7140-4D82-A1C0-D6B381B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9AF1-6D00-47BD-A4C7-0D80C4CB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E2FA-17C0-4E0F-AB3A-AE80A8CE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3313-09A1-43CB-8E6D-DF23699B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F971-5D1C-44E4-941E-95896D84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6CE4-240D-4EED-B7EE-39283F9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C56-C020-4D0E-B960-57A9505B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56D3-C197-4A4B-BCF8-468DEC34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7FA1-FF25-493B-B2D7-4B054933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72A4-E26B-4E78-8F7E-F4A5FB42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10B5-929C-46CC-87F1-CC99F0E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2974-5A4D-4E1E-87EE-3BFE52A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2F66-2162-49B3-BF89-CC3C7C0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2473-ED4E-48CD-9E1A-CE1DC079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E562-86D3-463F-ADD7-0EDB4AAE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52CB-19E0-45FD-9676-D586A84E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6398-8AA5-4D4E-93B0-4986B6D8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85B-3063-4112-ACCB-D14DCAA1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5C645-860C-4F48-8385-9E2769BE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2176-CF94-4D0C-B6B2-100F38CF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5BC8-A0C3-4DDE-863B-A289ECCD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A17F-1A53-4DDE-9BAF-62A4E278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3E8E-D0E7-42B5-A411-2EA5F510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277A-2E65-482C-A462-7DB8D14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8511-591A-4561-ABDA-952FCB12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FFC7-3E5E-401A-BC8C-3730BAA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F643-BB25-4EDD-9777-69C299F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9EE8-09DD-4D62-9373-E96BE3C9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E27-D376-4257-A4B9-352E436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B1D9-1746-401A-8C1A-34CC6B1A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9E2-4916-4011-9122-06B8259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B81-6F61-4D62-8989-68774A6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19D-7FFC-4FF9-8ED6-A357558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5AC9D-F30C-4BDC-92B9-35EEC537425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38E15-2F43-41A5-BA36-CA2C51F7313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B0920-1ECE-4DCB-A303-46D6594F58BC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84D49-5397-4026-B5DE-56DC5E4345E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98FCF-90AA-4E59-B11B-F4F59562714B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ΕΝΕΙΑ ΣΤΟ ΔΙΑΔΙ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Μήτσιου Αναστασία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398160"/>
            <a:ext cx="75801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Tι μπορούμε να κάνουμε αν διαπιστώσουμε ότι κάποιος φίλος μας/συμμαθητής μας έχει πέσει θύμα διαδικτυακού εκφοβισμού</a:t>
            </a: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2377800"/>
            <a:ext cx="772308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του εκφράσουμε την υποστήριξ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αναφέρουμε το περιστατικό σε κάποιον που μπορεί να βοηθήσει – έναν γονέα ή έναν δάσκαλο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Εάν δούμε προσβλητικά σχόλια στο διαδίκτυο μπορούμε να κάνουμε αμέσως αναφορά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3" name="Εικόνα 3" descr=""/>
          <p:cNvPicPr/>
          <p:nvPr/>
        </p:nvPicPr>
        <p:blipFill>
          <a:blip r:embed="rId1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5" descr=""/>
          <p:cNvPicPr/>
          <p:nvPr/>
        </p:nvPicPr>
        <p:blipFill>
          <a:blip r:embed="rId3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73440" y="663480"/>
            <a:ext cx="7491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Ψηφιακός πολίτ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14360" y="2130120"/>
            <a:ext cx="7491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Το να είσαι καλός ψηφιακός πολίτης σημαίνει να χρησιμοποιείς την τεχνολογία υπεύθυνα με ασφάλεια, σεβασμό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Θα πρέπει να είμαστε ευγενικοί με τους άλλους στο διαδίκτυο, να σκεφτόμαστε πριν κοινοποιήσουμε και να προστατεύουμε τα προσωπικά μας στοιχεί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σεβασμός της ιδιωτικής ζωής και η τήρηση των κανόνων που θέτουν οι ενήλικες είναι επίσης σημαντικός. Είναι σημαντικό να υπάρχει ισορροπία μεταξύ του χρόνου οθόνης και άλλων Δραστηριοτήτων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ς γίνουμε καλοί ψηφιακοί πολίτες και ας κάνουμε τον ψηφιακό κόσμο καλύτερο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120" y="639720"/>
            <a:ext cx="7175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Λέξεις που χαρακτηρίζουν έναν καλό ψηφιακό πολίτη: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2095560" y="2292480"/>
            <a:ext cx="504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ευγέν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σεβ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καλοσύ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ευθυν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σορροπ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οστήρι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διω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6360" y="763560"/>
            <a:ext cx="8945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1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3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131840" y="2130480"/>
            <a:ext cx="67248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ξεχνάμε ποτέ ότι στην άλλη πλευρά της ηλεκτρονικής μας συνομιλίας βρίσκεται ένας άνθρωπο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ν ιδιωτικότητα των άλλω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ν κοινοποιούμε στο διαδίκτυο φωτογραφίες κάποιου αν δεν έχουμε την έγκρισή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 γνώμη των άλλων, ακόμα κι αν δε συμφωνούμε με αυτή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ν δε συμφωνούμε με κάποιον, εκφράζουμε τη διαφωνία μας πολιτισμέ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6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22600" y="246384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4. Αποφεύγουμε τα ΚΕΦΑΛΑΙΑ γράμματα. Oι συνομιλητές μας νιώθουν πως τους υψώνουμε τη φω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5. Γράφουμε με σαφή,κατάλληλο και συνοπτικό τρόπο. Όταν επικοινωνούμε σε επίσημο ύφος, αποφεύγουμε τα greeklish, τις συντομεύσεις και τα emotic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6. Δεν κάνουμε εμφανείς αποκλεισμούς στο κοινό μας. Δε δημιουργούμε την αίσθηση στους υπόλοιπους ότι είναι αποκομμένο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150920" y="82404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66400" y="2003040"/>
            <a:ext cx="76820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Ελέγχουμε πάντα αν, όσα μοιραζόμαστε στο διαδίκτυο, είναι έγκυρα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Αναπτύσσουμε κριτική σκέψη και εμπιστευόμαστε το ένστικτο και τη λογικ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κεφτόμαστε πρι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θέσουμε ή αποδεχτούμε κάποιον φίλο. Αν δεν θέλουμε να μείνουμε σε επαφή μαζί τους, δεν τους προσθέτουμε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δημοσιεύουμε υλικό που προστατεύεται από πνευματικά δικαιώματα στο οποίο δεν είμαστε κάτοχοι των δικαιωμάτων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Όταν στέλνουμε email σε πολλούς παραλήπτες που δεν γνωρίζονται μεταξύ τους δε δημοσιοποιούμε τις ηλεκτρονικές τους διευθύνσει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6400" y="836640"/>
            <a:ext cx="876132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01400" y="4762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01760" y="1720800"/>
            <a:ext cx="5695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Γνώ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βασιμότητα σε πληροφορί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Προστασ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πό τον εκφοβισμό και τη βί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υμμετοχή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 συζητήσεις και φόρουμ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Δικαιοσύν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αναζήτησης βοήθειας εάν αισθάνεσαι πως απειλείσαι με οποιονδήποτε τρόπ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Εκπαίδευ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στην εκπαίδευση - ενημέρωση για το τι διατίθεται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Υγε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ναπαραμείνετε υγιείς σωματικά και ψυχικά ενώ αλληλεπιδράτε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8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0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520" y="596880"/>
            <a:ext cx="8575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15880" y="1720800"/>
            <a:ext cx="61372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υς άλλου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ην παρεμποδίζετε τα βασικά δικαιώματα των άλλων ή με οποιονδήποτε τρόπο συμμετέχετε σε συμπεριφορά που είναι επιβλαβής για τους άλλου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ν εαυτό σα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έπει να γνωρίζετε το ψηφιακό αποτύπωμά σας και πώς αυτό επηρεάζει τον τρόπο με τον οποίο σας αντιλαμβάνονται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3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01400" y="58896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ι μπορούμε να κάνουμε αν κάτι μας ενοχλήσει/αναστατώσει στο διαδίκτυο;</a:t>
            </a:r>
            <a:br>
              <a:rPr sz="3600"/>
            </a:b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98080" y="1720800"/>
            <a:ext cx="757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71160" indent="-37116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διακόψουμε αμέσως την επικοινωνία και να αποκλείσουμε τα μηνύματα ή το προφίλ που μας ενόχλησε/αναστάτωσε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μιλήσουμε με κάποιον που εμπιστευόμαστε, τους γονείς μας, έναν δάσκαλο ή έναν άλλο ενήλικ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Nα τραβήξουμε ένα στιγμιότυπο οθόνης και να κρατήσουμε τα στοιχεί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Να κάνουμε αναφορά στον ιστότοπο/εφαρμογή/μέσω κοινωνικής δικτύωσης/διαδικτυακό παιχνίδι αν αντιμετωπίσουμε διαδικτυακό εκφοβισμό, αγενές ή ψευδές περιεχόμενο, παρενόχληση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15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8" name="Εικόνα 3" descr=""/>
          <p:cNvPicPr/>
          <p:nvPr/>
        </p:nvPicPr>
        <p:blipFill>
          <a:blip r:embed="rId1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5" descr=""/>
          <p:cNvPicPr/>
          <p:nvPr/>
        </p:nvPicPr>
        <p:blipFill>
          <a:blip r:embed="rId3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16:44Z</dcterms:modified>
  <cp:revision>139</cp:revision>
  <dc:subject/>
  <dc:title>Παρουσίαση του PowerPoint</dc:title>
</cp:coreProperties>
</file>