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7F4-D6CD-4AA1-9007-11669FC6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B9E-3165-4B71-A7AA-144BB34F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8B0-60A9-41DE-A178-428C81B0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C29-52E8-412F-B373-8DABA60C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1333-2AC0-47E1-AD98-9554DAF3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BDB1-5B33-4DDA-A4C9-E03198FD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85C2-24D1-4701-BCE5-30CA472E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A96B-7E8D-4A1F-86A5-C3AA32BF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D41B-856B-47FF-B485-87B1C2A1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4FD0-9CA6-4783-ACAF-3A365037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FF8B-C031-456E-9147-485C5D8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0C30-5DAC-456E-82C6-C43A049F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4177-FBC5-4CDA-BAA2-863DB20D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E7F68-6E99-46CA-A047-7AD485A3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55F9-9E93-4B60-AC04-659986B8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A162-8D27-4E0B-868C-D56B6F22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8711-96D1-4CE2-985E-4391153B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6D2C-18E3-4982-9C47-C524B25D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45FB7-F6E4-40B5-91A7-66415734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91444-BA4B-4D09-A699-684FC760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F140-DFB5-4E3F-8DAF-6FBCA164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5326-E485-4536-8AE6-2AC8AC10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C4F-CE59-41D7-A94E-30C06208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24F1-8382-490D-BE65-6D794BF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D3A4-C484-429D-87A7-8878DB04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5066-2409-4FE2-9E29-7F5C3ED9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3FF8E-28F9-4912-A543-EC80A03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615D-8089-489D-B77A-A9F54C0F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0A60-8365-49D3-9D15-F08CF49E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E795-3B05-4CA8-828E-598EC83F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99711-F6A0-4D9E-88EF-A2D335AF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4DAB-0625-43F5-A576-C2CC6475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F04D1-169C-4762-8046-D6D0CF1D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F60-A860-47B8-BCD4-F96770A0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8B971-FC0E-4D46-AD2E-4983943A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DE427-F8F5-47DC-AC5A-F7FD8C38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4F6A-44EB-4548-BC26-53C155B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1E3EC-8B5E-4EB8-B9EC-D4CBF8A5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C3CD6-8693-4AEA-9D02-1781FC65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288C-4AED-4061-A67F-F0CCA8FD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5B6E1-AC6B-45C4-8E8C-7CE59D4B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27328-FF20-44A0-B33D-5146BA51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3E7BA-DBD8-411C-9C48-C1EF1989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6F9E0-2E12-48A1-A9CC-FE306B16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99C-C124-4607-B941-3AE0009A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FF1DC-06D0-41BA-8464-B415F89B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6449-B2CA-4966-8680-40BF7C57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39B37-0EA0-488C-815D-E1C56DEE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84EE3-DEEB-44E4-99D7-922D91FC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EB363-CB7D-4F3B-9B85-672075AE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7BF9A-3E22-4C2E-A873-5352274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9AAAA-3CC9-467D-BAAB-44DB842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0E65F-4154-4609-94C0-DE126EE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4DA52-649F-4012-99EC-ED3B22B9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B18E-AB0D-441B-ACC6-BA4831A7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6DD-D571-4545-A5A2-243FF1FC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05E9-3A53-427A-8B45-A2CDA079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B4C-4423-42D7-BCCD-07AD9B0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6BE-A1F1-4F4C-8226-B19A9D91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F8D-E209-4A2A-AFC6-4ACDF8C6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7C614-5C08-4508-B496-D6774FC95F8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66070-DDB2-4DF8-BDA1-725F41C232DA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B1115-E091-410D-A986-D6258502BAD8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BAED1-9815-4496-9847-155153542924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77C97-A52C-4B27-BD1F-2931695F44C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62120" y="2071440"/>
            <a:ext cx="8267760" cy="119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Ο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ΚΟΣΜΟΣ ΤΩΝ ΚΛΑΣΜΑΤΩΝ 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ημιουργός: Πελαγία Μπέλλου 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Times New Roman"/>
                <a:ea typeface="Times New Roman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2920" y="371160"/>
            <a:ext cx="495756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λάσματα </a:t>
            </a: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               </a:t>
            </a:r>
            <a:br>
              <a:rPr sz="4000"/>
            </a:br>
            <a:br>
              <a:rPr sz="4000"/>
            </a:b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2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Fraction clipart 20 free Cliparts | Download images on Clipground 2023"/>
          <p:cNvPicPr/>
          <p:nvPr/>
        </p:nvPicPr>
        <p:blipFill>
          <a:blip r:embed="rId4"/>
          <a:stretch/>
        </p:blipFill>
        <p:spPr>
          <a:xfrm>
            <a:off x="6699240" y="534960"/>
            <a:ext cx="2860560" cy="329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Fractions clipart 20 free Cliparts | Download images on Clipground 2023"/>
          <p:cNvPicPr/>
          <p:nvPr/>
        </p:nvPicPr>
        <p:blipFill>
          <a:blip r:embed="rId5"/>
          <a:stretch/>
        </p:blipFill>
        <p:spPr>
          <a:xfrm>
            <a:off x="981000" y="3494160"/>
            <a:ext cx="2724120" cy="3111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404 - File or directory not found. | Math, Math made easy, Teacher websites"/>
          <p:cNvPicPr/>
          <p:nvPr/>
        </p:nvPicPr>
        <p:blipFill>
          <a:blip r:embed="rId6"/>
          <a:stretch/>
        </p:blipFill>
        <p:spPr>
          <a:xfrm>
            <a:off x="4110120" y="1449360"/>
            <a:ext cx="21844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17720" y="232920"/>
            <a:ext cx="3146400" cy="636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Η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ώ</a:t>
            </a:r>
            <a:r>
              <a:rPr b="1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α και τα κλασματα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ι σημα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ί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νουν οι εκφρασει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ς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Θα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έ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ρθω σε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ν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ο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 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ρ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ί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α τ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έ</a:t>
            </a:r>
            <a:r>
              <a:rPr b="1" i="1" lang="en-US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αρτα 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χολ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ά</a:t>
            </a:r>
            <a:r>
              <a:rPr b="0" lang="en-US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Με ποιες εικόνες ταιριάζουν</a:t>
            </a: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8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9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0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ΜΑΘΗΜΑΤΙΚΑ Ε – ΠΑΙΖΩ ΚΑΙ ΜΑΘΑΙΝΩ ΤΑ ΚΛΑΣΜΑΤΑ | Αφιερωμένο στα μαθητούδια!"/>
          <p:cNvPicPr/>
          <p:nvPr/>
        </p:nvPicPr>
        <p:blipFill>
          <a:blip r:embed="rId4"/>
          <a:srcRect l="52764" t="36236" r="2327" b="-1942"/>
          <a:stretch/>
        </p:blipFill>
        <p:spPr>
          <a:xfrm>
            <a:off x="4392720" y="1041480"/>
            <a:ext cx="47955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90520" y="579600"/>
            <a:ext cx="62420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Συνταγές  και Κλάσματα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3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5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2"/>
          <p:cNvSpPr/>
          <p:nvPr/>
        </p:nvSpPr>
        <p:spPr>
          <a:xfrm>
            <a:off x="1852560" y="1308240"/>
            <a:ext cx="29876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ΕΙ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ΥΛΙΚ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 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ΒΟΥΤΥΡ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¼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ΖΑΧΑΡ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½ 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Υ ΚΙΛΟΥ </a:t>
            </a: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ΑΛΕΥΡ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3 ΑΒΓ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1 ΒΑΝΙΛΙ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5211720" y="2550960"/>
            <a:ext cx="2986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ΠΑΡΑΤΗΡΕΙΣ ΣΤΙΣ ΥΠΟΓΡΑΜΜΙΜΕΝΕΣ ΦΡΑΣΕΙ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5b74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Η ΣΗΜΑΣΙΑ ΤΟΥ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187200"/>
            <a:ext cx="3502080" cy="65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ο κλάσμα είναι μια διαίρεση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ανερώνει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</a:t>
            </a:r>
            <a:r>
              <a:rPr b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μέρος </a:t>
            </a: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ενός συνόλου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Για παράδειγμα, το κλάσμα </a:t>
            </a:r>
            <a:r>
              <a:rPr b="1" lang="el-GR" sz="28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¼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μου δείχνει ότι πήρα </a:t>
            </a:r>
            <a:r>
              <a:rPr b="1" i="1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το 1 από τα 4 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κομμάτια της πίτσας!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φανερώνουν τα κλασματα στις εικόνες; </a:t>
            </a:r>
            <a:br>
              <a:rPr sz="2400"/>
            </a:b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Διαδραστική άσκηση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Τι μέρος της πίτσας έφαγα; - Βρες το ταίρι (wordwall.net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ola compañeros y amigos que nos visitan compartimos este fabuloso ..."/>
          <p:cNvPicPr/>
          <p:nvPr/>
        </p:nvPicPr>
        <p:blipFill>
          <a:blip r:embed="rId4"/>
          <a:srcRect l="0" t="4899" r="0" b="4163"/>
          <a:stretch/>
        </p:blipFill>
        <p:spPr>
          <a:xfrm>
            <a:off x="4402080" y="368280"/>
            <a:ext cx="49086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32920"/>
            <a:ext cx="8761320" cy="13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ΟΙΑ ΕΙΝΑΙ ΤΑ ΚΛΑΣΜΑΤΑ ΣΤΗΝ ΕΙΚΟΝΑ;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5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Pin de Lorena Diaz en de todo un poco. | Fracciones para primaria ..."/>
          <p:cNvPicPr/>
          <p:nvPr/>
        </p:nvPicPr>
        <p:blipFill>
          <a:blip r:embed="rId4"/>
          <a:stretch/>
        </p:blipFill>
        <p:spPr>
          <a:xfrm>
            <a:off x="1217520" y="1552680"/>
            <a:ext cx="3853080" cy="4803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5"/>
          <a:stretch/>
        </p:blipFill>
        <p:spPr>
          <a:xfrm>
            <a:off x="1371600" y="2286000"/>
            <a:ext cx="9601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26800" y="70344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ΤΙΑΧΝΩ ΚΛΑΣΜΑΤΑ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69760" y="2041560"/>
            <a:ext cx="87613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335b74"/>
                </a:solidFill>
                <a:uFillTx/>
                <a:latin typeface="Times New Roman"/>
                <a:ea typeface="Times New Roman"/>
              </a:rPr>
              <a:t>Διαδραστικές ασκήσεις ‪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εισαγωγή στα κλάσματ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‪</a:t>
            </a:r>
            <a:r>
              <a:rPr b="0" lang="el-GR" sz="24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φτιάξε ένα κλάσμα‬ (colorado.edu)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2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4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01:38Z</dcterms:modified>
  <cp:revision>138</cp:revision>
  <dc:subject/>
  <dc:title>Παρουσίαση του PowerPoint</dc:title>
</cp:coreProperties>
</file>