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move the slide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355E76-C6AB-4E7F-BB07-7DE24B748805}" type="slidenum"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Αντί της παρουσίασης οι μαθητές θα μπορούσαν να υλοποιήσουν τις δραστηριότητες του παρακάτω συνδέσμο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200" spc="-1" strike="noStrike" u="sng">
                <a:solidFill>
                  <a:srgbClr val="000000"/>
                </a:solidFill>
                <a:uFillTx/>
                <a:latin typeface="Calibri"/>
              </a:rPr>
              <a:t>https://learningapps.org/watch?v=pjt5wvay32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57F7DB-95D2-4778-8DBC-5BBB0B40C65A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Ενδεικτικές Απαντήσει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Ένα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go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Ρομπότ με κινητήρα και αισθητήρα απόσταση από το πακέτο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Do 2.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Εδώ η απάντηση μπορεί να ποικίλει, από ρομπότ που έχουν δει ή και από αυτά που φαντάζοντα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Σε ρομπότ με τον άμεσο έλεγχο του ανθρώπου (τηλεκατευθυνόμενα ρομπότ) και σε αυτόνομα ρομπότ με προγραμματισμένο έλεγχο από υπολογιστή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62C7CB-A1AE-4608-96DF-C039DE06103F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Ενδεικτικές Απαντήσει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Σωστή απάντηση η «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Του κινητήρα και του αισθητήρα απόσταση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F74B27-C40B-4B42-A469-79F9BA15B6A8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Ενδεικτικές Απαντήσει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Προσθήκη Νέου Αντικειμένου από «Επιλέξτε ένα αντικείμενο», (στην αναζήτηση πάνω αριστερά) πληκτρολογείτ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robot”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 και επιλέγετε το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ro Robot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. Με την εισαγωγή του αντικειμένου, από την καρτέλα «Ενδυμασίες» επιλέγετε την τρίτη ενδυμασία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Retro Robot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επικρατέστερη ιδέα καταγράφετε στο πίνακ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Μία απάντηση «Αποφεύγοντας τα εμπόδια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319E63-161D-4AC9-9F92-0899FAE60380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Οι ρόλοι των ομάδων είναι ενδεικτικοί και ανάλογα με τους μαθητές οι ρόλοι μπορούν να διαφοροποιούνται και να δίνεται έμφαση στις αδυναμίες των παιδιών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Ο </a:t>
            </a:r>
            <a:r>
              <a:rPr b="0" lang="el-GR" sz="1200" spc="-1" strike="noStrike" u="sng">
                <a:solidFill>
                  <a:srgbClr val="000000"/>
                </a:solidFill>
                <a:uFillTx/>
                <a:latin typeface="Calibri"/>
              </a:rPr>
              <a:t>Αρχηγός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: Επιβλέπει την ομάδα και επεμβαίνει – βοηθάει όπου χρειάζεται. Ο </a:t>
            </a:r>
            <a:r>
              <a:rPr b="0" lang="el-GR" sz="1200" spc="-1" strike="noStrike" u="sng">
                <a:solidFill>
                  <a:srgbClr val="000000"/>
                </a:solidFill>
                <a:uFillTx/>
                <a:latin typeface="Calibri"/>
              </a:rPr>
              <a:t>υπεύθυνος του υπολογιστή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: ελέγχει τις διαφάνειες με τα βήματα της κατασκευή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Ο </a:t>
            </a:r>
            <a:r>
              <a:rPr b="0" lang="el-GR" sz="1200" spc="-1" strike="noStrike" u="sng">
                <a:solidFill>
                  <a:srgbClr val="000000"/>
                </a:solidFill>
                <a:uFillTx/>
                <a:latin typeface="Calibri"/>
              </a:rPr>
              <a:t>Υπεύθυνος επιλογής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: επιλέγει τα σωστά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go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«τουβλάκια». Ο </a:t>
            </a:r>
            <a:r>
              <a:rPr b="0" lang="el-GR" sz="1200" spc="-1" strike="noStrike" u="sng">
                <a:solidFill>
                  <a:srgbClr val="000000"/>
                </a:solidFill>
                <a:uFillTx/>
                <a:latin typeface="Calibri"/>
              </a:rPr>
              <a:t>Κατασκευαστής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: συναρμολογεί τα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go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«τουβλάκια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Περιγραφή τρόπου λειτουργίας όπως παρουσιάστηκε στο αρχικό βίντε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D89C1D-4EB7-43A5-8C34-6A6F6E5C0791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Ενδεικτικές Απαντήσει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Το σωστό αποτέλεσμα βρίσκεται </a:t>
            </a:r>
            <a:r>
              <a:rPr b="0" lang="el-G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200" spc="-1" strike="noStrike">
                <a:solidFill>
                  <a:srgbClr val="ff0000"/>
                </a:solidFill>
                <a:latin typeface="Calibri"/>
              </a:rPr>
              <a:t>https://scratch.mit.edu/projects/931948982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Το ρομπότ κάθε φορά που εντοπίζει εμπόδιο στον αισθητήρα απόστασης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αντιστρέφει την κίνηση του μοτέρ, δηλαδή κάνει πίσω με ταυτόχρονη στροφή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66D18D-88FC-4681-963B-FBF9DED3B48F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Ενδεικτικές Απαντήσει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Το σωστό αποτέλεσμα βρίσκεται </a:t>
            </a:r>
            <a:r>
              <a:rPr b="0" lang="el-G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200" spc="-1" strike="noStrike">
                <a:solidFill>
                  <a:srgbClr val="ff0000"/>
                </a:solidFill>
                <a:latin typeface="Calibri"/>
              </a:rPr>
              <a:t>https://scratch.mit.edu/projects/931948982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Το ρομπότ κάθε φορά που εντοπίζει εμπόδιο στον αισθητήρα απόστασης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αντιστρέφει την κίνηση του μοτέρ, δηλαδή κάνει πίσω με ταυτόχρονη στροφή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9B9BA1-1ED7-4EF3-B2D8-428CF858BB23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BA06-28EA-453D-A3DD-510A51123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A01E-B1CD-48FE-B15E-5B0543F67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953C-36E1-4357-9906-97634547C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CE79-D059-49C1-9113-EB3B88024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0F129-143E-493E-B5DE-E7FD787B5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4419B-EC27-49D5-A445-178FBC03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38CEC-C6B2-4454-9BFA-28AC10DD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45109-605B-4D67-8784-EFB76529D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7C431-FE8B-481F-A66A-C82E8C291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1F8C9-D28A-4E44-8C25-DB9230033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57006-8D39-4B69-900E-B84083AE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49BD-2714-4E86-B97B-7A64958C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2791E-D964-4D42-B5F9-BF5B0031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4F03E-6C62-4853-8852-7292DAE6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1AE64-3837-4061-AFAA-8552BF1A8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C6914-5510-45C3-827D-53E95F1EB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F3BCC-3F27-4548-8B75-32132778A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1713E-E352-4EEC-90E2-02EA86DD0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01439-0E89-45C1-999B-9B9FE07A0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81BEE-03EB-4A97-83FF-6AE6FEFF8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ECB74-A921-473D-84BA-9D608E47C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A9747-8AA9-4248-9D82-FB71AFCE6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598A-BF21-4FF9-A362-FECD5F0DD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F25E5-FDC3-450B-BC6F-974DF634A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3BF88-99EC-4CC9-B96D-563A7250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07ED7-7437-4D4B-BC70-97B98118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39F63-4F72-438B-BEFE-EB26CCC7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6EBE3-B5A1-4D3C-80DD-66C13A0E5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10639-F1EE-4543-8CE7-411F264A7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A0E89-2D04-4B61-BB2F-5F1E1E421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0D6D9-F24B-4301-AAA3-987E719C0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D03C9-6D83-4E8A-B362-43A96B72A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12995-29ED-464D-A2B3-E4BEA6D85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CFFC-D283-4512-BD99-ED9017C11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B74D6-47A3-43D3-9553-7BBE60050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6E908-5C99-4604-BE34-71BE22965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534EF-2812-48ED-AF4B-A80AD0CDC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A42BC-8DC1-4E48-AF85-B6B1FF8B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68D1C-35E4-449C-B750-26188DB1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F19CF-FC96-43F1-B517-546398A5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47E73-785B-422D-A0DB-2F2C6ABCF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1D06D-4D1D-4F4C-855B-D22F16393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1A17D-F517-40F5-8396-101592790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C3E8C-DCD8-44E5-9F5C-5D8A1CE6A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1310-FDD4-4843-9A4B-877E71223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5DBA8-3EFD-4080-80C9-E4B3E64DB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43675-2DD7-4DE7-96A5-23B1E754B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D82F7-5FC1-4C42-9371-04D33F36C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1C638-A98A-4A72-92CC-8A3F37C00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33A8B-ABB8-4A25-B39C-7950937A0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0BACBA-9C27-4AF2-946B-021617E0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11B68-799E-4DCF-96D2-3838B7C8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4FB00-E3DA-4D20-835A-565933D5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F28DD-DF29-4867-9DDA-38B8EFB4A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A1F49-D8AE-407C-841C-FDE0716A2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D1C9-94FE-4FB6-9EF5-4C490EAB6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483E0-2179-4CAC-B8C0-FAF152B73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AE27-0083-49E6-B0E6-77376556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B82A-5B57-4BC9-9087-C8C2ABD6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5FF8-7D88-45F7-BC5B-26AF6D31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472680" y="6453360"/>
            <a:ext cx="15969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DFB239-5894-4F94-B4D7-F57644D22A7D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335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6"/>
          <p:cNvGrpSpPr/>
          <p:nvPr/>
        </p:nvGrpSpPr>
        <p:grpSpPr>
          <a:xfrm>
            <a:off x="752040" y="744480"/>
            <a:ext cx="10674720" cy="5349960"/>
            <a:chOff x="752040" y="744480"/>
            <a:chExt cx="10674720" cy="5349960"/>
          </a:xfrm>
        </p:grpSpPr>
        <p:sp>
          <p:nvSpPr>
            <p:cNvPr id="43" name="Freeform 6"/>
            <p:cNvSpPr/>
            <p:nvPr/>
          </p:nvSpPr>
          <p:spPr>
            <a:xfrm>
              <a:off x="8151840" y="1685880"/>
              <a:ext cx="3274920" cy="4408560"/>
            </a:xfrm>
            <a:prstGeom prst="pie">
              <a:avLst/>
            </a:prstGeom>
            <a:solidFill>
              <a:srgbClr val="335b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6"/>
            <p:cNvSpPr/>
            <p:nvPr/>
          </p:nvSpPr>
          <p:spPr>
            <a:xfrm flipH="1" flipV="1">
              <a:off x="751320" y="744480"/>
              <a:ext cx="3274920" cy="4408560"/>
            </a:xfrm>
            <a:prstGeom prst="pie">
              <a:avLst/>
            </a:prstGeom>
            <a:solidFill>
              <a:srgbClr val="335b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52040" y="6453360"/>
            <a:ext cx="1608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983124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62B815-3F5E-418F-87A2-1F2595B4E44C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8151840" y="1685880"/>
            <a:ext cx="3274920" cy="4408560"/>
          </a:xfrm>
          <a:prstGeom prst="pie">
            <a:avLst/>
          </a:prstGeom>
          <a:solidFill>
            <a:srgbClr val="dfe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e3e5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dfe3e5"/>
              </a:solidFill>
              <a:latin typeface="Franklin Gothic 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738360" y="6453360"/>
            <a:ext cx="16221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dfe3e5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dfe3e5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983124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dfe3e5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85B921-58D0-4D94-9BF5-2D6292DE6548}" type="slidenum">
              <a:rPr b="0" lang="el-GR" sz="1200" spc="-1" strike="noStrike">
                <a:solidFill>
                  <a:srgbClr val="dfe3e5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335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2206800" y="6453360"/>
            <a:ext cx="2373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988380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01B37C-17F8-4E9A-8EC3-3F4B6D9C0207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335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2206800" y="6453360"/>
            <a:ext cx="2373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988380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0CA37A-5C51-4D54-B6E0-4EED3BE9F0CC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youtu.be/-ac6Cvu4hPs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88800" y="2151000"/>
            <a:ext cx="7913880" cy="120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35b74"/>
                </a:solidFill>
                <a:latin typeface="Franklin Gothic Book"/>
              </a:rPr>
              <a:t>ΑΠΟΦΕΥΓΟΝΤΑΣ ΤΑ ΕΜΠΟΔΙΑ </a:t>
            </a:r>
            <a:endParaRPr b="0" lang="en-US" sz="36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030320" y="4027320"/>
            <a:ext cx="9144000" cy="22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  <a:p>
            <a:pPr indent="0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  <a:p>
            <a:pPr indent="0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335b74"/>
                </a:solidFill>
                <a:latin typeface="Franklin Gothic Book"/>
              </a:rPr>
              <a:t>Δημιουργός: Βαρελάς Ανδρέας</a:t>
            </a: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23" name="Ορθογώνιο 3"/>
          <p:cNvSpPr/>
          <p:nvPr/>
        </p:nvSpPr>
        <p:spPr>
          <a:xfrm>
            <a:off x="936720" y="749160"/>
            <a:ext cx="1125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ERASMUS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2021-1-EL01-KA220-SCH-0000278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 </a:t>
            </a: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« STEAM &amp; Digital Skills : </a:t>
            </a:r>
            <a:r>
              <a:rPr b="0" lang="en-US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Searching for the new Leonardos</a:t>
            </a: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Εικόνα 4" descr=""/>
          <p:cNvPicPr/>
          <p:nvPr/>
        </p:nvPicPr>
        <p:blipFill>
          <a:blip r:embed="rId1"/>
          <a:stretch/>
        </p:blipFill>
        <p:spPr>
          <a:xfrm>
            <a:off x="10074240" y="301680"/>
            <a:ext cx="1336680" cy="1299960"/>
          </a:xfrm>
          <a:prstGeom prst="rect">
            <a:avLst/>
          </a:prstGeom>
          <a:ln w="0">
            <a:noFill/>
          </a:ln>
        </p:spPr>
      </p:pic>
      <p:pic>
        <p:nvPicPr>
          <p:cNvPr id="225" name="Εικόνα 5" descr=""/>
          <p:cNvPicPr/>
          <p:nvPr/>
        </p:nvPicPr>
        <p:blipFill>
          <a:blip r:embed="rId2"/>
          <a:stretch/>
        </p:blipFill>
        <p:spPr>
          <a:xfrm>
            <a:off x="1219320" y="1203480"/>
            <a:ext cx="1811160" cy="2709720"/>
          </a:xfrm>
          <a:prstGeom prst="rect">
            <a:avLst/>
          </a:prstGeom>
          <a:ln w="0">
            <a:noFill/>
          </a:ln>
        </p:spPr>
      </p:pic>
      <p:pic>
        <p:nvPicPr>
          <p:cNvPr id="226" name="Εικόνα 6" descr=""/>
          <p:cNvPicPr/>
          <p:nvPr/>
        </p:nvPicPr>
        <p:blipFill>
          <a:blip r:embed="rId3"/>
          <a:stretch/>
        </p:blipFill>
        <p:spPr>
          <a:xfrm>
            <a:off x="8238960" y="4302000"/>
            <a:ext cx="2752920" cy="13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638080" y="663480"/>
            <a:ext cx="852660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Φάση 1</a:t>
            </a:r>
            <a:r>
              <a:rPr b="0" lang="el-GR" sz="4400" spc="-1" strike="noStrike" baseline="30000">
                <a:solidFill>
                  <a:srgbClr val="335b74"/>
                </a:solidFill>
                <a:latin typeface="Franklin Gothic Book"/>
              </a:rPr>
              <a:t>η</a:t>
            </a: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 - </a:t>
            </a: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Παρουσίαση ρομπότ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941360" y="2333520"/>
            <a:ext cx="5348520" cy="37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Τι παρατηρείτε στην εικόνα;  </a:t>
            </a:r>
            <a:endParaRPr b="0" lang="en-US" sz="2200" spc="-1" strike="noStrike">
              <a:solidFill>
                <a:srgbClr val="335b74"/>
              </a:solidFill>
              <a:latin typeface="Franklin Gothic Book"/>
            </a:endParaRPr>
          </a:p>
          <a:p>
            <a:pPr marL="457200" indent="-45720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Ποια είδη ρομπότ γνωρίζεται; </a:t>
            </a:r>
            <a:endParaRPr b="0" lang="en-US" sz="2200" spc="-1" strike="noStrike">
              <a:solidFill>
                <a:srgbClr val="335b74"/>
              </a:solidFill>
              <a:latin typeface="Franklin Gothic Book"/>
            </a:endParaRPr>
          </a:p>
          <a:p>
            <a:pPr marL="457200" indent="-4572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Ποιες κατηγορίες ρομπότ </a:t>
            </a:r>
            <a:br>
              <a:rPr sz="2200"/>
            </a:b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γνωρίζετε;</a:t>
            </a:r>
            <a:endParaRPr b="0" lang="en-US" sz="2200" spc="-1" strike="noStrike">
              <a:solidFill>
                <a:srgbClr val="335b74"/>
              </a:solidFill>
              <a:latin typeface="Franklin Gothic Book"/>
            </a:endParaRPr>
          </a:p>
          <a:p>
            <a:pPr marL="457200" indent="-45720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29" name="Εικόνα 3" descr=""/>
          <p:cNvPicPr/>
          <p:nvPr/>
        </p:nvPicPr>
        <p:blipFill>
          <a:blip r:embed="rId1"/>
          <a:stretch/>
        </p:blipFill>
        <p:spPr>
          <a:xfrm>
            <a:off x="9713880" y="1908000"/>
            <a:ext cx="1811520" cy="2640240"/>
          </a:xfrm>
          <a:prstGeom prst="rect">
            <a:avLst/>
          </a:prstGeom>
          <a:ln w="0">
            <a:noFill/>
          </a:ln>
        </p:spPr>
      </p:pic>
      <p:pic>
        <p:nvPicPr>
          <p:cNvPr id="230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31" name="Εικόνα 5" descr=""/>
          <p:cNvPicPr/>
          <p:nvPr/>
        </p:nvPicPr>
        <p:blipFill>
          <a:blip r:embed="rId3"/>
          <a:stretch/>
        </p:blipFill>
        <p:spPr>
          <a:xfrm>
            <a:off x="9242280" y="4822920"/>
            <a:ext cx="2752920" cy="1666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C:\Users\andre\Desktop\Διδακτικό Σενάριο\κατασκευή\με τοίχο\IMG_20231115_130808_1.jpg"/>
          <p:cNvPicPr/>
          <p:nvPr/>
        </p:nvPicPr>
        <p:blipFill>
          <a:blip r:embed="rId4"/>
          <a:stretch/>
        </p:blipFill>
        <p:spPr>
          <a:xfrm>
            <a:off x="1225440" y="1517760"/>
            <a:ext cx="367056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697120" y="663480"/>
            <a:ext cx="846792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Φάση 1</a:t>
            </a:r>
            <a:r>
              <a:rPr b="0" lang="el-GR" sz="4400" spc="-1" strike="noStrike" baseline="30000">
                <a:solidFill>
                  <a:srgbClr val="335b74"/>
                </a:solidFill>
                <a:latin typeface="Franklin Gothic Book"/>
              </a:rPr>
              <a:t>η</a:t>
            </a: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 - </a:t>
            </a: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Παρουσίαση ρομπότ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822240" y="1539360"/>
            <a:ext cx="834552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Παρουσίαση Βίντεο  </a:t>
            </a:r>
            <a:r>
              <a:rPr b="0" lang="el-GR" sz="2200" spc="-1" strike="noStrike">
                <a:solidFill>
                  <a:srgbClr val="335b74"/>
                </a:solidFill>
                <a:latin typeface="Wingdings"/>
                <a:ea typeface="Wingdings"/>
              </a:rPr>
              <a:t></a:t>
            </a: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r>
              <a:rPr b="0" lang="en-US" sz="2200" spc="-1" strike="noStrike" u="sng">
                <a:solidFill>
                  <a:srgbClr val="6eac1c"/>
                </a:solidFill>
                <a:uFillTx/>
                <a:latin typeface="Franklin Gothic Book"/>
                <a:hlinkClick r:id="rId1"/>
              </a:rPr>
              <a:t>https://youtu.be/-ac6Cvu4hPs</a:t>
            </a: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endParaRPr b="0" lang="en-US" sz="2200" spc="-1" strike="noStrike">
              <a:solidFill>
                <a:srgbClr val="335b74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Σε ποια κατηγορία ανήκει το ρομπότ που παρακολουθήσατε;</a:t>
            </a:r>
            <a:br>
              <a:rPr sz="2200"/>
            </a:br>
            <a:br>
              <a:rPr sz="2200"/>
            </a:b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Α) Σε ρομπότ με τον άμεσο έλεγχο του ανθρώπου (τηλεκατευθυνόμενο ρομπότ)</a:t>
            </a:r>
            <a:br>
              <a:rPr sz="2200"/>
            </a:br>
            <a:br>
              <a:rPr sz="2200"/>
            </a:b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Β) Σε αυτόνομο ρομπότ με έλεγχο ενός προγραμματισμένου υπολογιστή</a:t>
            </a:r>
            <a:br>
              <a:rPr sz="2200"/>
            </a:b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endParaRPr b="0" lang="en-US" sz="2200" spc="-1" strike="noStrike">
              <a:solidFill>
                <a:srgbClr val="335b74"/>
              </a:solidFill>
              <a:latin typeface="Franklin Gothic Book"/>
            </a:endParaRPr>
          </a:p>
          <a:p>
            <a:pPr marL="382680" indent="-3826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Ποιον αυτοματισμό χρησιμοποιεί το συγκεκριμένο ρομπότ;</a:t>
            </a:r>
            <a:endParaRPr b="0" lang="en-US" sz="22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35" name="Εικόνα 3" descr=""/>
          <p:cNvPicPr/>
          <p:nvPr/>
        </p:nvPicPr>
        <p:blipFill>
          <a:blip r:embed="rId2"/>
          <a:stretch/>
        </p:blipFill>
        <p:spPr>
          <a:xfrm>
            <a:off x="9713880" y="1908000"/>
            <a:ext cx="1811520" cy="2640240"/>
          </a:xfrm>
          <a:prstGeom prst="rect">
            <a:avLst/>
          </a:prstGeom>
          <a:ln w="0">
            <a:noFill/>
          </a:ln>
        </p:spPr>
      </p:pic>
      <p:pic>
        <p:nvPicPr>
          <p:cNvPr id="236" name="Εικόνα 4" descr=""/>
          <p:cNvPicPr/>
          <p:nvPr/>
        </p:nvPicPr>
        <p:blipFill>
          <a:blip r:embed="rId3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37" name="Εικόνα 5" descr=""/>
          <p:cNvPicPr/>
          <p:nvPr/>
        </p:nvPicPr>
        <p:blipFill>
          <a:blip r:embed="rId4"/>
          <a:stretch/>
        </p:blipFill>
        <p:spPr>
          <a:xfrm>
            <a:off x="9242280" y="4822920"/>
            <a:ext cx="275292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522160" y="663480"/>
            <a:ext cx="864252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Φάση 1</a:t>
            </a:r>
            <a:r>
              <a:rPr b="0" lang="el-GR" sz="4400" spc="-1" strike="noStrike" baseline="30000">
                <a:solidFill>
                  <a:srgbClr val="335b74"/>
                </a:solidFill>
                <a:latin typeface="Franklin Gothic Book"/>
              </a:rPr>
              <a:t>η</a:t>
            </a: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- </a:t>
            </a: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Παρουσίαση ρομπότ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822240" y="1539360"/>
            <a:ext cx="834552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Μετάβαση στο </a:t>
            </a:r>
            <a:r>
              <a:rPr b="0" lang="en-US" sz="2200" spc="-1" strike="noStrike">
                <a:solidFill>
                  <a:srgbClr val="335b74"/>
                </a:solidFill>
                <a:latin typeface="Franklin Gothic Book"/>
              </a:rPr>
              <a:t>Scratch (online) </a:t>
            </a:r>
            <a:br>
              <a:rPr sz="2200"/>
            </a:br>
            <a:r>
              <a:rPr b="0" lang="en-US" sz="2200" spc="-1" strike="noStrike">
                <a:solidFill>
                  <a:srgbClr val="335b74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335b74"/>
                </a:solidFill>
                <a:latin typeface="Franklin Gothic Book"/>
              </a:rPr>
              <a:t>https://scratch.mit.edu/projects/931838393/editor/</a:t>
            </a:r>
            <a:r>
              <a:rPr b="0" lang="el-GR" sz="24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335b74"/>
              </a:solidFill>
              <a:latin typeface="Franklin Gothic Book"/>
            </a:endParaRPr>
          </a:p>
          <a:p>
            <a:pPr marL="457200" indent="-4572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Με ποιο εικονίδιο θα αλλάζατε το αντικείμενο «γάτα» από τις ενδυμασίες που θα αντιπροσώπευε καλύτερα το ρομπότ;</a:t>
            </a:r>
            <a:br>
              <a:rPr sz="2200"/>
            </a:br>
            <a:r>
              <a:rPr b="0" i="1" lang="el-GR" sz="2000" spc="-1" strike="noStrike">
                <a:solidFill>
                  <a:srgbClr val="335b74"/>
                </a:solidFill>
                <a:latin typeface="Franklin Gothic Book"/>
              </a:rPr>
              <a:t>(προσοχή επιλογή ενδυμασίας από τις «Ενδυμασίες» και </a:t>
            </a:r>
            <a:br>
              <a:rPr sz="2000"/>
            </a:br>
            <a:r>
              <a:rPr b="0" i="1" lang="el-GR" sz="2000" spc="-1" strike="noStrike">
                <a:solidFill>
                  <a:srgbClr val="335b74"/>
                </a:solidFill>
                <a:latin typeface="Franklin Gothic Book"/>
              </a:rPr>
              <a:t>όχι προσθήκη νέου αντικειμένου)</a:t>
            </a:r>
            <a:r>
              <a:rPr b="0" lang="en-US" sz="22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335b74"/>
                </a:solidFill>
                <a:latin typeface="Franklin Gothic Book"/>
              </a:rPr>
              <a:t>	</a:t>
            </a:r>
            <a:r>
              <a:rPr b="0" lang="en-US" sz="2200" spc="-1" strike="noStrike">
                <a:solidFill>
                  <a:srgbClr val="335b74"/>
                </a:solidFill>
                <a:latin typeface="Franklin Gothic Book"/>
              </a:rPr>
              <a:t>	</a:t>
            </a:r>
            <a:r>
              <a:rPr b="0" lang="en-US" sz="2200" spc="-1" strike="noStrike">
                <a:solidFill>
                  <a:srgbClr val="335b74"/>
                </a:solidFill>
                <a:latin typeface="Franklin Gothic Book"/>
              </a:rPr>
              <a:t>	</a:t>
            </a:r>
            <a:r>
              <a:rPr b="0" lang="en-US" sz="2200" spc="-1" strike="noStrike">
                <a:solidFill>
                  <a:srgbClr val="335b74"/>
                </a:solidFill>
                <a:latin typeface="Franklin Gothic Book"/>
              </a:rPr>
              <a:t>	</a:t>
            </a:r>
            <a:r>
              <a:rPr b="0" lang="en-US" sz="2200" spc="-1" strike="noStrike">
                <a:solidFill>
                  <a:srgbClr val="335b74"/>
                </a:solidFill>
                <a:latin typeface="Franklin Gothic Book"/>
              </a:rPr>
              <a:t>          </a:t>
            </a:r>
            <a:endParaRPr b="0" lang="en-US" sz="2200" spc="-1" strike="noStrike">
              <a:solidFill>
                <a:srgbClr val="335b74"/>
              </a:solidFill>
              <a:latin typeface="Franklin Gothic Book"/>
            </a:endParaRPr>
          </a:p>
          <a:p>
            <a:pPr marL="457200" indent="-4572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	</a:t>
            </a: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	</a:t>
            </a: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	</a:t>
            </a: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	</a:t>
            </a: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	</a:t>
            </a: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	</a:t>
            </a: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Ενδεικτική Απάντηση: </a:t>
            </a:r>
            <a:endParaRPr b="0" lang="en-US" sz="2200" spc="-1" strike="noStrike">
              <a:solidFill>
                <a:srgbClr val="335b74"/>
              </a:solidFill>
              <a:latin typeface="Franklin Gothic Book"/>
            </a:endParaRPr>
          </a:p>
          <a:p>
            <a:pPr marL="457200" indent="-4572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5b74"/>
              </a:solidFill>
              <a:latin typeface="Franklin Gothic Book"/>
            </a:endParaRPr>
          </a:p>
          <a:p>
            <a:pPr marL="457200" indent="-4572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2.    Τι τίτλο θα δίνατε για το συγκεκριμένο ρομπότ; </a:t>
            </a:r>
            <a:br>
              <a:rPr sz="2200"/>
            </a:br>
            <a:endParaRPr b="0" lang="en-US" sz="22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40" name="Εικόνα 3" descr=""/>
          <p:cNvPicPr/>
          <p:nvPr/>
        </p:nvPicPr>
        <p:blipFill>
          <a:blip r:embed="rId1"/>
          <a:stretch/>
        </p:blipFill>
        <p:spPr>
          <a:xfrm>
            <a:off x="9632880" y="1947960"/>
            <a:ext cx="1892520" cy="2757240"/>
          </a:xfrm>
          <a:prstGeom prst="rect">
            <a:avLst/>
          </a:prstGeom>
          <a:ln w="0">
            <a:noFill/>
          </a:ln>
        </p:spPr>
      </p:pic>
      <p:pic>
        <p:nvPicPr>
          <p:cNvPr id="241" name="Εικόνα 4" descr=""/>
          <p:cNvPicPr/>
          <p:nvPr/>
        </p:nvPicPr>
        <p:blipFill>
          <a:blip r:embed="rId2"/>
          <a:stretch/>
        </p:blipFill>
        <p:spPr>
          <a:xfrm>
            <a:off x="9917280" y="453960"/>
            <a:ext cx="1608120" cy="1370160"/>
          </a:xfrm>
          <a:prstGeom prst="rect">
            <a:avLst/>
          </a:prstGeom>
          <a:ln w="0">
            <a:noFill/>
          </a:ln>
        </p:spPr>
      </p:pic>
      <p:pic>
        <p:nvPicPr>
          <p:cNvPr id="242" name="Εικόνα 5" descr=""/>
          <p:cNvPicPr/>
          <p:nvPr/>
        </p:nvPicPr>
        <p:blipFill>
          <a:blip r:embed="rId3"/>
          <a:stretch/>
        </p:blipFill>
        <p:spPr>
          <a:xfrm>
            <a:off x="9242280" y="4822920"/>
            <a:ext cx="2752920" cy="16668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7" descr=""/>
          <p:cNvPicPr/>
          <p:nvPr/>
        </p:nvPicPr>
        <p:blipFill>
          <a:blip r:embed="rId4"/>
          <a:stretch/>
        </p:blipFill>
        <p:spPr>
          <a:xfrm>
            <a:off x="7970760" y="3130560"/>
            <a:ext cx="1314360" cy="15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455560" y="677880"/>
            <a:ext cx="876132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Φάση 2</a:t>
            </a:r>
            <a:r>
              <a:rPr b="0" lang="el-GR" sz="4400" spc="-1" strike="noStrike" baseline="30000">
                <a:solidFill>
                  <a:srgbClr val="335b74"/>
                </a:solidFill>
                <a:latin typeface="Franklin Gothic Book"/>
              </a:rPr>
              <a:t>η</a:t>
            </a: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 - Κατασκευή ρομπότ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984240" y="1885680"/>
            <a:ext cx="825192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Καθορισμός ρόλων για τα μέλη των ομάδων: </a:t>
            </a:r>
            <a:endParaRPr b="0" lang="en-US" sz="22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87480" indent="-457200" algn="just">
              <a:lnSpc>
                <a:spcPct val="94000"/>
              </a:lnSpc>
              <a:spcBef>
                <a:spcPts val="499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Αρχηγός της ομάδας </a:t>
            </a:r>
            <a:endParaRPr b="0" i="1" lang="en-US" sz="22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87480" indent="-457200" algn="just">
              <a:lnSpc>
                <a:spcPct val="94000"/>
              </a:lnSpc>
              <a:spcBef>
                <a:spcPts val="499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Υπεύθυνος υπολογιστή</a:t>
            </a:r>
            <a:endParaRPr b="0" i="1" lang="en-US" sz="22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87480" indent="-457200" algn="just">
              <a:lnSpc>
                <a:spcPct val="94000"/>
              </a:lnSpc>
              <a:spcBef>
                <a:spcPts val="499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Υπεύθυνος επιλογής</a:t>
            </a:r>
            <a:endParaRPr b="0" i="1" lang="en-US" sz="22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87480" indent="-457200" algn="just">
              <a:lnSpc>
                <a:spcPct val="94000"/>
              </a:lnSpc>
              <a:spcBef>
                <a:spcPts val="499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Κατασκευαστής ρομπότ</a:t>
            </a:r>
            <a:endParaRPr b="0" i="1" lang="en-US" sz="22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87480" indent="-457200" algn="just">
              <a:lnSpc>
                <a:spcPct val="94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335b74"/>
                </a:solidFill>
                <a:latin typeface="Franklin Gothic Book"/>
              </a:rPr>
              <a:t>(Η σειρά των ρόλων να αλλάζει ανά 10 διαφάνειες)</a:t>
            </a:r>
            <a:endParaRPr b="0" i="1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457200" indent="-4572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Σύνδεσμος με τα βήματα κατασκευής: </a:t>
            </a:r>
            <a:r>
              <a:rPr b="0" lang="el-GR" sz="2000" spc="-1" strike="noStrike">
                <a:solidFill>
                  <a:srgbClr val="335b74"/>
                </a:solidFill>
                <a:latin typeface="Wingdings"/>
                <a:ea typeface="Wingdings"/>
              </a:rPr>
              <a:t></a:t>
            </a: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r>
              <a:rPr b="0" lang="en-US" sz="2000" spc="-1" strike="noStrike">
                <a:solidFill>
                  <a:srgbClr val="f2fb79"/>
                </a:solidFill>
                <a:latin typeface="Franklin Gothic Book"/>
              </a:rPr>
              <a:t>https://drive.google.com/file/d/18QGLw_TiAxB-LnyHw85suZCtyzPDkGUH/view?usp=sharing</a:t>
            </a:r>
            <a:r>
              <a:rPr b="0" lang="el-GR" sz="2000" spc="-1" strike="noStrike">
                <a:solidFill>
                  <a:srgbClr val="f2fb79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457200" indent="-4572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200" spc="-1" strike="noStrike">
                <a:solidFill>
                  <a:srgbClr val="335b74"/>
                </a:solidFill>
                <a:latin typeface="Franklin Gothic Book"/>
              </a:rPr>
              <a:t>Ολοκλήρωση: </a:t>
            </a: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Περιγραφή τρόπου λειτουργίας ρομπότ</a:t>
            </a:r>
            <a:r>
              <a:rPr b="1" lang="el-GR" sz="2200" spc="-1" strike="noStrike">
                <a:solidFill>
                  <a:srgbClr val="335b74"/>
                </a:solidFill>
                <a:latin typeface="Franklin Gothic Book"/>
              </a:rPr>
              <a:t>.</a:t>
            </a:r>
            <a:endParaRPr b="0" lang="en-US" sz="22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46" name="Εικόνα 3" descr=""/>
          <p:cNvPicPr/>
          <p:nvPr/>
        </p:nvPicPr>
        <p:blipFill>
          <a:blip r:embed="rId1"/>
          <a:stretch/>
        </p:blipFill>
        <p:spPr>
          <a:xfrm>
            <a:off x="9888480" y="2179800"/>
            <a:ext cx="1811520" cy="2636640"/>
          </a:xfrm>
          <a:prstGeom prst="rect">
            <a:avLst/>
          </a:prstGeom>
          <a:ln w="0">
            <a:noFill/>
          </a:ln>
        </p:spPr>
      </p:pic>
      <p:pic>
        <p:nvPicPr>
          <p:cNvPr id="247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461960"/>
          </a:xfrm>
          <a:prstGeom prst="rect">
            <a:avLst/>
          </a:prstGeom>
          <a:ln w="0">
            <a:noFill/>
          </a:ln>
        </p:spPr>
      </p:pic>
      <p:pic>
        <p:nvPicPr>
          <p:cNvPr id="248" name="Εικόνα 5" descr=""/>
          <p:cNvPicPr/>
          <p:nvPr/>
        </p:nvPicPr>
        <p:blipFill>
          <a:blip r:embed="rId3"/>
          <a:stretch/>
        </p:blipFill>
        <p:spPr>
          <a:xfrm>
            <a:off x="9255240" y="4956120"/>
            <a:ext cx="275256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812880"/>
            <a:ext cx="989028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Φάση </a:t>
            </a: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3</a:t>
            </a:r>
            <a:r>
              <a:rPr b="0" lang="el-GR" sz="4400" spc="-1" strike="noStrike" baseline="30000">
                <a:solidFill>
                  <a:srgbClr val="335b74"/>
                </a:solidFill>
                <a:latin typeface="Franklin Gothic Book"/>
              </a:rPr>
              <a:t>η</a:t>
            </a: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 - Προγραμματισμός ρομπότ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155600" y="1908000"/>
            <a:ext cx="8067600" cy="44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Μετάβαση στον προγραμματισμό του ρομπότ (σύνδεση των μεμονωμένων εντολών στην σωστή σειρά)</a:t>
            </a:r>
            <a:r>
              <a:rPr b="0" lang="el-GR" sz="2000" spc="-1" strike="noStrike">
                <a:solidFill>
                  <a:srgbClr val="335b74"/>
                </a:solidFill>
                <a:latin typeface="Wingdings"/>
                <a:ea typeface="Wingdings"/>
              </a:rPr>
              <a:t></a:t>
            </a: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https://scratch.mit.edu/projects/931838393/editor/</a:t>
            </a: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87480" indent="-457200">
              <a:lnSpc>
                <a:spcPct val="94000"/>
              </a:lnSpc>
              <a:spcBef>
                <a:spcPts val="499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335b74"/>
                </a:solidFill>
                <a:latin typeface="Franklin Gothic Book"/>
              </a:rPr>
              <a:t>Σύνδεση του ρομπότ με το πρόγραμμα του </a:t>
            </a:r>
            <a:r>
              <a:rPr b="0" i="1" lang="en-US" sz="2000" spc="-1" strike="noStrike">
                <a:solidFill>
                  <a:srgbClr val="335b74"/>
                </a:solidFill>
                <a:latin typeface="Franklin Gothic Book"/>
              </a:rPr>
              <a:t>Scratch</a:t>
            </a:r>
            <a:endParaRPr b="0" i="1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87480" indent="-457200">
              <a:lnSpc>
                <a:spcPct val="94000"/>
              </a:lnSpc>
              <a:spcBef>
                <a:spcPts val="499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335b74"/>
                </a:solidFill>
                <a:latin typeface="Franklin Gothic Book"/>
              </a:rPr>
              <a:t>Εκτέλεση των εντολών και έλεγχος στη σωστή λειτουργία του ρομπότ</a:t>
            </a:r>
            <a:endParaRPr b="0" i="1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87480" indent="-457200">
              <a:lnSpc>
                <a:spcPct val="94000"/>
              </a:lnSpc>
              <a:spcBef>
                <a:spcPts val="499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335b74"/>
                </a:solidFill>
                <a:latin typeface="Franklin Gothic Book"/>
              </a:rPr>
              <a:t>Ερώτηση: Τι κάνει το συγκεκριμένο ρομπότ και πως θα μπορούσε να περιγραφεί με λόγια ο προγραμματισμός του</a:t>
            </a:r>
            <a:r>
              <a:rPr b="0" i="1" lang="en-US" sz="2000" spc="-1" strike="noStrike">
                <a:solidFill>
                  <a:srgbClr val="335b74"/>
                </a:solidFill>
                <a:latin typeface="Franklin Gothic Book"/>
              </a:rPr>
              <a:t>;</a:t>
            </a:r>
            <a:r>
              <a:rPr b="0" i="1" lang="el-GR" sz="20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endParaRPr b="0" i="1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457200" indent="-4572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51" name="Εικόνα 3" descr=""/>
          <p:cNvPicPr/>
          <p:nvPr/>
        </p:nvPicPr>
        <p:blipFill>
          <a:blip r:embed="rId1"/>
          <a:stretch/>
        </p:blipFill>
        <p:spPr>
          <a:xfrm>
            <a:off x="9713880" y="2151000"/>
            <a:ext cx="1811520" cy="2737080"/>
          </a:xfrm>
          <a:prstGeom prst="rect">
            <a:avLst/>
          </a:prstGeom>
          <a:ln w="0">
            <a:noFill/>
          </a:ln>
        </p:spPr>
      </p:pic>
      <p:pic>
        <p:nvPicPr>
          <p:cNvPr id="252" name="Εικόνα 4" descr=""/>
          <p:cNvPicPr/>
          <p:nvPr/>
        </p:nvPicPr>
        <p:blipFill>
          <a:blip r:embed="rId2"/>
          <a:stretch/>
        </p:blipFill>
        <p:spPr>
          <a:xfrm>
            <a:off x="10063080" y="422280"/>
            <a:ext cx="1462320" cy="1494000"/>
          </a:xfrm>
          <a:prstGeom prst="rect">
            <a:avLst/>
          </a:prstGeom>
          <a:ln w="0">
            <a:noFill/>
          </a:ln>
        </p:spPr>
      </p:pic>
      <p:pic>
        <p:nvPicPr>
          <p:cNvPr id="253" name="Εικόνα 5" descr=""/>
          <p:cNvPicPr/>
          <p:nvPr/>
        </p:nvPicPr>
        <p:blipFill>
          <a:blip r:embed="rId3"/>
          <a:stretch/>
        </p:blipFill>
        <p:spPr>
          <a:xfrm>
            <a:off x="9242280" y="5033880"/>
            <a:ext cx="275292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812880"/>
            <a:ext cx="989028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Φάση 4</a:t>
            </a:r>
            <a:r>
              <a:rPr b="0" lang="el-GR" sz="4400" spc="-1" strike="noStrike" baseline="30000">
                <a:solidFill>
                  <a:srgbClr val="335b74"/>
                </a:solidFill>
                <a:latin typeface="Franklin Gothic Book"/>
              </a:rPr>
              <a:t>η</a:t>
            </a: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 - Στάδιο αξιολόγησης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155600" y="1908000"/>
            <a:ext cx="8067600" cy="44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Παρουσίαση του ρομπότ της κάθε ομάδας στην ολομέλεια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457200" indent="-4572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Συμπλήρωση </a:t>
            </a: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Google Form</a:t>
            </a: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r>
              <a:rPr b="0" lang="el-GR" sz="2000" spc="-1" strike="noStrike">
                <a:solidFill>
                  <a:srgbClr val="335b74"/>
                </a:solidFill>
                <a:latin typeface="Wingdings"/>
                <a:ea typeface="Wingdings"/>
              </a:rPr>
              <a:t></a:t>
            </a: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https://docs.google.com/forms/d/e/1FAIpQLSfy2PdHqQQOZs0IMQnl-SGtfmkA7w7dInX_gv1EVhGs5GCo_g/viewform</a:t>
            </a: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457200" indent="-4572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457200" indent="-4572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56" name="Εικόνα 3" descr=""/>
          <p:cNvPicPr/>
          <p:nvPr/>
        </p:nvPicPr>
        <p:blipFill>
          <a:blip r:embed="rId1"/>
          <a:stretch/>
        </p:blipFill>
        <p:spPr>
          <a:xfrm>
            <a:off x="9713880" y="2151000"/>
            <a:ext cx="1811520" cy="2737080"/>
          </a:xfrm>
          <a:prstGeom prst="rect">
            <a:avLst/>
          </a:prstGeom>
          <a:ln w="0">
            <a:noFill/>
          </a:ln>
        </p:spPr>
      </p:pic>
      <p:pic>
        <p:nvPicPr>
          <p:cNvPr id="257" name="Εικόνα 4" descr=""/>
          <p:cNvPicPr/>
          <p:nvPr/>
        </p:nvPicPr>
        <p:blipFill>
          <a:blip r:embed="rId2"/>
          <a:stretch/>
        </p:blipFill>
        <p:spPr>
          <a:xfrm>
            <a:off x="10063080" y="422280"/>
            <a:ext cx="1462320" cy="1494000"/>
          </a:xfrm>
          <a:prstGeom prst="rect">
            <a:avLst/>
          </a:prstGeom>
          <a:ln w="0">
            <a:noFill/>
          </a:ln>
        </p:spPr>
      </p:pic>
      <p:pic>
        <p:nvPicPr>
          <p:cNvPr id="258" name="Εικόνα 5" descr=""/>
          <p:cNvPicPr/>
          <p:nvPr/>
        </p:nvPicPr>
        <p:blipFill>
          <a:blip r:embed="rId3"/>
          <a:stretch/>
        </p:blipFill>
        <p:spPr>
          <a:xfrm>
            <a:off x="9242280" y="5033880"/>
            <a:ext cx="275292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14T06:17:29Z</dcterms:created>
  <dc:creator>User01</dc:creator>
  <dc:description/>
  <dc:language>en-US</dc:language>
  <cp:lastModifiedBy>And Bar</cp:lastModifiedBy>
  <dcterms:modified xsi:type="dcterms:W3CDTF">2023-11-29T20:09:09Z</dcterms:modified>
  <cp:revision>206</cp:revision>
  <dc:subject/>
  <dc:title>Παρουσίαση του PowerPoint</dc:title>
</cp:coreProperties>
</file>