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AF68-7DDB-427C-AA20-BA142109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BC5-480F-473D-9601-3BCB56F1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F8B4-E5EE-4050-A9BF-70632C0A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41F-A822-40B8-AEEC-A1846A1CC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CC87-E7AE-49D2-80BE-5034351A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D135-05E9-48EF-A1AE-954DA933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3D8D-AA7A-4AA6-A959-6C8F6825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F9D4-D711-4EDB-B1D1-A9AEABC2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D647-5267-4BFA-91B5-6B1DE47B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C04A-7BB0-41C0-A1BB-7947DEB6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5F05-4AF7-485E-BB44-EBBAA50B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5611-7128-4E08-B873-B2C781F3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AA5A-C424-41C7-BD5F-38A1321A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3E9E-9620-46DA-B88A-0479E806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3224-2BC8-49F9-8A2B-A21D0B2A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D830-CD43-450C-ABC2-20F9BD47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7E8D-A23B-4421-B5E7-8BEDA903D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EC2B-6092-475F-B637-AD26D978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F8857-5AB5-41DA-B2AA-326C0821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5430C-DD7B-412B-8440-AEF835B17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F28F-C787-4240-8CE9-9FA3E8B5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51EAF-99E3-4311-8AFA-D0E82022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3DF9-1140-43F6-910C-DB5C4E9C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1F995-BB13-43BE-A565-A75011AF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D168F-F008-49B6-A6DF-A120F0E6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F0E6-3D8F-4E1C-A4F1-C02EBBE6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E2EF7-FD6B-4C77-A345-FC679F8B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F0856-C883-49C7-B5F3-586B4BF6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A7DF3-26ED-4CCE-B305-51AA82773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5A269-37D1-4EE9-98E5-D66C4A06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AEE27-8F3E-4DC6-90E3-77B8DDEA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C08CE-7E32-4FC0-B7AF-2B4F4DFF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AA12F-7363-41A2-924E-10874280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3942-5523-4D3D-BD41-9C0F3791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66AFC-BD52-4335-B4F1-B9CF09D8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010BB-AA44-442C-B093-C82E5D8D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8C732-CB98-41E5-811E-93786276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0C2DA-B5A5-476F-80B2-9D7654EF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F649E-F048-4072-A726-69FE6190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9DFF1-A73D-4370-BB06-23D37C01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066DE-E9ED-48FA-B6E4-D8360A092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8282A-2DE0-4DDC-A0DB-D5572EE9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5B003-DDCF-4426-8529-17157BA0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A3511-E5F1-479A-BC93-27DC4B7C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F83-21D8-43A9-B893-358C5201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46012-0AC7-433C-8245-189F3F4C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54458-3685-4661-87A2-45CC8C6C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B8251-4AC6-463A-8DB8-4D262956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C0796-BFB3-4BC8-ADDD-A53B64EF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21C4C-48BD-45B3-9B1E-C475FFFC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45908-272B-483C-A0B0-7352F75D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02CAC-C6C8-4710-B3A6-2F972330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C8E22-08C3-4757-A6A9-F910D881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CF9BF-2591-4455-BC32-6528337A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D5FB5-0D67-4828-B940-235E3BB6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990E-C8CB-4881-821E-5C3E81871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172B5-387F-4171-A4E2-FF7BF3D84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06C7-B255-4242-820B-535E1BB5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810-D41D-439D-9143-BB9E2A49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5E15-FDAB-483C-B167-B1A2B180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104D33-B6F2-4315-A68C-DA8DDF56D68A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1E5E01-BC77-4A80-ADB4-AF514EA51EC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A6CBD0-3FFF-4D62-9984-30C453A11C44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539ED-3ED2-429C-B7C6-D421CBA005E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A55273-5446-4FE7-B04F-C9480A3A94CF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image" Target="../media/image14.jpe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gOSnedhJxs" TargetMode="External"/><Relationship Id="rId2" Type="http://schemas.openxmlformats.org/officeDocument/2006/relationships/hyperlink" Target="https://www.youtube.com/watch?v=lgOSnedhJxs" TargetMode="External"/><Relationship Id="rId3" Type="http://schemas.openxmlformats.org/officeDocument/2006/relationships/hyperlink" Target="https://www.youtube.com/watch?v=lgOSnedhJxs" TargetMode="External"/><Relationship Id="rId4" Type="http://schemas.openxmlformats.org/officeDocument/2006/relationships/hyperlink" Target="https://www.youtube.com/watch?v=lgOSnedhJxs" TargetMode="External"/><Relationship Id="rId5" Type="http://schemas.openxmlformats.org/officeDocument/2006/relationships/hyperlink" Target="https://www.youtube.com/watch?v=lgOSnedhJxs" TargetMode="External"/><Relationship Id="rId6" Type="http://schemas.openxmlformats.org/officeDocument/2006/relationships/hyperlink" Target="https://www.youtube.com/watch?v=lgOSnedhJxs" TargetMode="External"/><Relationship Id="rId7" Type="http://schemas.openxmlformats.org/officeDocument/2006/relationships/hyperlink" Target="https://www.youtube.com/watch?v=lgOSnedhJxs" TargetMode="External"/><Relationship Id="rId8" Type="http://schemas.openxmlformats.org/officeDocument/2006/relationships/hyperlink" Target="https://www.youtube.com/watch?v=lgOSnedhJxs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04920" y="2184480"/>
            <a:ext cx="82677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Τ</a:t>
            </a: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ΟΥ ΓΙΟΦΥΡΙΟΥ ΤΗ</a:t>
            </a: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Σ </a:t>
            </a: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ΑΡΤΑΣ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  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300" spc="-1" strike="noStrike" u="sng">
                <a:solidFill>
                  <a:srgbClr val="335b74"/>
                </a:solidFill>
                <a:uFillTx/>
                <a:latin typeface="Franklin Gothic Book"/>
              </a:rPr>
              <a:t>Δημιουργο</a:t>
            </a:r>
            <a:r>
              <a:rPr b="0" lang="el-GR" sz="2300" spc="-1" strike="noStrike" u="sng">
                <a:solidFill>
                  <a:srgbClr val="335b74"/>
                </a:solidFill>
                <a:uFillTx/>
                <a:latin typeface="Franklin Gothic Book"/>
              </a:rPr>
              <a:t>ί</a:t>
            </a: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: Ελένη Κασελούρη (Μουσικολόγος ΠΕ79.01)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11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                     </a:t>
            </a:r>
            <a:r>
              <a:rPr b="0" lang="el-GR" sz="2300" spc="-1" strike="noStrike">
                <a:solidFill>
                  <a:srgbClr val="335b74"/>
                </a:solidFill>
                <a:latin typeface="Franklin Gothic Book"/>
              </a:rPr>
              <a:t>Μελίνα Κατίου (Θεατρολόγος ΠΕ91.01)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Εικόνα 5" descr=""/>
          <p:cNvPicPr/>
          <p:nvPr/>
        </p:nvPicPr>
        <p:blipFill>
          <a:blip r:embed="rId1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79" name="Εικόνα 3" descr=""/>
          <p:cNvPicPr/>
          <p:nvPr/>
        </p:nvPicPr>
        <p:blipFill>
          <a:blip r:embed="rId2"/>
          <a:stretch/>
        </p:blipFill>
        <p:spPr>
          <a:xfrm>
            <a:off x="9941040" y="2147760"/>
            <a:ext cx="1811160" cy="2737080"/>
          </a:xfrm>
          <a:prstGeom prst="rect">
            <a:avLst/>
          </a:prstGeom>
          <a:ln w="0">
            <a:noFill/>
          </a:ln>
        </p:spPr>
      </p:pic>
      <p:pic>
        <p:nvPicPr>
          <p:cNvPr id="280" name="Εικόνα 4" descr=""/>
          <p:cNvPicPr/>
          <p:nvPr/>
        </p:nvPicPr>
        <p:blipFill>
          <a:blip r:embed="rId3"/>
          <a:stretch/>
        </p:blipFill>
        <p:spPr>
          <a:xfrm>
            <a:off x="10090080" y="152280"/>
            <a:ext cx="1462320" cy="1462320"/>
          </a:xfrm>
          <a:prstGeom prst="rect">
            <a:avLst/>
          </a:prstGeom>
          <a:ln w="0">
            <a:noFill/>
          </a:ln>
        </p:spPr>
      </p:pic>
      <p:pic>
        <p:nvPicPr>
          <p:cNvPr id="281" name="Εικόνα 5" descr=""/>
          <p:cNvPicPr/>
          <p:nvPr/>
        </p:nvPicPr>
        <p:blipFill>
          <a:blip r:embed="rId4"/>
          <a:stretch/>
        </p:blipFill>
        <p:spPr>
          <a:xfrm>
            <a:off x="954000" y="1293840"/>
            <a:ext cx="7672320" cy="4976640"/>
          </a:xfrm>
          <a:prstGeom prst="rect">
            <a:avLst/>
          </a:prstGeom>
          <a:ln w="0">
            <a:noFill/>
          </a:ln>
        </p:spPr>
      </p:pic>
      <p:sp>
        <p:nvSpPr>
          <p:cNvPr id="282" name="Τίτλος 1"/>
          <p:cNvSpPr/>
          <p:nvPr/>
        </p:nvSpPr>
        <p:spPr>
          <a:xfrm>
            <a:off x="954000" y="0"/>
            <a:ext cx="767232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Το γεφύρι της Άρτας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335b74"/>
                </a:solidFill>
                <a:latin typeface="Franklin Gothic Book"/>
              </a:rPr>
              <a:t>όπως το ζωγράφισαν οι μαθητέ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600" y="579600"/>
            <a:ext cx="7562880" cy="54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335b74"/>
                </a:solidFill>
                <a:uFillTx/>
                <a:latin typeface="Franklin Gothic Book"/>
              </a:rPr>
              <a:t>Παιχνίδια με βάση το ποίημα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14320" y="4143240"/>
            <a:ext cx="9601200" cy="32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.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439200" y="492444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1"/>
          <p:cNvSpPr/>
          <p:nvPr/>
        </p:nvSpPr>
        <p:spPr>
          <a:xfrm>
            <a:off x="814320" y="1293840"/>
            <a:ext cx="7875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φήγηση από τον/την εκπαιδευτικ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υλάκι εδιάβη κι έκατσε αντίκρυ στο ποτάμ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εν εκελάηδε σαν πουλί, μηδέ σα χελιδόν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ά εκελάηδε κι έλεγε, ανθρωπινή λαλίτσα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«Α δε στοιχειώσετε άνθρωπο, γιοφύρι δε στεριώνει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μη στοιχειώσετε ορφανό, μη ξένο, μη διαβάτ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αρά του πρωτομάστορα την όμορφη γυναίκα,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' άκουσ' ο πρωτομάστορας και του θανάτου πέφτε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ιάνει, μηνάει της λυγερής με το πουλί τ' αηδόνι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ργά ντυθεί, αργά αλλαχτεί, αργά να πάει το γιόμ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ργά να πάει και να διαβεί της Άρτας το γιοφύρ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Και το πουλί παράκουσε κι αλλιώς επήγε κι είπ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«Γοργά ντύσου, γοργά άλλαξε, γοργά να πας το γιόμ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γοργά να πας και να διαβείς της Άρτας το γιοφύρι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Να τηνε κι εξανάφανεν* από την άσπρη στράτ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ην είδ' ο πρωτομάστορας, ραγίζεται η καρδιά του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20640" y="947880"/>
            <a:ext cx="7496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 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7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8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9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30" name="Ορθογώνιο 1"/>
          <p:cNvSpPr/>
          <p:nvPr/>
        </p:nvSpPr>
        <p:spPr>
          <a:xfrm>
            <a:off x="1411200" y="326880"/>
            <a:ext cx="7732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Ορθογώνιο 2"/>
          <p:cNvSpPr/>
          <p:nvPr/>
        </p:nvSpPr>
        <p:spPr>
          <a:xfrm>
            <a:off x="846000" y="3724200"/>
            <a:ext cx="8570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Ανίχνευση σκέψης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Ο Πρωτομάστορας «είπε» στα πουλιά να ζητήσουν από τη  γυναίκα του να αργήσει να ετοιμαστεί, ελπίζοντας ότι θα περάσει κάποια άλλη γυναίκα απ’ το γεφύρι πριν προφτάσει να έρθει η δική του. Ο/η εκπαιδευτικός ζητά από τα παιδιά να μιμηθούν την έκφραση του Πρωτομάστορα όταν λέει ψέματα στα πουλιά και την έκφρασή του όταν  τελικά είδε να έρχεται η γυναίκα του. Ποια από τις δυο εκφράσεις πονά και από ποια στοιχεία το καταλαβαίνουμε; Αν μιλούσε το δεύτερο πρόσωπο, τι θα έλεγ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Ορθογώνιο 4"/>
          <p:cNvSpPr/>
          <p:nvPr/>
        </p:nvSpPr>
        <p:spPr>
          <a:xfrm>
            <a:off x="846000" y="392040"/>
            <a:ext cx="857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 u="sng">
                <a:solidFill>
                  <a:srgbClr val="000000"/>
                </a:solidFill>
                <a:uFillTx/>
                <a:latin typeface="Arial"/>
              </a:rPr>
              <a:t>Ρόλος στον τοίχο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το χαρτί του μέτρου ο/η εκπαιδευτικός ζωγραφίζει το περίγραμμα ενός άντρα και το τοποθετεί στον τοίχο. Αναφέρει στα παιδιά ότι αυτός είναι ο Πρωτομάστορας τη στιγμή που μαθαίνει ότι για να στεριώσει το γεφύρι θα πρέπει να θυσιαστεί η γυναίκα του. Όταν τη βλέπει να έρχεται, «ραγίζεται η καρδιά του». Οι μαθητές χρησιμοποιώντας μαρκαδόρους, γράφουν μέσα στο περίγραμμα του χαρτιού, τα συναισθήματα που μπορεί να ένιωσε ο Πρωτομάστορ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 Όση ώρα τα παιδιά γράφουν, ακούγεται το τραγούδι «Το γεφύρι της Άρτας» από τη Μαρία Σουλτάτου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97040" y="469440"/>
            <a:ext cx="868680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335b74"/>
                </a:solidFill>
                <a:uFillTx/>
                <a:latin typeface="Franklin Gothic Book"/>
                <a:ea typeface="Calibri"/>
              </a:rPr>
              <a:t>Κατασκευή μουσικού οργάνου </a:t>
            </a: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  <a:ea typeface="Calibri"/>
              </a:rPr>
              <a:t>(ράβδος βροχής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)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4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6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37" name="Ορθογώνιο 1"/>
          <p:cNvSpPr/>
          <p:nvPr/>
        </p:nvSpPr>
        <p:spPr>
          <a:xfrm>
            <a:off x="932040" y="1846440"/>
            <a:ext cx="8681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α χρειαστούμε: έναν κυλινδρικό χάρτινο σωλήνα στον οποίο θα έχουμε κάνει τρύπες σε ελικοειδή μορφή, καλαμάκια από σουβλάκι, ένα κοφτάκι, χαρτοταινία, διάφορα υλικά όπως κορδέλες, χρώματα, γκλίτερ κτλ , διαφόρων ειδών σπόρια, όσπρια και διάφορα άλλα μικρά αντικείμενα, ένα κομμάτι χαρτόνι για να φτιάξουμε τα καπάκια, κόλλ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1. Κάνουμε τρύπες στο χάρτινο σωλήνα σε ελικοειδή μορφ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Εικόνα 9" descr=""/>
          <p:cNvPicPr/>
          <p:nvPr/>
        </p:nvPicPr>
        <p:blipFill>
          <a:blip r:embed="rId4"/>
          <a:stretch/>
        </p:blipFill>
        <p:spPr>
          <a:xfrm>
            <a:off x="4795920" y="4303800"/>
            <a:ext cx="1974600" cy="2455920"/>
          </a:xfrm>
          <a:prstGeom prst="rect">
            <a:avLst/>
          </a:prstGeom>
          <a:ln w="0">
            <a:noFill/>
          </a:ln>
        </p:spPr>
      </p:pic>
      <p:pic>
        <p:nvPicPr>
          <p:cNvPr id="239" name="Εικόνα 10" descr=""/>
          <p:cNvPicPr/>
          <p:nvPr/>
        </p:nvPicPr>
        <p:blipFill>
          <a:blip r:embed="rId5"/>
          <a:stretch/>
        </p:blipFill>
        <p:spPr>
          <a:xfrm>
            <a:off x="2146320" y="4303800"/>
            <a:ext cx="18414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1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4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44" name="Ορθογώνιο 2"/>
          <p:cNvSpPr/>
          <p:nvPr/>
        </p:nvSpPr>
        <p:spPr>
          <a:xfrm>
            <a:off x="1036800" y="146160"/>
            <a:ext cx="872172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2. Βάζουμε τα ξυλάκια στις τρύπες ώστε να δημιουργηθούν εμπόδια στο εσωτερικό του σωλήνα. Έτσι, όταν ρίξουμε μέσα τα σποράκια ,να βρίσκουν αντίσταση και να πέφτουν σταδιακά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Εικόνα 6" descr=""/>
          <p:cNvPicPr/>
          <p:nvPr/>
        </p:nvPicPr>
        <p:blipFill>
          <a:blip r:embed="rId4"/>
          <a:stretch/>
        </p:blipFill>
        <p:spPr>
          <a:xfrm>
            <a:off x="1036800" y="1308240"/>
            <a:ext cx="1841400" cy="2288880"/>
          </a:xfrm>
          <a:prstGeom prst="rect">
            <a:avLst/>
          </a:prstGeom>
          <a:ln w="0">
            <a:noFill/>
          </a:ln>
        </p:spPr>
      </p:pic>
      <p:pic>
        <p:nvPicPr>
          <p:cNvPr id="246" name="Εικόνα 7" descr=""/>
          <p:cNvPicPr/>
          <p:nvPr/>
        </p:nvPicPr>
        <p:blipFill>
          <a:blip r:embed="rId5"/>
          <a:stretch/>
        </p:blipFill>
        <p:spPr>
          <a:xfrm>
            <a:off x="3233880" y="1308240"/>
            <a:ext cx="1841400" cy="2288880"/>
          </a:xfrm>
          <a:prstGeom prst="rect">
            <a:avLst/>
          </a:prstGeom>
          <a:ln w="0">
            <a:noFill/>
          </a:ln>
        </p:spPr>
      </p:pic>
      <p:pic>
        <p:nvPicPr>
          <p:cNvPr id="247" name="Εικόνα 8" descr=""/>
          <p:cNvPicPr/>
          <p:nvPr/>
        </p:nvPicPr>
        <p:blipFill>
          <a:blip r:embed="rId6"/>
          <a:stretch/>
        </p:blipFill>
        <p:spPr>
          <a:xfrm>
            <a:off x="5381640" y="1343160"/>
            <a:ext cx="1841400" cy="2253960"/>
          </a:xfrm>
          <a:prstGeom prst="rect">
            <a:avLst/>
          </a:prstGeom>
          <a:ln w="0">
            <a:noFill/>
          </a:ln>
        </p:spPr>
      </p:pic>
      <p:pic>
        <p:nvPicPr>
          <p:cNvPr id="248" name="Εικόνα 9" descr=""/>
          <p:cNvPicPr/>
          <p:nvPr/>
        </p:nvPicPr>
        <p:blipFill>
          <a:blip r:embed="rId7"/>
          <a:stretch/>
        </p:blipFill>
        <p:spPr>
          <a:xfrm>
            <a:off x="7547040" y="1343160"/>
            <a:ext cx="1843200" cy="2253960"/>
          </a:xfrm>
          <a:prstGeom prst="rect">
            <a:avLst/>
          </a:prstGeom>
          <a:ln w="0">
            <a:noFill/>
          </a:ln>
        </p:spPr>
      </p:pic>
      <p:sp>
        <p:nvSpPr>
          <p:cNvPr id="249" name="Ορθογώνιο 3"/>
          <p:cNvSpPr/>
          <p:nvPr/>
        </p:nvSpPr>
        <p:spPr>
          <a:xfrm>
            <a:off x="966960" y="3710160"/>
            <a:ext cx="90658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3. Κόβουμε το μέρος από το ξυλάκι που περισσεύει και στη συνέχεια βάζουμε χαρτοταινία για να μην κουνιούνται τα ξυλάκια από τη θέση τους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Εικόνα 11" descr=""/>
          <p:cNvPicPr/>
          <p:nvPr/>
        </p:nvPicPr>
        <p:blipFill>
          <a:blip r:embed="rId8"/>
          <a:stretch/>
        </p:blipFill>
        <p:spPr>
          <a:xfrm>
            <a:off x="1633680" y="4481640"/>
            <a:ext cx="1841400" cy="2419200"/>
          </a:xfrm>
          <a:prstGeom prst="rect">
            <a:avLst/>
          </a:prstGeom>
          <a:ln w="0">
            <a:noFill/>
          </a:ln>
        </p:spPr>
      </p:pic>
      <p:pic>
        <p:nvPicPr>
          <p:cNvPr id="251" name="Εικόνα 12" descr=""/>
          <p:cNvPicPr/>
          <p:nvPr/>
        </p:nvPicPr>
        <p:blipFill>
          <a:blip r:embed="rId9"/>
          <a:stretch/>
        </p:blipFill>
        <p:spPr>
          <a:xfrm>
            <a:off x="4095720" y="4481640"/>
            <a:ext cx="1841400" cy="236988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13" descr=""/>
          <p:cNvPicPr/>
          <p:nvPr/>
        </p:nvPicPr>
        <p:blipFill>
          <a:blip r:embed="rId10"/>
          <a:stretch/>
        </p:blipFill>
        <p:spPr>
          <a:xfrm>
            <a:off x="6558120" y="4470480"/>
            <a:ext cx="178884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796680" y="2700360"/>
            <a:ext cx="1139508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5. Ρίχνουμε στο εσωτερικό του σωλήνα όσπρια, σπόρια κ.α. και πειραματιζόμαστε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ε τον ήχο. Βάζουμε υλικά που έχουν διαφορετικό μέγεθος ώστε να κυλάνε πιο αργά και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να έχουμε διάρκεια στον ήχο. Φτιάχνουμε χάρτινα καπάκια για να κλείσουμε τα δύο 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νοίγματα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4" name="Εικόνα 3" descr=""/>
          <p:cNvPicPr/>
          <p:nvPr/>
        </p:nvPicPr>
        <p:blipFill>
          <a:blip r:embed="rId1"/>
          <a:stretch/>
        </p:blipFill>
        <p:spPr>
          <a:xfrm>
            <a:off x="10063080" y="195588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55" name="Εικόνα 4" descr=""/>
          <p:cNvPicPr/>
          <p:nvPr/>
        </p:nvPicPr>
        <p:blipFill>
          <a:blip r:embed="rId2"/>
          <a:stretch/>
        </p:blipFill>
        <p:spPr>
          <a:xfrm>
            <a:off x="10063080" y="458640"/>
            <a:ext cx="1462320" cy="1244880"/>
          </a:xfrm>
          <a:prstGeom prst="rect">
            <a:avLst/>
          </a:prstGeom>
          <a:ln w="0">
            <a:noFill/>
          </a:ln>
        </p:spPr>
      </p:pic>
      <p:pic>
        <p:nvPicPr>
          <p:cNvPr id="256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57" name="Θέση περιεχομένου 2"/>
          <p:cNvSpPr/>
          <p:nvPr/>
        </p:nvSpPr>
        <p:spPr>
          <a:xfrm flipV="1">
            <a:off x="666720" y="6857280"/>
            <a:ext cx="9047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Ορθογώνιο 2"/>
          <p:cNvSpPr/>
          <p:nvPr/>
        </p:nvSpPr>
        <p:spPr>
          <a:xfrm>
            <a:off x="992160" y="117360"/>
            <a:ext cx="684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4. Στολίζουμε εξωτερικά τη ράβδο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Εικόνα 9" descr=""/>
          <p:cNvPicPr/>
          <p:nvPr/>
        </p:nvPicPr>
        <p:blipFill>
          <a:blip r:embed="rId4"/>
          <a:stretch/>
        </p:blipFill>
        <p:spPr>
          <a:xfrm>
            <a:off x="992160" y="577800"/>
            <a:ext cx="1892160" cy="206064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10" descr=""/>
          <p:cNvPicPr/>
          <p:nvPr/>
        </p:nvPicPr>
        <p:blipFill>
          <a:blip r:embed="rId5"/>
          <a:stretch/>
        </p:blipFill>
        <p:spPr>
          <a:xfrm>
            <a:off x="3519360" y="577800"/>
            <a:ext cx="1743120" cy="203040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11" descr=""/>
          <p:cNvPicPr/>
          <p:nvPr/>
        </p:nvPicPr>
        <p:blipFill>
          <a:blip r:embed="rId6"/>
          <a:stretch/>
        </p:blipFill>
        <p:spPr>
          <a:xfrm>
            <a:off x="5897520" y="577800"/>
            <a:ext cx="1801800" cy="206064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12" descr=""/>
          <p:cNvPicPr/>
          <p:nvPr/>
        </p:nvPicPr>
        <p:blipFill>
          <a:blip r:embed="rId7"/>
          <a:stretch/>
        </p:blipFill>
        <p:spPr>
          <a:xfrm>
            <a:off x="3432240" y="4078440"/>
            <a:ext cx="186372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717480"/>
            <a:ext cx="964260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5b74"/>
                </a:solidFill>
                <a:uFillTx/>
                <a:latin typeface="Franklin Gothic Book"/>
              </a:rPr>
              <a:t>Que llueva</a:t>
            </a:r>
            <a:r>
              <a:rPr b="0" lang="el-GR" sz="4400" spc="-1" strike="noStrike" u="sng">
                <a:solidFill>
                  <a:srgbClr val="335b74"/>
                </a:solidFill>
                <a:uFillTx/>
                <a:latin typeface="Franklin Gothic Book"/>
              </a:rPr>
              <a:t> </a:t>
            </a: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(τραγούδι από το </a:t>
            </a: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Μεξικό, αφιερωμένο στη βροχή)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4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4" descr=""/>
          <p:cNvPicPr/>
          <p:nvPr/>
        </p:nvPicPr>
        <p:blipFill>
          <a:blip r:embed="rId2"/>
          <a:stretch/>
        </p:blipFill>
        <p:spPr>
          <a:xfrm>
            <a:off x="10063080" y="5778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66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  <p:pic>
        <p:nvPicPr>
          <p:cNvPr id="267" name="Θέση περιεχομένου 6" descr=""/>
          <p:cNvPicPr/>
          <p:nvPr/>
        </p:nvPicPr>
        <p:blipFill>
          <a:blip r:embed="rId4"/>
          <a:stretch/>
        </p:blipFill>
        <p:spPr>
          <a:xfrm>
            <a:off x="1763640" y="2376360"/>
            <a:ext cx="698832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449280"/>
            <a:ext cx="8761320" cy="73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9000"/>
              </a:lnSpc>
              <a:buClr>
                <a:srgbClr val="335b7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335b74"/>
                </a:solidFill>
                <a:uFillTx/>
                <a:latin typeface="Franklin Gothic Book"/>
              </a:rPr>
              <a:t>Ο θρύλος του γεφυριού της Άρτας- </a:t>
            </a:r>
            <a:r>
              <a:rPr b="1" lang="el-GR" sz="2400" spc="-1" strike="noStrike">
                <a:solidFill>
                  <a:srgbClr val="335b74"/>
                </a:solidFill>
                <a:latin typeface="Franklin Gothic Book"/>
              </a:rPr>
              <a:t>βίντεο </a:t>
            </a:r>
            <a:r>
              <a:rPr b="1" lang="en-US" sz="2400" spc="-1" strike="noStrike">
                <a:solidFill>
                  <a:srgbClr val="335b74"/>
                </a:solidFill>
                <a:latin typeface="Franklin Gothic Book"/>
              </a:rPr>
              <a:t>animation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52200" y="448920"/>
            <a:ext cx="9110520" cy="63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1"/>
              </a:rPr>
              <a:t>https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2"/>
              </a:rPr>
              <a:t>://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3"/>
              </a:rPr>
              <a:t>www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4"/>
              </a:rPr>
              <a:t>.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5"/>
              </a:rPr>
              <a:t>youtube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7"/>
              </a:rPr>
              <a:t>com</a:t>
            </a:r>
            <a:r>
              <a:rPr b="0" lang="el-GR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8"/>
              </a:rPr>
              <a:t>/</a:t>
            </a:r>
            <a:r>
              <a:rPr b="1" lang="en-US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watch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?</a:t>
            </a:r>
            <a:r>
              <a:rPr b="1" lang="en-US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v</a:t>
            </a:r>
            <a:r>
              <a:rPr b="1" lang="el-GR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=</a:t>
            </a:r>
            <a:r>
              <a:rPr b="1" lang="en-US" sz="2000" spc="-1" strike="noStrike" u="sng">
                <a:solidFill>
                  <a:srgbClr val="335b74"/>
                </a:solidFill>
                <a:uFillTx/>
                <a:latin typeface="Franklin Gothic Book"/>
              </a:rPr>
              <a:t>lgOSnedhJxs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335b74"/>
                </a:solidFill>
                <a:uFillTx/>
                <a:latin typeface="Franklin Gothic Book"/>
              </a:rPr>
              <a:t>Θέατρο μπροστά σ’ ένα μικρόφωνο </a:t>
            </a:r>
            <a:endParaRPr b="0" lang="en-US" sz="24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Franklin Gothic Book"/>
              </a:rPr>
              <a:t>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Ο παρακάτω σύνδεσμος σας δίνει τη δυνατότητα να ακούσετε συμμετοχές μαθητών στον ραδιοφωνικό διαγωνισμ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YOUTH THEATRE ON AIR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. Στον διαγωνισμό αυτό συμμετείχε  και το έργο «Του γιοφυριού της ‘Άρτας», στην 4</a:t>
            </a:r>
            <a:r>
              <a:rPr b="0" lang="el-GR" sz="18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 Διεθνή Συνάντηση/ Φεστιβάλ, με το οποίο διακριθήκαμε και αποσπάσαμε τον τίτλο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: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Calibri"/>
              </a:rPr>
              <a:t>«Έπαινος μουσικής υπόκρουσης ραδιοφωνικού θεάτρου».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Franklin Gothic Book"/>
                <a:ea typeface="Calibri"/>
              </a:rPr>
              <a:t>https://www.dramacenter.gr/copy-of-theatro-mprosta-apo-ena-mik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70" name="Εικόνα 3" descr=""/>
          <p:cNvPicPr/>
          <p:nvPr/>
        </p:nvPicPr>
        <p:blipFill>
          <a:blip r:embed="rId9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71" name="Εικόνα 4" descr=""/>
          <p:cNvPicPr/>
          <p:nvPr/>
        </p:nvPicPr>
        <p:blipFill>
          <a:blip r:embed="rId10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72" name="Εικόνα 5" descr=""/>
          <p:cNvPicPr/>
          <p:nvPr/>
        </p:nvPicPr>
        <p:blipFill>
          <a:blip r:embed="rId11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601200" cy="73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Έπαινος μουσικής υπόκρουση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74" name="Εικόνα 4" descr=""/>
          <p:cNvPicPr/>
          <p:nvPr/>
        </p:nvPicPr>
        <p:blipFill>
          <a:blip r:embed="rId1"/>
          <a:stretch/>
        </p:blipFill>
        <p:spPr>
          <a:xfrm>
            <a:off x="10090080" y="152280"/>
            <a:ext cx="1462320" cy="1462320"/>
          </a:xfrm>
          <a:prstGeom prst="rect">
            <a:avLst/>
          </a:prstGeom>
          <a:ln w="0">
            <a:noFill/>
          </a:ln>
        </p:spPr>
      </p:pic>
      <p:pic>
        <p:nvPicPr>
          <p:cNvPr id="275" name="Εικόνα 3" descr=""/>
          <p:cNvPicPr/>
          <p:nvPr/>
        </p:nvPicPr>
        <p:blipFill>
          <a:blip r:embed="rId2"/>
          <a:stretch/>
        </p:blipFill>
        <p:spPr>
          <a:xfrm>
            <a:off x="9941040" y="2147760"/>
            <a:ext cx="1811160" cy="2737080"/>
          </a:xfrm>
          <a:prstGeom prst="rect">
            <a:avLst/>
          </a:prstGeom>
          <a:ln w="0">
            <a:noFill/>
          </a:ln>
        </p:spPr>
      </p:pic>
      <p:pic>
        <p:nvPicPr>
          <p:cNvPr id="276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96280" y="51721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77" name="Εικόνα 6" descr=""/>
          <p:cNvPicPr/>
          <p:nvPr/>
        </p:nvPicPr>
        <p:blipFill>
          <a:blip r:embed="rId4"/>
          <a:stretch/>
        </p:blipFill>
        <p:spPr>
          <a:xfrm>
            <a:off x="1467000" y="1587600"/>
            <a:ext cx="69404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7:25:28Z</dcterms:modified>
  <cp:revision>208</cp:revision>
  <dc:subject/>
  <dc:title>Παρουσίαση του PowerPoint</dc:title>
</cp:coreProperties>
</file>