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CE9-EDD1-4A0F-8D65-99BDA42C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451-727A-4A97-85DC-C20D872B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9F6-44A6-470E-8880-7E92F757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B16-7925-4979-ADB6-8A60F69F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0D17-45F1-4304-8933-BB0B5722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3D82-6848-4DB2-BB0E-E5A8D017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FE95-FF32-4CBE-BF58-65057AA7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F056-C90D-4351-B4D9-64656D54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D13B-0FD5-4C08-A147-0560562E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663C-F49D-493F-B0FB-D47637E2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3EC4-545D-4C94-AA5F-54225A8B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644-8074-4FBA-B41E-56B7EBD1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CC38-F547-4D4F-B339-CAD590A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D48-CAC0-422C-8548-8DC87818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B67F-73E4-4AD8-9354-698A7BA2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2BFE-9242-428F-A433-2CE96393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AAA1-BF6A-4D5D-971C-50666B85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B2C4-D3A1-4436-8839-2423E2F3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B956-8D6E-44EC-A6E8-23A652D7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ECB65-7CF7-4685-BFBE-55528F4C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C02B-24B4-48A9-B891-01E76A80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451C-B477-4704-9756-0D2F6F7E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91A-E9E9-4E82-9654-68B96D02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2A7C-68C5-4710-87A9-62B10566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94A2-AF07-4076-8E08-C627C175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EA54-E126-432A-9E55-646F7C32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F9BC4-4EAE-4AC2-B5D9-E311BB28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7A7F7-E049-45A9-A6C4-E7EDA912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9B79-D733-42BB-AB27-9175FAE0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911A-202D-48EF-8A7B-2EA9FB7E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28B0-5201-4140-8118-20665695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E912-37BE-4DC0-9DC2-BC8E1D78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157F7-1F32-42BF-9582-D12296A9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0D8-B7CA-4B9E-9418-967CB7F5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F101-4741-41B9-BF10-E7B83968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44F63-DA66-4771-9938-79E445F0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99C74-42CD-4882-9CDD-44EE9633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1A4D-A63A-4191-8012-BCC185ED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857A-1B35-428C-87B2-F9A3F465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734F-11DF-43F2-AA78-7682575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895A-1E3E-44B2-B614-616A70C6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0D3A-D87B-49AC-911E-FE557D63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3CC9F-5554-43ED-9ACC-19106542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1AA6B-F350-4A40-842C-4D26E018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1BE-A5EF-4464-871E-A8C404C6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4A11C-3CE9-42EC-8857-025A7E85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07F36-97E3-4342-81A1-6AAC594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087C2-9353-436C-BFC8-0DEF4F12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4D790-72A2-40C1-A6CA-C03FC351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AD02A-E940-4654-826F-1E78E2AB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B403B-8CD2-4DB7-AFE1-F4E4F802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AD507-95DD-4C54-A7A0-2B37CEA0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594FC-2AB8-417F-803C-E42525B9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35E95-64AC-4CF2-831D-76AB88EE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795BF-23D6-47D8-A82D-076878A6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4E7-98BA-4FF0-BEF0-88CD92C2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AFD3C-3929-4329-AE88-1AF0C104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236-D125-447F-B085-3F7899B6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862-E2B9-47EC-AC77-CC728C36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389-08A8-45FC-9C09-A5C02FCF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91670-8089-4EEA-874A-21AF3FA4BD40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custGeom>
              <a:avLst/>
              <a:gdLst>
                <a:gd name="textAreaLeft" fmla="*/ 0 w 3274920"/>
                <a:gd name="textAreaRight" fmla="*/ 327528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custGeom>
              <a:avLst/>
              <a:gdLst>
                <a:gd name="textAreaLeft" fmla="*/ -360 w 3274920"/>
                <a:gd name="textAreaRight" fmla="*/ 327492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C07D2-1189-468E-AA5F-6CB80EFF1629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4408560"/>
              <a:gd name="textAreaBottom" fmla="*/ 4408920 h 4408560"/>
            </a:gdLst>
            <a:ahLst/>
            <a:rect l="textAreaLeft" t="textAreaTop" r="textAreaRight" b="textAreaBottom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84AC2-48A3-471A-8833-2D566DC9435F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352D8-7F1A-4417-B9D7-A4E4DF75657F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56BCB-B49A-4C77-809B-A511E7B2C4A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1482ac"/>
                </a:solidFill>
                <a:latin typeface="Franklin Gothic Book"/>
              </a:rPr>
              <a:t>Μαθαίνω για τα αγγεία</a:t>
            </a:r>
            <a:endParaRPr b="0" lang="en-US" sz="6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92120" y="4038480"/>
            <a:ext cx="48182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Δημιουργός/οί:  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ΣΤΟΥΚΑ ΝΕΚΤΑΡΙΑ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ΚΡΑΜΠΗ ΑΓΓΕΛΙΚΗ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ΜΠΙΖΑΣ ΜΑΡΚΟΣ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1030320" y="92880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201680" y="1247760"/>
            <a:ext cx="1811520" cy="270972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6120" y="219240"/>
            <a:ext cx="749124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70c0"/>
                </a:solidFill>
                <a:uFillTx/>
                <a:latin typeface="Franklin Gothic Book"/>
              </a:rPr>
              <a:t>Δραστηριότητες για την τάξη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71600" y="2638080"/>
            <a:ext cx="96012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Τίτλος 1"/>
          <p:cNvSpPr/>
          <p:nvPr/>
        </p:nvSpPr>
        <p:spPr>
          <a:xfrm>
            <a:off x="5521320" y="884160"/>
            <a:ext cx="406080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ΠΟΙΗΜΑ</a:t>
            </a:r>
            <a:r>
              <a:rPr b="1" lang="en-US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ff"/>
                </a:solidFill>
                <a:latin typeface="Franklin Gothic Book"/>
                <a:ea typeface="Arial"/>
              </a:rPr>
              <a:t>«Αγγειο-ποίημα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Εικόνα 2" descr=""/>
          <p:cNvPicPr/>
          <p:nvPr/>
        </p:nvPicPr>
        <p:blipFill>
          <a:blip r:embed="rId4"/>
          <a:stretch/>
        </p:blipFill>
        <p:spPr>
          <a:xfrm>
            <a:off x="868320" y="884160"/>
            <a:ext cx="3963960" cy="4813200"/>
          </a:xfrm>
          <a:prstGeom prst="rect">
            <a:avLst/>
          </a:prstGeom>
          <a:ln w="0">
            <a:noFill/>
          </a:ln>
        </p:spPr>
      </p:pic>
      <p:pic>
        <p:nvPicPr>
          <p:cNvPr id="227" name="Εικόνα 4" descr=""/>
          <p:cNvPicPr/>
          <p:nvPr/>
        </p:nvPicPr>
        <p:blipFill>
          <a:blip r:embed="rId5"/>
          <a:stretch/>
        </p:blipFill>
        <p:spPr>
          <a:xfrm>
            <a:off x="5072040" y="2766960"/>
            <a:ext cx="40896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2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0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1" name="Τίτλος 1"/>
          <p:cNvSpPr/>
          <p:nvPr/>
        </p:nvSpPr>
        <p:spPr>
          <a:xfrm>
            <a:off x="1144440" y="187200"/>
            <a:ext cx="95346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    </a:t>
            </a:r>
            <a:r>
              <a:rPr b="1" lang="el-GR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ΔΗΜΙΟΥΡΓΙΑ </a:t>
            </a:r>
            <a:r>
              <a:rPr b="1" lang="en-US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 COMIC</a:t>
            </a:r>
            <a:br>
              <a:rPr sz="4400"/>
            </a:br>
            <a:r>
              <a:rPr b="1" lang="el-GR" sz="4000" spc="-1" strike="noStrike">
                <a:solidFill>
                  <a:srgbClr val="0000ff"/>
                </a:solidFill>
                <a:latin typeface="Franklin Gothic Book"/>
                <a:ea typeface="Arial"/>
              </a:rPr>
              <a:t>«Ένα αγγείο διηγείται την ιστορία το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Εικόνα 1" descr=""/>
          <p:cNvPicPr/>
          <p:nvPr/>
        </p:nvPicPr>
        <p:blipFill>
          <a:blip r:embed="rId4"/>
          <a:stretch/>
        </p:blipFill>
        <p:spPr>
          <a:xfrm>
            <a:off x="3832200" y="1386000"/>
            <a:ext cx="3013200" cy="2259000"/>
          </a:xfrm>
          <a:prstGeom prst="rect">
            <a:avLst/>
          </a:prstGeom>
          <a:ln w="0">
            <a:noFill/>
          </a:ln>
        </p:spPr>
      </p:pic>
      <p:pic>
        <p:nvPicPr>
          <p:cNvPr id="233" name="Εικόνα 3" descr=""/>
          <p:cNvPicPr/>
          <p:nvPr/>
        </p:nvPicPr>
        <p:blipFill>
          <a:blip r:embed="rId5"/>
          <a:stretch/>
        </p:blipFill>
        <p:spPr>
          <a:xfrm>
            <a:off x="1076400" y="3749760"/>
            <a:ext cx="79344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5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3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7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38" name="Τίτλος 1"/>
          <p:cNvSpPr/>
          <p:nvPr/>
        </p:nvSpPr>
        <p:spPr>
          <a:xfrm>
            <a:off x="1136520" y="216000"/>
            <a:ext cx="10267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e5772"/>
                </a:solidFill>
                <a:latin typeface="Franklin Gothic Book"/>
                <a:ea typeface="Arial"/>
              </a:rPr>
              <a:t>ΚΑΤΑΣΚΕΥΗ ΑΓΓΕΙΟΥ ΜΕ ΠΗΛ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Εικόνα 2" descr=""/>
          <p:cNvPicPr/>
          <p:nvPr/>
        </p:nvPicPr>
        <p:blipFill>
          <a:blip r:embed="rId4"/>
          <a:stretch/>
        </p:blipFill>
        <p:spPr>
          <a:xfrm>
            <a:off x="749160" y="849240"/>
            <a:ext cx="4094280" cy="2710080"/>
          </a:xfrm>
          <a:prstGeom prst="rect">
            <a:avLst/>
          </a:prstGeom>
          <a:ln w="0">
            <a:noFill/>
          </a:ln>
        </p:spPr>
      </p:pic>
      <p:pic>
        <p:nvPicPr>
          <p:cNvPr id="240" name="Εικόνα 3" descr=""/>
          <p:cNvPicPr/>
          <p:nvPr/>
        </p:nvPicPr>
        <p:blipFill>
          <a:blip r:embed="rId5"/>
          <a:stretch/>
        </p:blipFill>
        <p:spPr>
          <a:xfrm>
            <a:off x="749160" y="3676680"/>
            <a:ext cx="4094280" cy="29336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6" descr=""/>
          <p:cNvPicPr/>
          <p:nvPr/>
        </p:nvPicPr>
        <p:blipFill>
          <a:blip r:embed="rId6"/>
          <a:stretch/>
        </p:blipFill>
        <p:spPr>
          <a:xfrm>
            <a:off x="4924440" y="849240"/>
            <a:ext cx="4259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914400" y="212760"/>
            <a:ext cx="960120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3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5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6" name="Ορθογώνιο 1"/>
          <p:cNvSpPr/>
          <p:nvPr/>
        </p:nvSpPr>
        <p:spPr>
          <a:xfrm>
            <a:off x="990720" y="65160"/>
            <a:ext cx="7429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6000" spc="-1" strike="noStrike">
                <a:solidFill>
                  <a:srgbClr val="0e5772"/>
                </a:solidFill>
                <a:latin typeface="Franklin Gothic Book"/>
              </a:rPr>
              <a:t>ΕΡΩΤΗΜΑΤΟΛΟΓΙ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e5772"/>
                </a:solidFill>
                <a:latin typeface="Franklin Gothic Book"/>
              </a:rPr>
              <a:t>(</a:t>
            </a:r>
            <a:r>
              <a:rPr b="1" lang="en-US" sz="2800" spc="-1" strike="noStrike">
                <a:solidFill>
                  <a:srgbClr val="0e5772"/>
                </a:solidFill>
                <a:latin typeface="Franklin Gothic Book"/>
              </a:rPr>
              <a:t>google f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Εικόνα 3" descr=""/>
          <p:cNvPicPr/>
          <p:nvPr/>
        </p:nvPicPr>
        <p:blipFill>
          <a:blip r:embed="rId4"/>
          <a:stretch/>
        </p:blipFill>
        <p:spPr>
          <a:xfrm>
            <a:off x="5369040" y="939960"/>
            <a:ext cx="4344840" cy="323208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4" descr=""/>
          <p:cNvPicPr/>
          <p:nvPr/>
        </p:nvPicPr>
        <p:blipFill>
          <a:blip r:embed="rId5"/>
          <a:stretch/>
        </p:blipFill>
        <p:spPr>
          <a:xfrm>
            <a:off x="754200" y="3308400"/>
            <a:ext cx="45385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69840" y="2160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e5772"/>
                </a:solidFill>
                <a:latin typeface="Franklin Gothic Book"/>
              </a:rPr>
              <a:t>Εργαστήριο αγγειοπλαστικής σήμερα</a:t>
            </a:r>
            <a:br>
              <a:rPr sz="4400"/>
            </a:b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0" name="Θέση περιεχομένου 1" descr=""/>
          <p:cNvPicPr/>
          <p:nvPr/>
        </p:nvPicPr>
        <p:blipFill>
          <a:blip r:embed="rId1"/>
          <a:stretch/>
        </p:blipFill>
        <p:spPr>
          <a:xfrm>
            <a:off x="1260360" y="1251000"/>
            <a:ext cx="7902720" cy="435600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54" name="Ορθογώνιο 2"/>
          <p:cNvSpPr/>
          <p:nvPr/>
        </p:nvSpPr>
        <p:spPr>
          <a:xfrm>
            <a:off x="1894680" y="578952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ίντεο απ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0160" y="0"/>
            <a:ext cx="930456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e5772"/>
                </a:solidFill>
                <a:latin typeface="Franklin Gothic Book"/>
              </a:rPr>
              <a:t>Οι μορφές των αγγείων αποκτούν ζωή»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6" name="Θέση περιεχομένου 1" descr=""/>
          <p:cNvPicPr/>
          <p:nvPr/>
        </p:nvPicPr>
        <p:blipFill>
          <a:blip r:embed="rId1"/>
          <a:stretch/>
        </p:blipFill>
        <p:spPr>
          <a:xfrm>
            <a:off x="2935440" y="727200"/>
            <a:ext cx="5151240" cy="557820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3" descr=""/>
          <p:cNvPicPr/>
          <p:nvPr/>
        </p:nvPicPr>
        <p:blipFill>
          <a:blip r:embed="rId2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58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59" name="Εικόνα 5" descr=""/>
          <p:cNvPicPr/>
          <p:nvPr/>
        </p:nvPicPr>
        <p:blipFill>
          <a:blip r:embed="rId4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  <p:sp>
        <p:nvSpPr>
          <p:cNvPr id="260" name="Ορθογώνιο 2"/>
          <p:cNvSpPr/>
          <p:nvPr/>
        </p:nvSpPr>
        <p:spPr>
          <a:xfrm>
            <a:off x="2935440" y="6305400"/>
            <a:ext cx="58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ίντεο απ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SOFIA</cp:lastModifiedBy>
  <dcterms:modified xsi:type="dcterms:W3CDTF">2023-11-29T18:51:51Z</dcterms:modified>
  <cp:revision>134</cp:revision>
  <dc:subject/>
  <dc:title>Παρουσίαση του PowerPoint</dc:title>
</cp:coreProperties>
</file>