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155B-D25B-4FFE-9256-5F7BF45A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1B1-C9EE-4B48-B985-0DF74923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758-EB6E-4AA9-A7FC-4A3E00BD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40A7-8852-4D12-92A1-C875055C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C888-061C-4A19-A7F5-B8D30C6D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FCEE-56FF-43FF-9CBA-8BD9A4C5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C32E-E089-4E67-B9F8-47104D2C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C991-6A6E-4918-8428-1BDE9B30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75D8-CD00-4EDD-8296-4AB92F03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211E-226A-4A68-8846-DE5F76A2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9890-5134-4144-A8F7-782A7D83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A7F-EF45-4A82-A0AA-F9A6C525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6D49-7D24-4145-AFB6-C68F76B1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3603-9DD6-41AD-A82F-7151F0E6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545C-3F42-457B-8D44-4E944606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529A-A289-43C1-B58A-A6C75745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75D5-5DEC-4D4B-8AFD-037FBA5D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721AA-621F-4E13-9658-8C415EA1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4ED6A-C402-4FEF-AE96-CB5563E8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12071-6E6C-49DC-AC71-793BBC74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9A4A9-9F4E-4E97-8F4E-A1EA3AFA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48536-0697-4FDC-A6F8-DDC65DFF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DFC-1AEC-4240-AC15-70A122F1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28F9E-8291-4CDE-A3A4-C212F386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1D94A-75D9-4A10-B33E-D23E05F3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49B20-19C9-437C-857A-D99F4B61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207CD-5CF1-4843-A422-9417501B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0939A-F72A-44FA-B0B9-EA552C66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DFEC3-4FB2-4867-BF9D-53E19B57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6D01F-47E9-4AEE-BB8A-136E4B62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65EE3-43EF-4E59-A7A2-223E6A70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DE083-6E0C-4F6D-9612-DE82D1B3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3D510-9F67-4E0D-86C4-98033AA2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B9D-DA75-4FF9-9A18-C1A9184C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89EBC-1FB0-40C1-9CA8-B2D2C6E3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D09E0-3830-48D9-97E5-024F0AF6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3F302-0DD6-480A-B8F9-11CD5108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6C234-FA95-41E1-AF17-7C783C17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E5FBB-0CA3-404B-A366-95581D6B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B9A02-4BB1-4AA9-94E7-9B6715E1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2292D-A066-436C-A4B4-AB766AE1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2450C-4514-4803-A6AF-13EF43DD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F4426-A87A-4AC1-9F4C-797FE199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435D0-0D30-42EC-A644-1679F45B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B9D-F149-473C-9C3B-5A2990D0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8A851-DC9A-4134-944A-FFFB8B59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83593-E3B6-4CDB-9CD6-776DD86E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4C604-51B0-4AA2-9B73-0936C00A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781CD-CD08-405E-BA2A-DF2F0B92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E4D22-9299-4F0B-B5A8-41D5532E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3E8D0-35C4-4B68-A114-59A1E2FE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EF5B5-DB39-4F41-B2D7-84B94754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78D5D-670D-4E37-9756-E381D842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1E86A-EEBE-4064-9D52-F5274482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55BCF-AAD6-43B0-8CE1-26600B6A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111-E55F-4D3C-B1ED-84AE1D13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E2CDC-5CC3-40FA-9E15-0EBEC478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6BA4-8994-4C4E-84FE-F7E2C45F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73AB-BE8F-46B8-8E1F-CBFA1AB1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AE3E-E55E-4A45-B264-8A4A29AF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7D90F-3307-4A2C-B046-96F7D99D30BC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custGeom>
              <a:avLst/>
              <a:gdLst>
                <a:gd name="textAreaLeft" fmla="*/ 0 w 3274920"/>
                <a:gd name="textAreaRight" fmla="*/ 3275280 w 3274920"/>
                <a:gd name="textAreaTop" fmla="*/ 0 h 4408560"/>
                <a:gd name="textAreaBottom" fmla="*/ 4408560 h 4408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custGeom>
              <a:avLst/>
              <a:gdLst>
                <a:gd name="textAreaLeft" fmla="*/ -360 w 3274920"/>
                <a:gd name="textAreaRight" fmla="*/ 3274920 w 3274920"/>
                <a:gd name="textAreaTop" fmla="*/ 0 h 4408560"/>
                <a:gd name="textAreaBottom" fmla="*/ 4408560 h 4408560"/>
              </a:gdLst>
              <a:ahLst/>
              <a:rect l="textAreaLeft" t="textAreaTop" r="textAreaRight" b="textAreaBottom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23C38-E662-49CB-865B-F14000F21532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custGeom>
            <a:avLst/>
            <a:gdLst>
              <a:gd name="textAreaLeft" fmla="*/ 0 w 3274920"/>
              <a:gd name="textAreaRight" fmla="*/ 3275280 w 3274920"/>
              <a:gd name="textAreaTop" fmla="*/ 0 h 4408560"/>
              <a:gd name="textAreaBottom" fmla="*/ 4408920 h 4408560"/>
            </a:gdLst>
            <a:ahLst/>
            <a:rect l="textAreaLeft" t="textAreaTop" r="textAreaRight" b="textAreaBottom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09D05-BEC7-4B13-A65B-DFC707C7D2BB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1C0D8-A4D4-4602-8A39-314AFD7F7C63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033E2-7C85-400A-B387-DF160AD9511D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62120" y="2071440"/>
            <a:ext cx="826776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1482ac"/>
                </a:solidFill>
                <a:latin typeface="Franklin Gothic Book"/>
              </a:rPr>
              <a:t>Μαθαίνω για τα αγγεία</a:t>
            </a:r>
            <a:endParaRPr b="0" lang="en-US" sz="6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92120" y="4038480"/>
            <a:ext cx="48182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Δημιουργός/οί:  </a:t>
            </a: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ΣΤΟΥΚΑ ΝΕΚΤΑΡΙΑ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ΚΡΑΜΠΗ ΑΓΓΕΛΙΚΗ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ΜΠΙΖΑΣ ΜΑΡΚΟΣ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6" name="Ορθογώνιο 3"/>
          <p:cNvSpPr/>
          <p:nvPr/>
        </p:nvSpPr>
        <p:spPr>
          <a:xfrm>
            <a:off x="1030320" y="92880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5" descr=""/>
          <p:cNvPicPr/>
          <p:nvPr/>
        </p:nvPicPr>
        <p:blipFill>
          <a:blip r:embed="rId2"/>
          <a:stretch/>
        </p:blipFill>
        <p:spPr>
          <a:xfrm>
            <a:off x="1201680" y="1247760"/>
            <a:ext cx="1811520" cy="2709720"/>
          </a:xfrm>
          <a:prstGeom prst="rect">
            <a:avLst/>
          </a:prstGeom>
          <a:ln w="0">
            <a:noFill/>
          </a:ln>
        </p:spPr>
      </p:pic>
      <p:pic>
        <p:nvPicPr>
          <p:cNvPr id="219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6120" y="219240"/>
            <a:ext cx="7491240" cy="7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0070c0"/>
                </a:solidFill>
                <a:uFillTx/>
                <a:latin typeface="Franklin Gothic Book"/>
              </a:rPr>
              <a:t>Δραστηριότητες για την τάξη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371600" y="2638080"/>
            <a:ext cx="960120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2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25" name="Τίτλος 1"/>
          <p:cNvSpPr/>
          <p:nvPr/>
        </p:nvSpPr>
        <p:spPr>
          <a:xfrm>
            <a:off x="5521320" y="884160"/>
            <a:ext cx="406080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35b74"/>
                </a:solidFill>
                <a:latin typeface="Franklin Gothic Book"/>
                <a:ea typeface="Arial"/>
              </a:rPr>
              <a:t>ΠΟΙΗΜΑ</a:t>
            </a:r>
            <a:r>
              <a:rPr b="1" lang="en-US" sz="4400" spc="-1" strike="noStrike">
                <a:solidFill>
                  <a:srgbClr val="335b74"/>
                </a:solidFill>
                <a:latin typeface="Franklin Gothic Book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ff"/>
                </a:solidFill>
                <a:latin typeface="Franklin Gothic Book"/>
                <a:ea typeface="Arial"/>
              </a:rPr>
              <a:t>«Αγγειο-ποίημα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Εικόνα 2" descr=""/>
          <p:cNvPicPr/>
          <p:nvPr/>
        </p:nvPicPr>
        <p:blipFill>
          <a:blip r:embed="rId4"/>
          <a:stretch/>
        </p:blipFill>
        <p:spPr>
          <a:xfrm>
            <a:off x="868320" y="884160"/>
            <a:ext cx="3963960" cy="4813200"/>
          </a:xfrm>
          <a:prstGeom prst="rect">
            <a:avLst/>
          </a:prstGeom>
          <a:ln w="0">
            <a:noFill/>
          </a:ln>
        </p:spPr>
      </p:pic>
      <p:pic>
        <p:nvPicPr>
          <p:cNvPr id="227" name="Εικόνα 4" descr=""/>
          <p:cNvPicPr/>
          <p:nvPr/>
        </p:nvPicPr>
        <p:blipFill>
          <a:blip r:embed="rId5"/>
          <a:stretch/>
        </p:blipFill>
        <p:spPr>
          <a:xfrm>
            <a:off x="5072040" y="2766960"/>
            <a:ext cx="40896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29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0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31" name="Τίτλος 1"/>
          <p:cNvSpPr/>
          <p:nvPr/>
        </p:nvSpPr>
        <p:spPr>
          <a:xfrm>
            <a:off x="1144440" y="187200"/>
            <a:ext cx="95346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  <a:ea typeface="Arial"/>
              </a:rPr>
              <a:t>    </a:t>
            </a:r>
            <a:r>
              <a:rPr b="1" lang="el-GR" sz="4400" spc="-1" strike="noStrike">
                <a:solidFill>
                  <a:srgbClr val="335b74"/>
                </a:solidFill>
                <a:latin typeface="Franklin Gothic Book"/>
                <a:ea typeface="Arial"/>
              </a:rPr>
              <a:t>ΔΗΜΙΟΥΡΓΙΑ </a:t>
            </a:r>
            <a:r>
              <a:rPr b="1" lang="en-US" sz="4400" spc="-1" strike="noStrike">
                <a:solidFill>
                  <a:srgbClr val="335b74"/>
                </a:solidFill>
                <a:latin typeface="Franklin Gothic Book"/>
                <a:ea typeface="Arial"/>
              </a:rPr>
              <a:t> COMIC</a:t>
            </a:r>
            <a:br>
              <a:rPr sz="4400"/>
            </a:br>
            <a:r>
              <a:rPr b="1" lang="el-GR" sz="4000" spc="-1" strike="noStrike">
                <a:solidFill>
                  <a:srgbClr val="0000ff"/>
                </a:solidFill>
                <a:latin typeface="Franklin Gothic Book"/>
                <a:ea typeface="Arial"/>
              </a:rPr>
              <a:t>«Ένα αγγείο διηγείται την ιστορία το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Εικόνα 1" descr=""/>
          <p:cNvPicPr/>
          <p:nvPr/>
        </p:nvPicPr>
        <p:blipFill>
          <a:blip r:embed="rId4"/>
          <a:stretch/>
        </p:blipFill>
        <p:spPr>
          <a:xfrm>
            <a:off x="3832200" y="1386000"/>
            <a:ext cx="3013200" cy="2259000"/>
          </a:xfrm>
          <a:prstGeom prst="rect">
            <a:avLst/>
          </a:prstGeom>
          <a:ln w="0">
            <a:noFill/>
          </a:ln>
        </p:spPr>
      </p:pic>
      <p:pic>
        <p:nvPicPr>
          <p:cNvPr id="233" name="Εικόνα 3" descr=""/>
          <p:cNvPicPr/>
          <p:nvPr/>
        </p:nvPicPr>
        <p:blipFill>
          <a:blip r:embed="rId5"/>
          <a:stretch/>
        </p:blipFill>
        <p:spPr>
          <a:xfrm>
            <a:off x="1076400" y="3749760"/>
            <a:ext cx="79344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79520" y="57960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5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36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7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sp>
        <p:nvSpPr>
          <p:cNvPr id="238" name="Τίτλος 1"/>
          <p:cNvSpPr/>
          <p:nvPr/>
        </p:nvSpPr>
        <p:spPr>
          <a:xfrm>
            <a:off x="1136520" y="216000"/>
            <a:ext cx="102679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e5772"/>
                </a:solidFill>
                <a:latin typeface="Franklin Gothic Book"/>
                <a:ea typeface="Arial"/>
              </a:rPr>
              <a:t>ΚΑΤΑΣΚΕΥΗ ΑΓΓΕΙΟΥ ΜΕ ΠΗΛ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Εικόνα 2" descr=""/>
          <p:cNvPicPr/>
          <p:nvPr/>
        </p:nvPicPr>
        <p:blipFill>
          <a:blip r:embed="rId4"/>
          <a:stretch/>
        </p:blipFill>
        <p:spPr>
          <a:xfrm>
            <a:off x="749160" y="849240"/>
            <a:ext cx="4094280" cy="2710080"/>
          </a:xfrm>
          <a:prstGeom prst="rect">
            <a:avLst/>
          </a:prstGeom>
          <a:ln w="0">
            <a:noFill/>
          </a:ln>
        </p:spPr>
      </p:pic>
      <p:pic>
        <p:nvPicPr>
          <p:cNvPr id="240" name="Εικόνα 3" descr=""/>
          <p:cNvPicPr/>
          <p:nvPr/>
        </p:nvPicPr>
        <p:blipFill>
          <a:blip r:embed="rId5"/>
          <a:stretch/>
        </p:blipFill>
        <p:spPr>
          <a:xfrm>
            <a:off x="749160" y="3676680"/>
            <a:ext cx="4094280" cy="2933640"/>
          </a:xfrm>
          <a:prstGeom prst="rect">
            <a:avLst/>
          </a:prstGeom>
          <a:ln w="0">
            <a:noFill/>
          </a:ln>
        </p:spPr>
      </p:pic>
      <p:pic>
        <p:nvPicPr>
          <p:cNvPr id="241" name="Εικόνα 6" descr=""/>
          <p:cNvPicPr/>
          <p:nvPr/>
        </p:nvPicPr>
        <p:blipFill>
          <a:blip r:embed="rId6"/>
          <a:stretch/>
        </p:blipFill>
        <p:spPr>
          <a:xfrm>
            <a:off x="4924440" y="849240"/>
            <a:ext cx="4259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914400" y="212760"/>
            <a:ext cx="960120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3" name="Εικόνα 3" descr=""/>
          <p:cNvPicPr/>
          <p:nvPr/>
        </p:nvPicPr>
        <p:blipFill>
          <a:blip r:embed="rId1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44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5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46" name="Ορθογώνιο 1"/>
          <p:cNvSpPr/>
          <p:nvPr/>
        </p:nvSpPr>
        <p:spPr>
          <a:xfrm>
            <a:off x="990720" y="65160"/>
            <a:ext cx="74293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6000" spc="-1" strike="noStrike">
                <a:solidFill>
                  <a:srgbClr val="0e5772"/>
                </a:solidFill>
                <a:latin typeface="Franklin Gothic Book"/>
              </a:rPr>
              <a:t>ΕΡΩΤΗΜΑΤΟΛΟΓΙ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>
                <a:solidFill>
                  <a:srgbClr val="0e5772"/>
                </a:solidFill>
                <a:latin typeface="Franklin Gothic Book"/>
              </a:rPr>
              <a:t>(</a:t>
            </a:r>
            <a:r>
              <a:rPr b="1" lang="en-US" sz="2800" spc="-1" strike="noStrike">
                <a:solidFill>
                  <a:srgbClr val="0e5772"/>
                </a:solidFill>
                <a:latin typeface="Franklin Gothic Book"/>
              </a:rPr>
              <a:t>google form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Εικόνα 3" descr=""/>
          <p:cNvPicPr/>
          <p:nvPr/>
        </p:nvPicPr>
        <p:blipFill>
          <a:blip r:embed="rId4"/>
          <a:stretch/>
        </p:blipFill>
        <p:spPr>
          <a:xfrm>
            <a:off x="5369040" y="939960"/>
            <a:ext cx="4344840" cy="3232080"/>
          </a:xfrm>
          <a:prstGeom prst="rect">
            <a:avLst/>
          </a:prstGeom>
          <a:ln w="0">
            <a:noFill/>
          </a:ln>
        </p:spPr>
      </p:pic>
      <p:pic>
        <p:nvPicPr>
          <p:cNvPr id="248" name="Εικόνα 4" descr=""/>
          <p:cNvPicPr/>
          <p:nvPr/>
        </p:nvPicPr>
        <p:blipFill>
          <a:blip r:embed="rId5"/>
          <a:stretch/>
        </p:blipFill>
        <p:spPr>
          <a:xfrm>
            <a:off x="754200" y="3308400"/>
            <a:ext cx="45385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69840" y="21600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e5772"/>
                </a:solidFill>
                <a:latin typeface="Franklin Gothic Book"/>
              </a:rPr>
              <a:t>Εργαστήριο αγγειοπλαστικής σήμερα</a:t>
            </a:r>
            <a:br>
              <a:rPr sz="4400"/>
            </a:b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0" name="Θέση περιεχομένου 1" descr=""/>
          <p:cNvPicPr/>
          <p:nvPr/>
        </p:nvPicPr>
        <p:blipFill>
          <a:blip r:embed="rId1"/>
          <a:stretch/>
        </p:blipFill>
        <p:spPr>
          <a:xfrm>
            <a:off x="1260360" y="1251000"/>
            <a:ext cx="7902720" cy="4356000"/>
          </a:xfrm>
          <a:prstGeom prst="rect">
            <a:avLst/>
          </a:prstGeom>
          <a:ln w="0">
            <a:noFill/>
          </a:ln>
        </p:spPr>
      </p:pic>
      <p:pic>
        <p:nvPicPr>
          <p:cNvPr id="251" name="Εικόνα 3" descr=""/>
          <p:cNvPicPr/>
          <p:nvPr/>
        </p:nvPicPr>
        <p:blipFill>
          <a:blip r:embed="rId2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53" name="Εικόνα 5" descr=""/>
          <p:cNvPicPr/>
          <p:nvPr/>
        </p:nvPicPr>
        <p:blipFill>
          <a:blip r:embed="rId4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54" name="Ορθογώνιο 2"/>
          <p:cNvSpPr/>
          <p:nvPr/>
        </p:nvSpPr>
        <p:spPr>
          <a:xfrm>
            <a:off x="1894680" y="578952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ίντεο απ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0160" y="0"/>
            <a:ext cx="930456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e5772"/>
                </a:solidFill>
                <a:latin typeface="Franklin Gothic Book"/>
              </a:rPr>
              <a:t>Οι μορφές των αγγείων αποκτούν ζωή»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6" name="Θέση περιεχομένου 1" descr=""/>
          <p:cNvPicPr/>
          <p:nvPr/>
        </p:nvPicPr>
        <p:blipFill>
          <a:blip r:embed="rId1"/>
          <a:stretch/>
        </p:blipFill>
        <p:spPr>
          <a:xfrm>
            <a:off x="2935440" y="727200"/>
            <a:ext cx="5151240" cy="5578200"/>
          </a:xfrm>
          <a:prstGeom prst="rect">
            <a:avLst/>
          </a:prstGeom>
          <a:ln w="0">
            <a:noFill/>
          </a:ln>
        </p:spPr>
      </p:pic>
      <p:pic>
        <p:nvPicPr>
          <p:cNvPr id="257" name="Εικόνα 3" descr=""/>
          <p:cNvPicPr/>
          <p:nvPr/>
        </p:nvPicPr>
        <p:blipFill>
          <a:blip r:embed="rId2"/>
          <a:stretch/>
        </p:blipFill>
        <p:spPr>
          <a:xfrm>
            <a:off x="9923400" y="2244600"/>
            <a:ext cx="1811520" cy="2605320"/>
          </a:xfrm>
          <a:prstGeom prst="rect">
            <a:avLst/>
          </a:prstGeom>
          <a:ln w="0">
            <a:noFill/>
          </a:ln>
        </p:spPr>
      </p:pic>
      <p:pic>
        <p:nvPicPr>
          <p:cNvPr id="258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428480"/>
          </a:xfrm>
          <a:prstGeom prst="rect">
            <a:avLst/>
          </a:prstGeom>
          <a:ln w="0">
            <a:noFill/>
          </a:ln>
        </p:spPr>
      </p:pic>
      <p:pic>
        <p:nvPicPr>
          <p:cNvPr id="259" name="Εικόνα 5" descr=""/>
          <p:cNvPicPr/>
          <p:nvPr/>
        </p:nvPicPr>
        <p:blipFill>
          <a:blip r:embed="rId4"/>
          <a:stretch/>
        </p:blipFill>
        <p:spPr>
          <a:xfrm>
            <a:off x="9282240" y="4960800"/>
            <a:ext cx="2752560" cy="1667160"/>
          </a:xfrm>
          <a:prstGeom prst="rect">
            <a:avLst/>
          </a:prstGeom>
          <a:ln w="0">
            <a:noFill/>
          </a:ln>
        </p:spPr>
      </p:pic>
      <p:sp>
        <p:nvSpPr>
          <p:cNvPr id="260" name="Ορθογώνιο 2"/>
          <p:cNvSpPr/>
          <p:nvPr/>
        </p:nvSpPr>
        <p:spPr>
          <a:xfrm>
            <a:off x="2935440" y="6305400"/>
            <a:ext cx="58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ίντεο απ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SOFIA</cp:lastModifiedBy>
  <dcterms:modified xsi:type="dcterms:W3CDTF">2023-11-29T18:51:51Z</dcterms:modified>
  <cp:revision>134</cp:revision>
  <dc:subject/>
  <dc:title>Παρουσίαση του PowerPoint</dc:title>
</cp:coreProperties>
</file>