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9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5.jpeg" ContentType="image/jpeg"/>
  <Override PartName="/ppt/media/image10.jpeg" ContentType="image/jpeg"/>
  <Override PartName="/ppt/media/image6.png" ContentType="image/png"/>
  <Override PartName="/ppt/media/image7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ED92-1B6B-4A9A-9D9E-6FB7D6C9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86C4-0061-4902-8407-33E6DAFD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3F0E-9D18-4C8A-9B89-BD29C4C7A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F0F-4899-4092-BA83-C9020E939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1769F-30C5-4FDD-AF2F-6FA24C5FA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56EADF-AB12-4A00-8B96-78B51C873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4E25F2-F6F2-4B46-B95E-315409D4B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96CEE0-2E4D-4B1B-84A1-DA9D1639D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EEFB0E-5E2A-452C-B433-AC98FDD80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8328B-B5BA-4200-95DB-2DF757A01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48189-DFAC-46FF-BC8F-B4C3A268DB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5EBB9-428C-48CF-97E0-4D81FCD66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A2C44-FB3A-4910-A525-AFA672156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E7B614-7D73-433C-9E2F-9FA084D75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772382-FC4B-4D95-B8E5-3AC507765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3E6D5-F003-45B4-AC6E-06A0E24CC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B8DF77-2D81-4843-B53C-4A3CA7076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4AED00-6A2B-4120-85FE-65D2D7D8C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5707CC-A3C8-4B3C-99A1-24A5558D3D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21785E-AEF4-497D-A249-B9BD24B65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9C6E18-A1C5-40D4-AC36-D41F52CD2A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28C7D-6C38-455F-A17A-208BE676F5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BE84-DB0B-4DB7-988F-33A75283B7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95F74A-D056-48C2-88AF-9A48224C4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180A1C-2903-4937-8D83-96B4BE5DC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6EA71-9696-4504-BADC-91784A0CB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98DB11-EB33-4302-80F2-BA1DF3ED4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8A4C4C-E265-464F-BFD1-CFCE45A2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D06431-C813-486A-BAC7-20EA99F4D4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0FE410-0A3F-4EB6-82E5-205AFA448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6E63D2A-3911-434B-A2C2-12F3A34055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7656C-0B56-4E84-B149-801A8664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7BB759-DE29-4889-91E7-DB50D0844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215BF-7358-44D5-A1FC-0DB46C140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71C240-B754-4537-976F-50174CFD9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94134C-5768-4E5A-80F0-90FA5AC9CA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32F5EDD-C5C5-4521-93BA-2EEC96BE5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AEF721-6E1F-42F1-BE83-6E76C4ED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62E5B1-1451-4F1F-AE86-D6ECDF7CC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EFD9D66-33EB-46C3-B682-E21A4A970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92B012-2B65-4147-A93F-30670BAF5D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22C29-0DFD-45E7-9854-9E37266662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E66597-9FA1-4648-9479-16BD7B81D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3F672E-28CD-48EC-810D-A4BACAA525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B3C0E-B21D-4A75-81DE-38FD4EA01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A09D1E-B243-4435-9341-56B3270FE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FCA6DA-CB33-4811-98E6-3243EAAC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A482D7-130E-4D35-8E54-91BD449FB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14B034-358D-4BC3-88EC-ED55C8F317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0B8AC8-BCDE-4DEE-9FC9-4914C939C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2A694-CDF3-4397-9CD2-724715108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9ED6B4-39D7-4E5C-AE53-A8E153073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4D62384-1AE3-4CD2-A827-F64CF88A6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FBF372-D313-499E-A543-AFB2F909B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66B1FD-DFA8-4F93-9D0D-71A919C1C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371600" y="685800"/>
            <a:ext cx="9601200" cy="689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3992A-A6AD-4535-9D9C-EDEDF8D2E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1772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7864200" y="228600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13716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461772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7864200" y="4156920"/>
            <a:ext cx="309132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989526-ED88-48E3-9DD8-ADC1C47E49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5056-0537-4C7B-BBD2-BC80373EAE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91360" y="415692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C09EC-6941-45C8-A1FB-0BC886561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37160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91360" y="2286000"/>
            <a:ext cx="468504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371600" y="4156920"/>
            <a:ext cx="9601200" cy="170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5BD9-8398-4EC1-9629-94D5A35811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39032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3680" y="6453360"/>
            <a:ext cx="628020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9472680" y="6453360"/>
            <a:ext cx="15969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4051815-FC96-42D1-BCEA-2D0CFDF5CAD5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8"/>
          <p:cNvSpPr/>
          <p:nvPr/>
        </p:nvSpPr>
        <p:spPr>
          <a:xfrm>
            <a:off x="47772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Group 6"/>
          <p:cNvGrpSpPr/>
          <p:nvPr/>
        </p:nvGrpSpPr>
        <p:grpSpPr>
          <a:xfrm>
            <a:off x="752040" y="744480"/>
            <a:ext cx="10674720" cy="5349960"/>
            <a:chOff x="752040" y="744480"/>
            <a:chExt cx="10674720" cy="5349960"/>
          </a:xfrm>
        </p:grpSpPr>
        <p:sp>
          <p:nvSpPr>
            <p:cNvPr id="43" name="Freeform 6"/>
            <p:cNvSpPr/>
            <p:nvPr/>
          </p:nvSpPr>
          <p:spPr>
            <a:xfrm>
              <a:off x="8151840" y="16858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Freeform 6"/>
            <p:cNvSpPr/>
            <p:nvPr/>
          </p:nvSpPr>
          <p:spPr>
            <a:xfrm flipH="1" flipV="1">
              <a:off x="751320" y="744480"/>
              <a:ext cx="3274920" cy="4408560"/>
            </a:xfrm>
            <a:prstGeom prst="pie">
              <a:avLst/>
            </a:prstGeom>
            <a:solidFill>
              <a:srgbClr val="335b7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752040" y="6453360"/>
            <a:ext cx="1608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A983D760-06F4-4F63-89CC-C6741186DD7C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5b7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Freeform 6"/>
          <p:cNvSpPr/>
          <p:nvPr/>
        </p:nvSpPr>
        <p:spPr>
          <a:xfrm>
            <a:off x="8151840" y="1685880"/>
            <a:ext cx="3274920" cy="4408560"/>
          </a:xfrm>
          <a:prstGeom prst="pie">
            <a:avLst/>
          </a:prstGeom>
          <a:solidFill>
            <a:srgbClr val="dfe3e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e3e5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dfe3e5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ffffff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dfe3e5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dfe3e5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 type="dt" idx="7"/>
          </p:nvPr>
        </p:nvSpPr>
        <p:spPr>
          <a:xfrm>
            <a:off x="738360" y="6453360"/>
            <a:ext cx="162216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 type="ftr" idx="8"/>
          </p:nvPr>
        </p:nvSpPr>
        <p:spPr>
          <a:xfrm>
            <a:off x="2584080" y="6453360"/>
            <a:ext cx="70232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 type="sldNum" idx="9"/>
          </p:nvPr>
        </p:nvSpPr>
        <p:spPr>
          <a:xfrm>
            <a:off x="983124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dfe3e5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3B52C417-F0F0-4209-B36C-0E0E7027EE85}" type="slidenum">
              <a:rPr b="0" lang="el-GR" sz="1200" spc="-1" strike="noStrike">
                <a:solidFill>
                  <a:srgbClr val="dfe3e5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 type="dt" idx="10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 type="ftr" idx="11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 type="sldNum" idx="12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A22EEEC-30E3-4920-8C62-EEE871E1471E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fe3e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7"/>
          <p:cNvSpPr/>
          <p:nvPr/>
        </p:nvSpPr>
        <p:spPr>
          <a:xfrm>
            <a:off x="0" y="0"/>
            <a:ext cx="5303880" cy="6858000"/>
          </a:xfrm>
          <a:prstGeom prst="rect">
            <a:avLst/>
          </a:prstGeom>
          <a:solidFill>
            <a:srgbClr val="1cade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8"/>
          <p:cNvSpPr/>
          <p:nvPr/>
        </p:nvSpPr>
        <p:spPr>
          <a:xfrm>
            <a:off x="5303880" y="0"/>
            <a:ext cx="228600" cy="6858000"/>
          </a:xfrm>
          <a:prstGeom prst="rect">
            <a:avLst/>
          </a:prstGeom>
          <a:solidFill>
            <a:srgbClr val="335b7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371600" y="685800"/>
            <a:ext cx="9601200" cy="148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b74"/>
                </a:solidFill>
                <a:latin typeface="Franklin Gothic Book"/>
              </a:rPr>
              <a:t>Click to edit the title text format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Click to edit the outline text format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1" marL="9144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con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2" marL="13716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Third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3" marL="18288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our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4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Fif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5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ix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lvl="6" marL="228600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000000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Seventh Outline Level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723600" y="6453360"/>
            <a:ext cx="12049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2206800" y="6453360"/>
            <a:ext cx="23731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9883800" y="6453360"/>
            <a:ext cx="15955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l-GR" sz="1200" spc="-1" strike="noStrike">
                <a:solidFill>
                  <a:srgbClr val="335b74"/>
                </a:solidFill>
                <a:latin typeface="Franklin Gothic Boo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28808F7-8A51-45BE-A4C2-A573289CC532}" type="slidenum">
              <a:rPr b="0" lang="el-GR" sz="1200" spc="-1" strike="noStrike">
                <a:solidFill>
                  <a:srgbClr val="335b74"/>
                </a:solidFill>
                <a:latin typeface="Franklin Gothic Boo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2.png"/><Relationship Id="rId3" Type="http://schemas.openxmlformats.org/officeDocument/2006/relationships/image" Target="../media/image1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hyperlink" Target="https://meteo.gr/meteoedu/forecast.cfm" TargetMode="External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862360" y="2738520"/>
            <a:ext cx="8267760" cy="1200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000" spc="-1" strike="noStrike">
                <a:solidFill>
                  <a:srgbClr val="335b74"/>
                </a:solidFill>
                <a:latin typeface="Franklin Gothic Book"/>
              </a:rPr>
              <a:t>ΕΧΕΙ Ο ΚΑΙΡΟΣ ΓΥΡΙΣΜΑΤΑ…ΑΛΛΑ Ο ΑΝΘΡΩΠΟΣ ΕΧΕΙ ΜΗΧΑΝΗΜΑΤΑ!</a:t>
            </a: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1030320" y="4414680"/>
            <a:ext cx="9144000" cy="126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5b74"/>
                </a:solidFill>
                <a:latin typeface="Franklin Gothic Book"/>
              </a:rPr>
              <a:t>Δημιουργοί: Στεργιανή Γεροδήμου, Ελένη Λαυδαριά, 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5b74"/>
                </a:solidFill>
                <a:latin typeface="Franklin Gothic Book"/>
              </a:rPr>
              <a:t>ΔΗΜΟΤΙΚΟ ΣΧΟΛΕΙΟ ΑΝΕΖΑΣ </a:t>
            </a: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  <a:p>
            <a:pPr indent="0" algn="ctr">
              <a:lnSpc>
                <a:spcPct val="92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16" name="Ορθογώνιο 3"/>
          <p:cNvSpPr/>
          <p:nvPr/>
        </p:nvSpPr>
        <p:spPr>
          <a:xfrm>
            <a:off x="468360" y="890640"/>
            <a:ext cx="11255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ERASMUS +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2021-1-EL01-KA220-SCH-0000278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 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« STEAM &amp; Digital Skills : </a:t>
            </a:r>
            <a:r>
              <a:rPr b="0" lang="en-US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Searching for the new Leonardos</a:t>
            </a:r>
            <a:r>
              <a:rPr b="0" lang="el-GR" sz="1800" spc="-1" strike="noStrike">
                <a:solidFill>
                  <a:srgbClr val="1d6295"/>
                </a:solidFill>
                <a:latin typeface="Comic Sans MS"/>
                <a:ea typeface="Calibri"/>
              </a:rPr>
              <a:t>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Εικόνα 4" descr=""/>
          <p:cNvPicPr/>
          <p:nvPr/>
        </p:nvPicPr>
        <p:blipFill>
          <a:blip r:embed="rId1"/>
          <a:stretch/>
        </p:blipFill>
        <p:spPr>
          <a:xfrm>
            <a:off x="9948960" y="179280"/>
            <a:ext cx="1461960" cy="1422360"/>
          </a:xfrm>
          <a:prstGeom prst="rect">
            <a:avLst/>
          </a:prstGeom>
          <a:ln w="0">
            <a:noFill/>
          </a:ln>
        </p:spPr>
      </p:pic>
      <p:pic>
        <p:nvPicPr>
          <p:cNvPr id="218" name="Εικόνα 5" descr=""/>
          <p:cNvPicPr/>
          <p:nvPr/>
        </p:nvPicPr>
        <p:blipFill>
          <a:blip r:embed="rId2"/>
          <a:stretch/>
        </p:blipFill>
        <p:spPr>
          <a:xfrm>
            <a:off x="1030320" y="1062000"/>
            <a:ext cx="1811160" cy="2710080"/>
          </a:xfrm>
          <a:prstGeom prst="rect">
            <a:avLst/>
          </a:prstGeom>
          <a:ln w="0">
            <a:noFill/>
          </a:ln>
        </p:spPr>
      </p:pic>
      <p:pic>
        <p:nvPicPr>
          <p:cNvPr id="219" name="Εικόνα 6" descr=""/>
          <p:cNvPicPr/>
          <p:nvPr/>
        </p:nvPicPr>
        <p:blipFill>
          <a:blip r:embed="rId3"/>
          <a:stretch/>
        </p:blipFill>
        <p:spPr>
          <a:xfrm>
            <a:off x="8302680" y="4302000"/>
            <a:ext cx="2752560" cy="139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319040" y="579600"/>
            <a:ext cx="76298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5b74"/>
                </a:solidFill>
                <a:latin typeface="Franklin Gothic Book"/>
              </a:rPr>
              <a:t>https://wiki.meteo.gr/index.php?title=%CE%9A%CE%B1%CE%BB%CF%8E%CF%82_%CE%AE%CE%BB%CE%B8%CE%B1%CF%84%CE%B5_%CF%83%CF%84%CE%B7_Meteopedia!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0" name="6 - Θέση περιεχομένου" descr="Meteopedia_Logo_800.jpg"/>
          <p:cNvPicPr/>
          <p:nvPr/>
        </p:nvPicPr>
        <p:blipFill>
          <a:blip r:embed="rId1"/>
          <a:stretch/>
        </p:blipFill>
        <p:spPr>
          <a:xfrm>
            <a:off x="1123920" y="1789200"/>
            <a:ext cx="7257960" cy="3971880"/>
          </a:xfrm>
          <a:prstGeom prst="rect">
            <a:avLst/>
          </a:prstGeom>
          <a:ln w="0">
            <a:noFill/>
          </a:ln>
        </p:spPr>
      </p:pic>
      <p:pic>
        <p:nvPicPr>
          <p:cNvPr id="261" name="Εικόνα 3" descr=""/>
          <p:cNvPicPr/>
          <p:nvPr/>
        </p:nvPicPr>
        <p:blipFill>
          <a:blip r:embed="rId2"/>
          <a:stretch/>
        </p:blipFill>
        <p:spPr>
          <a:xfrm>
            <a:off x="9713880" y="2286000"/>
            <a:ext cx="1811520" cy="2563920"/>
          </a:xfrm>
          <a:prstGeom prst="rect">
            <a:avLst/>
          </a:prstGeom>
          <a:ln w="0">
            <a:noFill/>
          </a:ln>
        </p:spPr>
      </p:pic>
      <p:pic>
        <p:nvPicPr>
          <p:cNvPr id="262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625400"/>
          </a:xfrm>
          <a:prstGeom prst="rect">
            <a:avLst/>
          </a:prstGeom>
          <a:ln w="0">
            <a:noFill/>
          </a:ln>
        </p:spPr>
      </p:pic>
      <p:pic>
        <p:nvPicPr>
          <p:cNvPr id="263" name="Εικόνα 5" descr=""/>
          <p:cNvPicPr/>
          <p:nvPr/>
        </p:nvPicPr>
        <p:blipFill>
          <a:blip r:embed="rId4"/>
          <a:stretch/>
        </p:blipFill>
        <p:spPr>
          <a:xfrm>
            <a:off x="9242280" y="4995720"/>
            <a:ext cx="275292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53720" y="587160"/>
            <a:ext cx="7061400" cy="72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Το δημοτικό συμβούλιο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65" name="6 - Θέση περιεχομένου" descr="arta-dimotiko-pkjgtiqnm0773zo309e4i8uihg9l9jyl98h3g0aw1k.jpg"/>
          <p:cNvPicPr/>
          <p:nvPr/>
        </p:nvPicPr>
        <p:blipFill>
          <a:blip r:embed="rId1"/>
          <a:stretch/>
        </p:blipFill>
        <p:spPr>
          <a:xfrm>
            <a:off x="2298600" y="1881360"/>
            <a:ext cx="5983560" cy="3565440"/>
          </a:xfrm>
          <a:prstGeom prst="rect">
            <a:avLst/>
          </a:prstGeom>
          <a:ln w="0">
            <a:noFill/>
          </a:ln>
        </p:spPr>
      </p:pic>
      <p:pic>
        <p:nvPicPr>
          <p:cNvPr id="266" name="Εικόνα 3" descr=""/>
          <p:cNvPicPr/>
          <p:nvPr/>
        </p:nvPicPr>
        <p:blipFill>
          <a:blip r:embed="rId2"/>
          <a:stretch/>
        </p:blipFill>
        <p:spPr>
          <a:xfrm>
            <a:off x="9923400" y="2244600"/>
            <a:ext cx="1811520" cy="2605320"/>
          </a:xfrm>
          <a:prstGeom prst="rect">
            <a:avLst/>
          </a:prstGeom>
          <a:ln w="0">
            <a:noFill/>
          </a:ln>
        </p:spPr>
      </p:pic>
      <p:pic>
        <p:nvPicPr>
          <p:cNvPr id="267" name="Εικόνα 4" descr=""/>
          <p:cNvPicPr/>
          <p:nvPr/>
        </p:nvPicPr>
        <p:blipFill>
          <a:blip r:embed="rId3"/>
          <a:stretch/>
        </p:blipFill>
        <p:spPr>
          <a:xfrm>
            <a:off x="10063080" y="579600"/>
            <a:ext cx="1462320" cy="1428480"/>
          </a:xfrm>
          <a:prstGeom prst="rect">
            <a:avLst/>
          </a:prstGeom>
          <a:ln w="0">
            <a:noFill/>
          </a:ln>
        </p:spPr>
      </p:pic>
      <p:pic>
        <p:nvPicPr>
          <p:cNvPr id="268" name="Εικόνα 5" descr=""/>
          <p:cNvPicPr/>
          <p:nvPr/>
        </p:nvPicPr>
        <p:blipFill>
          <a:blip r:embed="rId4"/>
          <a:stretch/>
        </p:blipFill>
        <p:spPr>
          <a:xfrm>
            <a:off x="9282240" y="4960800"/>
            <a:ext cx="2752560" cy="16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541160" y="663480"/>
            <a:ext cx="812484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λημμύρες στην Άρτα Φεβρουάριος 2015</a:t>
            </a:r>
            <a:br>
              <a:rPr sz="2000"/>
            </a:b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Άποψη του κάμπου της Άρτας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1371600" y="2638080"/>
            <a:ext cx="9601200" cy="322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2" name="Εικόνα 3" descr=""/>
          <p:cNvPicPr/>
          <p:nvPr/>
        </p:nvPicPr>
        <p:blipFill>
          <a:blip r:embed="rId1"/>
          <a:stretch/>
        </p:blipFill>
        <p:spPr>
          <a:xfrm>
            <a:off x="9713880" y="1908000"/>
            <a:ext cx="1811520" cy="2640240"/>
          </a:xfrm>
          <a:prstGeom prst="rect">
            <a:avLst/>
          </a:prstGeom>
          <a:ln w="0">
            <a:noFill/>
          </a:ln>
        </p:spPr>
      </p:pic>
      <p:pic>
        <p:nvPicPr>
          <p:cNvPr id="22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4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25" name="Picture 7" descr="C:\Users\dell\Desktop\plymhra-arta-01-02-2015-074.jpg"/>
          <p:cNvPicPr/>
          <p:nvPr/>
        </p:nvPicPr>
        <p:blipFill>
          <a:blip r:embed="rId4"/>
          <a:stretch/>
        </p:blipFill>
        <p:spPr>
          <a:xfrm>
            <a:off x="1743120" y="1854360"/>
            <a:ext cx="6734160" cy="352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20640" y="947880"/>
            <a:ext cx="74962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  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27" name="Εικόνα 3" descr=""/>
          <p:cNvPicPr/>
          <p:nvPr/>
        </p:nvPicPr>
        <p:blipFill>
          <a:blip r:embed="rId1"/>
          <a:stretch/>
        </p:blipFill>
        <p:spPr>
          <a:xfrm>
            <a:off x="9794880" y="1943280"/>
            <a:ext cx="1811160" cy="2604960"/>
          </a:xfrm>
          <a:prstGeom prst="rect">
            <a:avLst/>
          </a:prstGeom>
          <a:ln w="0">
            <a:noFill/>
          </a:ln>
        </p:spPr>
      </p:pic>
      <p:pic>
        <p:nvPicPr>
          <p:cNvPr id="228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29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416880" y="4930920"/>
            <a:ext cx="2752920" cy="1666800"/>
          </a:xfrm>
          <a:prstGeom prst="rect">
            <a:avLst/>
          </a:prstGeom>
          <a:ln w="0">
            <a:noFill/>
          </a:ln>
        </p:spPr>
      </p:pic>
      <p:pic>
        <p:nvPicPr>
          <p:cNvPr id="230" name="6 - Εικόνα" descr="502.jpg"/>
          <p:cNvPicPr/>
          <p:nvPr/>
        </p:nvPicPr>
        <p:blipFill>
          <a:blip r:embed="rId4"/>
          <a:stretch/>
        </p:blipFill>
        <p:spPr>
          <a:xfrm>
            <a:off x="1254240" y="1714680"/>
            <a:ext cx="802008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763280" y="812880"/>
            <a:ext cx="927756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ΑΚΡΑΙΑ ΚΑΙΡΙΚΑ ΦΑΙΝΟΜΕΝΑ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809640" y="2063880"/>
            <a:ext cx="8359920" cy="35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Ιδεοθύελλα: Ποια είναι τα ακραία καιρικά φαινόμενα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οιος ευθύνεται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οιες οι συνέπειες για τον άνθρωπο και το περιβάλλον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Ποιοι είναι οι τρόποι αντιμετώπισης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Μπορούμε να βοηθήσουμε; Μπορούμε να προστατευτούμε;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                           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3" name="Εικόνα 3" descr=""/>
          <p:cNvPicPr/>
          <p:nvPr/>
        </p:nvPicPr>
        <p:blipFill>
          <a:blip r:embed="rId1"/>
          <a:stretch/>
        </p:blipFill>
        <p:spPr>
          <a:xfrm>
            <a:off x="9713880" y="2003400"/>
            <a:ext cx="1811520" cy="2368440"/>
          </a:xfrm>
          <a:prstGeom prst="rect">
            <a:avLst/>
          </a:prstGeom>
          <a:ln w="0">
            <a:noFill/>
          </a:ln>
        </p:spPr>
      </p:pic>
      <p:pic>
        <p:nvPicPr>
          <p:cNvPr id="234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5" name="Εικόνα 5" descr=""/>
          <p:cNvPicPr/>
          <p:nvPr/>
        </p:nvPicPr>
        <p:blipFill>
          <a:blip r:embed="rId3"/>
          <a:stretch/>
        </p:blipFill>
        <p:spPr>
          <a:xfrm>
            <a:off x="9242280" y="4822920"/>
            <a:ext cx="2752920" cy="166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2370240" y="836640"/>
            <a:ext cx="102679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Τι είναι ο ανεμομείκτης;</a:t>
            </a:r>
            <a:br>
              <a:rPr sz="4400"/>
            </a:br>
            <a:br>
              <a:rPr sz="4400"/>
            </a:br>
            <a:br>
              <a:rPr sz="4400"/>
            </a:br>
            <a:br>
              <a:rPr sz="4400"/>
            </a:b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37" name="Εικόνα 3" descr=""/>
          <p:cNvPicPr/>
          <p:nvPr/>
        </p:nvPicPr>
        <p:blipFill>
          <a:blip r:embed="rId1"/>
          <a:stretch/>
        </p:blipFill>
        <p:spPr>
          <a:xfrm>
            <a:off x="9888480" y="1971720"/>
            <a:ext cx="1811520" cy="2552760"/>
          </a:xfrm>
          <a:prstGeom prst="rect">
            <a:avLst/>
          </a:prstGeom>
          <a:ln w="0">
            <a:noFill/>
          </a:ln>
        </p:spPr>
      </p:pic>
      <p:pic>
        <p:nvPicPr>
          <p:cNvPr id="238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39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302760" y="4930920"/>
            <a:ext cx="2752560" cy="1666800"/>
          </a:xfrm>
          <a:prstGeom prst="rect">
            <a:avLst/>
          </a:prstGeom>
          <a:ln w="0">
            <a:noFill/>
          </a:ln>
        </p:spPr>
      </p:pic>
      <p:sp>
        <p:nvSpPr>
          <p:cNvPr id="240" name="6 - Ορθογώνιο"/>
          <p:cNvSpPr/>
          <p:nvPr/>
        </p:nvSpPr>
        <p:spPr>
          <a:xfrm>
            <a:off x="954000" y="1668600"/>
            <a:ext cx="858204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 ανεμομείκτης, το πιο διαδεδομένο αλλά και οικονομικά συμφέρον σύστημα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αντιπαγετικής προστασίας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των καλλιεργειών αποτελείται από διάφορα εξαρτήματα καθένα από τα οποία κατασκευάζεται και ελέγχεται προσεκτικά πριν την τελική του συναρμολόγηση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Οι ανεμομείκτες μπήκαν σε ευρεία χρήση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στις Η.Π.Α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., στα πάρκα εσπεριδοειδών στη δεκαετία του 1940 και του 1950 και από τότε έχουν γίνει το βασικό στοιχείο στην προστασία από τον παγετό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Με τη χρήση του ανεμομείκτη επιτυγχάνονται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μετακίνηση του βαρέος κρύου αέρα για την αποτροπή της στρωματοποίησης και την καθυστέρηση του σχηματισμού παγετού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αντικατάσταση </a:t>
            </a:r>
            <a:r>
              <a:rPr b="1" lang="el-GR" sz="1400" spc="-1" strike="noStrike">
                <a:solidFill>
                  <a:srgbClr val="000000"/>
                </a:solidFill>
                <a:latin typeface="Arial"/>
              </a:rPr>
              <a:t>του πιο κρύου αέρα από το θερμότερο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αέρα του στρώματος αναστροφής στο επίπεδο των δένδρων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400" spc="-1" strike="noStrike">
                <a:solidFill>
                  <a:srgbClr val="000000"/>
                </a:solidFill>
                <a:latin typeface="Arial"/>
              </a:rPr>
              <a:t>Η παραγωγή θερμότητας από την τριβή, όταν ο παρεχόμενος αέρας κινεί το στρώμα αέρα από το φύλλωμα για να αντικαταστήσει τον πιο κρύο αέρα του περιβάλλοντος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2279520" y="57960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br>
              <a:rPr sz="4000"/>
            </a:br>
            <a:endParaRPr b="0" lang="en-US" sz="4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2" name="Εικόνα 3" descr=""/>
          <p:cNvPicPr/>
          <p:nvPr/>
        </p:nvPicPr>
        <p:blipFill>
          <a:blip r:embed="rId1"/>
          <a:stretch/>
        </p:blipFill>
        <p:spPr>
          <a:xfrm>
            <a:off x="9888480" y="1982880"/>
            <a:ext cx="1811520" cy="2600280"/>
          </a:xfrm>
          <a:prstGeom prst="rect">
            <a:avLst/>
          </a:prstGeom>
          <a:ln w="0">
            <a:noFill/>
          </a:ln>
        </p:spPr>
      </p:pic>
      <p:pic>
        <p:nvPicPr>
          <p:cNvPr id="243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244520"/>
          </a:xfrm>
          <a:prstGeom prst="rect">
            <a:avLst/>
          </a:prstGeom>
          <a:ln w="0">
            <a:noFill/>
          </a:ln>
        </p:spPr>
      </p:pic>
      <p:pic>
        <p:nvPicPr>
          <p:cNvPr id="244" name="Θέση περιεχομένου 5" descr=""/>
          <p:cNvPicPr/>
          <p:nvPr/>
        </p:nvPicPr>
        <p:blipFill>
          <a:blip r:embed="rId3"/>
          <a:stretch/>
        </p:blipFill>
        <p:spPr>
          <a:xfrm>
            <a:off x="9264600" y="5049720"/>
            <a:ext cx="2752920" cy="1667160"/>
          </a:xfrm>
          <a:prstGeom prst="rect">
            <a:avLst/>
          </a:prstGeom>
          <a:ln w="0">
            <a:noFill/>
          </a:ln>
        </p:spPr>
      </p:pic>
      <p:sp>
        <p:nvSpPr>
          <p:cNvPr id="245" name="5 - Ορθογώνιο"/>
          <p:cNvSpPr/>
          <p:nvPr/>
        </p:nvSpPr>
        <p:spPr>
          <a:xfrm>
            <a:off x="1214280" y="719280"/>
            <a:ext cx="820440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Τα οφέλη από τη χρήση του ανεμομείκτη είναι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αποτελεσματική προστασία του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φυτικού κεφαλαίου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παράταση και κλιμάκωση της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συγκομιδής σε περιόδους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υ εξυπηρετούν την ομαλότερη διακίνηση της παραγωγής στην αγορά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η μετάθεση του χρόνου εκτέλεσης ορισμένων καλλιεργητικών εργασιών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Πολλές εκατοντάδες </a:t>
            </a: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ανεμομεικτών έχουν εγκατασταθεί στην Ελλάδα μέχρι τώρα και ιδιαίτερα στους νομούς Αργολίδας, Άρτας, Ηλείας, Θεσπρωτίας και Λακωνίας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l-GR" sz="1800" spc="-1" strike="noStrike">
                <a:solidFill>
                  <a:srgbClr val="000000"/>
                </a:solidFill>
                <a:latin typeface="Arial"/>
              </a:rPr>
              <a:t>Οι καλλιεργητές διαπίστωσαν ότι ο καλύτερος τρόπος προστασίας της συγκομιδής τους, είναι η εγκατάσταση ανεμομείκτη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(πηγή: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s://www.koliatsis.gr/wind-machine/</a:t>
            </a:r>
            <a:r>
              <a:rPr b="0" lang="el-GR" sz="1800" spc="-1" strike="noStrike">
                <a:solidFill>
                  <a:srgbClr val="000000"/>
                </a:solidFill>
                <a:latin typeface="Arial"/>
              </a:rPr>
              <a:t> 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371600" y="685440"/>
            <a:ext cx="9601200" cy="123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Φράγμα Πουρναρίου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47" name="3 - Θέση περιεχομένου" descr="ydro_pournari3.jpg"/>
          <p:cNvPicPr/>
          <p:nvPr/>
        </p:nvPicPr>
        <p:blipFill>
          <a:blip r:embed="rId1"/>
          <a:stretch/>
        </p:blipFill>
        <p:spPr>
          <a:xfrm>
            <a:off x="1854360" y="1763640"/>
            <a:ext cx="8191440" cy="36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455560" y="677880"/>
            <a:ext cx="876132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4400" spc="-1" strike="noStrike">
                <a:solidFill>
                  <a:srgbClr val="335b74"/>
                </a:solidFill>
                <a:latin typeface="Franklin Gothic Book"/>
              </a:rPr>
              <a:t>ΠΟΛΙΤΙΚΗ ΠΡΟΣΤΑΣΙΑ </a:t>
            </a:r>
            <a:endParaRPr b="0" lang="en-US" sz="4400" spc="-1" strike="noStrike">
              <a:solidFill>
                <a:srgbClr val="335b74"/>
              </a:solidFill>
              <a:latin typeface="Franklin Gothic Book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180800" y="1751040"/>
            <a:ext cx="8761320" cy="461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Ο αριθμός 112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algn="just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0" name="Εικόνα 3" descr=""/>
          <p:cNvPicPr/>
          <p:nvPr/>
        </p:nvPicPr>
        <p:blipFill>
          <a:blip r:embed="rId1"/>
          <a:stretch/>
        </p:blipFill>
        <p:spPr>
          <a:xfrm>
            <a:off x="9888480" y="2179800"/>
            <a:ext cx="1811520" cy="2636640"/>
          </a:xfrm>
          <a:prstGeom prst="rect">
            <a:avLst/>
          </a:prstGeom>
          <a:ln w="0">
            <a:noFill/>
          </a:ln>
        </p:spPr>
      </p:pic>
      <p:pic>
        <p:nvPicPr>
          <p:cNvPr id="251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61960"/>
          </a:xfrm>
          <a:prstGeom prst="rect">
            <a:avLst/>
          </a:prstGeom>
          <a:ln w="0">
            <a:noFill/>
          </a:ln>
        </p:spPr>
      </p:pic>
      <p:pic>
        <p:nvPicPr>
          <p:cNvPr id="252" name="Εικόνα 5" descr=""/>
          <p:cNvPicPr/>
          <p:nvPr/>
        </p:nvPicPr>
        <p:blipFill>
          <a:blip r:embed="rId3"/>
          <a:stretch/>
        </p:blipFill>
        <p:spPr>
          <a:xfrm>
            <a:off x="9255240" y="4956120"/>
            <a:ext cx="2752560" cy="1666800"/>
          </a:xfrm>
          <a:prstGeom prst="rect">
            <a:avLst/>
          </a:prstGeom>
          <a:ln w="0">
            <a:noFill/>
          </a:ln>
        </p:spPr>
      </p:pic>
      <p:pic>
        <p:nvPicPr>
          <p:cNvPr id="253" name="6 - Εικόνα" descr="112_mikro7_el_gr-400x314 - Αντιγραφή.jpg"/>
          <p:cNvPicPr/>
          <p:nvPr/>
        </p:nvPicPr>
        <p:blipFill>
          <a:blip r:embed="rId4"/>
          <a:stretch/>
        </p:blipFill>
        <p:spPr>
          <a:xfrm>
            <a:off x="2690640" y="2521080"/>
            <a:ext cx="5119920" cy="30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279520" y="812880"/>
            <a:ext cx="8761680" cy="72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5b74"/>
                </a:solidFill>
                <a:latin typeface="Franklin Gothic Book"/>
              </a:rPr>
              <a:t>https://meteo.gr/meteoedu/</a:t>
            </a:r>
            <a:br>
              <a:rPr sz="2800"/>
            </a:br>
            <a:r>
              <a:rPr b="0" lang="el-GR" sz="2800" spc="-1" strike="noStrike">
                <a:solidFill>
                  <a:srgbClr val="335b74"/>
                </a:solidFill>
                <a:latin typeface="Franklin Gothic Book"/>
              </a:rPr>
              <a:t>Μαθαίνω για τον καιρό και το κλίμα, από το .... σπίτι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335b74"/>
              </a:solidFill>
              <a:latin typeface="Franklin Gothic Book"/>
            </a:endParaRPr>
          </a:p>
        </p:txBody>
      </p:sp>
      <p:pic>
        <p:nvPicPr>
          <p:cNvPr id="255" name="Εικόνα 3" descr=""/>
          <p:cNvPicPr/>
          <p:nvPr/>
        </p:nvPicPr>
        <p:blipFill>
          <a:blip r:embed="rId1"/>
          <a:stretch/>
        </p:blipFill>
        <p:spPr>
          <a:xfrm>
            <a:off x="9713880" y="2308320"/>
            <a:ext cx="1811520" cy="2736720"/>
          </a:xfrm>
          <a:prstGeom prst="rect">
            <a:avLst/>
          </a:prstGeom>
          <a:ln w="0">
            <a:noFill/>
          </a:ln>
        </p:spPr>
      </p:pic>
      <p:pic>
        <p:nvPicPr>
          <p:cNvPr id="256" name="Εικόνα 4" descr=""/>
          <p:cNvPicPr/>
          <p:nvPr/>
        </p:nvPicPr>
        <p:blipFill>
          <a:blip r:embed="rId2"/>
          <a:stretch/>
        </p:blipFill>
        <p:spPr>
          <a:xfrm>
            <a:off x="10063080" y="579600"/>
            <a:ext cx="1462320" cy="1493640"/>
          </a:xfrm>
          <a:prstGeom prst="rect">
            <a:avLst/>
          </a:prstGeom>
          <a:ln w="0">
            <a:noFill/>
          </a:ln>
        </p:spPr>
      </p:pic>
      <p:pic>
        <p:nvPicPr>
          <p:cNvPr id="257" name="Εικόνα 5" descr=""/>
          <p:cNvPicPr/>
          <p:nvPr/>
        </p:nvPicPr>
        <p:blipFill>
          <a:blip r:embed="rId3"/>
          <a:stretch/>
        </p:blipFill>
        <p:spPr>
          <a:xfrm>
            <a:off x="9242280" y="5191200"/>
            <a:ext cx="2752920" cy="1666800"/>
          </a:xfrm>
          <a:prstGeom prst="rect">
            <a:avLst/>
          </a:prstGeom>
          <a:ln w="0">
            <a:noFill/>
          </a:ln>
        </p:spPr>
      </p:pic>
      <p:sp>
        <p:nvSpPr>
          <p:cNvPr id="258" name=""/>
          <p:cNvSpPr txBox="1"/>
          <p:nvPr/>
        </p:nvSpPr>
        <p:spPr>
          <a:xfrm>
            <a:off x="1371600" y="2286000"/>
            <a:ext cx="9601200" cy="358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buClr>
                <a:srgbClr val="335b74"/>
              </a:buClr>
              <a:buFont typeface="Franklin Gothic Book"/>
              <a:buChar char="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6eac1c"/>
                </a:solidFill>
                <a:uFillTx/>
                <a:latin typeface="Franklin Gothic Book"/>
                <a:hlinkClick r:id="rId4"/>
              </a:rPr>
              <a:t>https://meteo.gr/meteoedu/forecast.cfm</a:t>
            </a:r>
            <a:r>
              <a:rPr b="0" lang="el-GR" sz="2000" spc="-1" strike="noStrike">
                <a:solidFill>
                  <a:srgbClr val="335b74"/>
                </a:solidFill>
                <a:latin typeface="Franklin Gothic Book"/>
              </a:rPr>
              <a:t> </a:t>
            </a: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  <a:p>
            <a:pPr marL="382680" indent="-382680">
              <a:lnSpc>
                <a:spcPct val="94000"/>
              </a:lnSpc>
              <a:spcBef>
                <a:spcPts val="1001"/>
              </a:spcBef>
              <a:spcAft>
                <a:spcPts val="2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5b74"/>
              </a:solidFill>
              <a:latin typeface="Franklin Gothic Boo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14T06:17:29Z</dcterms:created>
  <dc:creator>User01</dc:creator>
  <dc:description/>
  <dc:language>en-US</dc:language>
  <cp:lastModifiedBy>user</cp:lastModifiedBy>
  <dcterms:modified xsi:type="dcterms:W3CDTF">2024-06-24T06:44:18Z</dcterms:modified>
  <cp:revision>143</cp:revision>
  <dc:subject/>
  <dc:title>Παρουσίαση του PowerPoint</dc:title>
</cp:coreProperties>
</file>