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ED9-682E-42A1-8116-7EB33A36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413-EF10-487C-B107-C5F9A50D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5BC-3CB2-4992-B35D-4AED8D0F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49B-E23B-4337-B36A-EE5ABFBA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C6B3-232C-4F37-A600-7EA9985C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5DB-28DE-427D-B86F-36B645A9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272-4A1A-4674-9037-558C2408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CF38-194F-4F59-A4D9-92936CC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9BF-3530-4EE9-B61B-14ED37AB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F299-0A68-425B-85F7-2CA88CC0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967C-B48D-4137-81CE-3395095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702-D27C-45C2-A9A7-7943BE1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7499-5B3B-474C-8B64-7C3B7BF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2ABC-4046-4257-9BCA-A8FA191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734E-4A4E-4AEC-BD0F-02E88043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8750-EC73-4BEB-81BE-3587E630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5220-7FEB-451B-896E-CCE3BFB3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E73A-8065-45C6-804F-4C140977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D503-725E-498C-AED4-18CC4FD4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A802-4EB8-43D3-B19B-5D7065C5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5F00-8F24-4EB8-A940-9030960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A2ED-C301-414A-A8BD-356B3446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412-F16A-448B-9ED1-40C8687C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AC05-CE13-4CF4-BE6D-4BB0D9D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BD28-A930-4A1C-9575-5ABFDBE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5C37-4D20-4BC9-8C8D-EBB3AB4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BC42-2CC8-4C3A-BECE-B5849A0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295A-675B-4224-BA9C-6E509156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08BD-DFE2-495B-B1A6-80AB5472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1E95-E35A-4164-BB6C-F2BBB053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EEC48-14C8-4978-A1C7-ED1ED1F4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2DD8-2E91-41C8-99E1-3A22595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9AB0-EF10-4A63-AA79-7DBB38A8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DC2-75A8-4B09-B08A-8F34D4C3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1CC5-A546-4953-827C-4EF74BDC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A524-4B9B-4D48-B399-17A416B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E7F4-F9A5-4348-8E11-6149FC3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C692-8B0C-422F-A5B1-5684C54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2BF9-BD81-4244-BDC8-E54A8D1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47F9-561C-40C7-9704-EFB80CD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72C3-DD5A-4E63-A073-124F3B4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A3AC-B681-456F-B5DF-990EE575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4C84-D9A1-4CF3-8A11-D5B46DBD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A321F-93C4-4AFD-967F-5180A831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E86-39B6-4FD9-83BA-1496C283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3C75-8326-425E-BD45-E5DF6E1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35DA-6CDC-450F-A14B-97284C7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3B862-767C-4FFC-AE20-BE5CEE5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8109-CD2B-4898-889A-D87864B9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9279-FF69-43A6-AE89-A6395D0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E522-B10B-40D6-B8B0-8047C36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23BA-285C-4DDA-8D36-6DE84FD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315F-11BB-4F81-9572-AB888D7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D17E-9A0A-402A-9DF5-89CD677B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B19C5-18CC-474F-B6EE-BDF089E0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9EB-7E26-4942-AAFA-D691B28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AD3C-C200-418B-9AE9-94DB1DD5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B16-DF91-4DF6-817A-DBDDF8B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C45-F408-4123-9925-7ACCCA5D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262-EA44-418E-944E-A4ACB40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A65E2-B094-4CDF-89DC-453775B5083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A6070-6AFD-4004-B7BD-08B94629857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5E8B7-617F-4856-8800-ABBF53EC33DC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E6717-2E7E-4C42-9B7F-BC9835E23DE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43768-6AB4-4B1D-B1B1-C10E7634C42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s://meteo.gr/meteoedu/forecast.cf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2360" y="273852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ΧΕΙ Ο ΚΑΙΡΟΣ ΓΥΡΙΣΜΑΤΑ…ΑΛΛΑ Ο ΑΝΘΡΩΠΟΣ ΕΧΕΙ ΜΗΧΑΝΗΜΑΤΑ!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4146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5b74"/>
                </a:solidFill>
                <a:latin typeface="Franklin Gothic Book"/>
              </a:rPr>
              <a:t>Δημιουργοί: Στεργιανή Γεροδήμου, Ελένη Λαυδαριά,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5b74"/>
                </a:solidFill>
                <a:latin typeface="Franklin Gothic Book"/>
              </a:rPr>
              <a:t>ΔΗΜΟΤΙΚΟ ΣΧΟΛΕΙΟ ΑΝΕΖΑΣ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19040" y="579600"/>
            <a:ext cx="7629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wiki.meteo.gr/index.php?title=%CE%9A%CE%B1%CE%BB%CF%8E%CF%82_%CE%AE%CE%BB%CE%B8%CE%B1%CF%84%CE%B5_%CF%83%CF%84%CE%B7_Meteopedia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0" name="6 - Θέση περιεχομένου" descr="Meteopedia_Logo_800.jpg"/>
          <p:cNvPicPr/>
          <p:nvPr/>
        </p:nvPicPr>
        <p:blipFill>
          <a:blip r:embed="rId1"/>
          <a:stretch/>
        </p:blipFill>
        <p:spPr>
          <a:xfrm>
            <a:off x="1123920" y="1789200"/>
            <a:ext cx="7257960" cy="397188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3" descr=""/>
          <p:cNvPicPr/>
          <p:nvPr/>
        </p:nvPicPr>
        <p:blipFill>
          <a:blip r:embed="rId2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3" name="Εικόνα 5" descr=""/>
          <p:cNvPicPr/>
          <p:nvPr/>
        </p:nvPicPr>
        <p:blipFill>
          <a:blip r:embed="rId4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53720" y="587160"/>
            <a:ext cx="70614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Το δημοτικό συμβούλιο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5" name="6 - Θέση περιεχομένου" descr="arta-dimotiko-pkjgtiqnm0773zo309e4i8uihg9l9jyl98h3g0aw1k.jpg"/>
          <p:cNvPicPr/>
          <p:nvPr/>
        </p:nvPicPr>
        <p:blipFill>
          <a:blip r:embed="rId1"/>
          <a:stretch/>
        </p:blipFill>
        <p:spPr>
          <a:xfrm>
            <a:off x="2298600" y="1881360"/>
            <a:ext cx="5983560" cy="35654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8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1160" y="663480"/>
            <a:ext cx="8124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λημμύρες στην Άρτα Φεβρουάριος 2015</a:t>
            </a:r>
            <a:br>
              <a:rPr sz="2000"/>
            </a:b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Άποψη του κάμπου της Άρτας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dell\Desktop\plymhra-arta-01-02-2015-074.jpg"/>
          <p:cNvPicPr/>
          <p:nvPr/>
        </p:nvPicPr>
        <p:blipFill>
          <a:blip r:embed="rId4"/>
          <a:stretch/>
        </p:blipFill>
        <p:spPr>
          <a:xfrm>
            <a:off x="1743120" y="1854360"/>
            <a:ext cx="6734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0" name="6 - Εικόνα" descr="502.jpg"/>
          <p:cNvPicPr/>
          <p:nvPr/>
        </p:nvPicPr>
        <p:blipFill>
          <a:blip r:embed="rId4"/>
          <a:stretch/>
        </p:blipFill>
        <p:spPr>
          <a:xfrm>
            <a:off x="1254240" y="1714680"/>
            <a:ext cx="8020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63280" y="812880"/>
            <a:ext cx="9277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ΑΚΡΑΙΑ ΚΑΙΡΙΚΑ ΦΑΙΝΟΜΕΝ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9640" y="2063880"/>
            <a:ext cx="8359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Ιδεοθύελλα: Ποια είναι τα ακραία καιρικά φαινόμενα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ος ευθύνεται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ες οι συνέπειες για τον άνθρωπο και το περιβάλλον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οι είναι οι τρόποι αντιμετώπισης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πορούμε να βοηθήσουμε; Μπορούμε να προστατευτούμε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70240" y="836640"/>
            <a:ext cx="102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Τι είναι ο ανεμομείκτης;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7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40" name="6 - Ορθογώνιο"/>
          <p:cNvSpPr/>
          <p:nvPr/>
        </p:nvSpPr>
        <p:spPr>
          <a:xfrm>
            <a:off x="954000" y="1668600"/>
            <a:ext cx="8582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 ανεμομείκτης, το πιο διαδεδομένο αλλά και οικονομικά συμφέρον σύστημα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ντιπαγετικής προστασίας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ων καλλιεργειών αποτελείται από διάφορα εξαρτήματα καθένα από τα οποία κατασκευάζεται και ελέγχεται προσεκτικά πριν την τελική του συναρμολόγησ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ι ανεμομείκτες μπήκαν σε ευρεία χρήση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ις Η.Π.Α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., στα πάρκα εσπεριδοειδών στη δεκαετία του 1940 και του 1950 και από τότε έχουν γίνει το βασικό στοιχείο στην προστασία από τον παγετ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ε τη χρήση του ανεμομείκτη επιτυγχάνοντα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μετακίνηση του βαρέος κρύου αέρα για την αποτροπή της στρωματοποίησης και την καθυστέρηση του σχηματισμού παγετο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αντικατάσταση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ου πιο κρύου αέρα από το θερμότερο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έρα του στρώματος αναστροφής στο επίπεδο των δένδρω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παραγωγή θερμότητας από την τριβή, όταν ο παρεχόμενος αέρας κινεί το στρώμα αέρα από το φύλλωμα για να αντικαταστήσει τον πιο κρύο αέρα του περιβάλλοντο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5" name="5 - Ορθογώνιο"/>
          <p:cNvSpPr/>
          <p:nvPr/>
        </p:nvSpPr>
        <p:spPr>
          <a:xfrm>
            <a:off x="1214280" y="719280"/>
            <a:ext cx="8204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οφέλη από τη χρήση του ανεμομείκτη είν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ποτελεσματική προστασία του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φυτικού κεφαλαί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παράταση και κλιμάκωση τη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υγκομιδής σε περιόδου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 εξυπηρετούν την ομαλότερη διακίνηση της παραγωγής στην αγορ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μετάθεση του χρόνου εκτέλεσης ορισμένων καλλιεργητικών εργασιώ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λλές εκατοντάδε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νεμομεικτών έχουν εγκατασταθεί στην Ελλάδα μέχρι τώρα και ιδιαίτερα στους νομούς Αργολίδας, Άρτας, Ηλείας, Θεσπρωτίας και Λακωνί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ι καλλιεργητές διαπίστωσαν ότι ο καλύτερος τρόπος προστασίας της συγκομιδής τους, είναι η εγκατάσταση ανεμομείκτ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πηγή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koliatsis.gr/wind-machine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ράγμα Πουρναρίου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7" name="3 - Θέση περιεχομένου" descr="ydro_pournari3.jpg"/>
          <p:cNvPicPr/>
          <p:nvPr/>
        </p:nvPicPr>
        <p:blipFill>
          <a:blip r:embed="rId1"/>
          <a:stretch/>
        </p:blipFill>
        <p:spPr>
          <a:xfrm>
            <a:off x="1854360" y="1763640"/>
            <a:ext cx="81914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ΟΛΙΤΙΚΗ ΠΡΟΣΤΑΣΙ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80800" y="1751040"/>
            <a:ext cx="8761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αριθμός 112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53" name="6 - Εικόνα" descr="112_mikro7_el_gr-400x314 - Αντιγραφή.jpg"/>
          <p:cNvPicPr/>
          <p:nvPr/>
        </p:nvPicPr>
        <p:blipFill>
          <a:blip r:embed="rId4"/>
          <a:stretch/>
        </p:blipFill>
        <p:spPr>
          <a:xfrm>
            <a:off x="2690640" y="2521080"/>
            <a:ext cx="5119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b74"/>
                </a:solidFill>
                <a:latin typeface="Franklin Gothic Book"/>
              </a:rPr>
              <a:t>https://meteo.gr/meteoedu/</a:t>
            </a:r>
            <a:br>
              <a:rPr sz="2800"/>
            </a:br>
            <a:r>
              <a:rPr b="0" lang="el-GR" sz="2800" spc="-1" strike="noStrike">
                <a:solidFill>
                  <a:srgbClr val="335b74"/>
                </a:solidFill>
                <a:latin typeface="Franklin Gothic Book"/>
              </a:rPr>
              <a:t>Μαθαίνω για τον καιρό και το κλίμα, από το .... σπίτ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5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https://meteo.gr/meteoedu/forecast.cf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6:44:18Z</dcterms:modified>
  <cp:revision>143</cp:revision>
  <dc:subject/>
  <dc:title>Παρουσίαση του PowerPoint</dc:title>
</cp:coreProperties>
</file>