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D61-72BF-4CA4-A530-9C6D6746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C8A-C3F3-402C-9F05-7B956C0D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5B5-7165-413E-9C90-FD9743C7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F4A-D181-477F-96D5-419B82BE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9F67-0305-44DD-B817-AAB3C47B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BD25-23F5-4D42-AC3A-7A1B0A68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BDA3-7EAD-4740-B447-199ED10B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AEE5-4861-428B-912A-B746265A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7ABB-D859-42C1-A273-FA0F154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2946-C2BE-4995-AD9E-2F96152E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B1D7-2927-412D-AAF0-1484F2F5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9FC-7506-412D-BB0C-0BA70594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7A6F-1A81-4B7D-8097-0AD20256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A3F7-DBDD-4AC8-AC35-B53A7576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2B74-1139-4ADD-AAE0-6EEFE672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3D73-69FD-40BE-8CE7-AABD159F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740E-5D93-4CA4-8857-3A7FE423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BAE9-3BE1-43D0-BD62-75A8A4BC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CA0C-BA0B-42CE-8297-CFCD25EF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6E7E-E25C-4EBF-AD46-DABA0FF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543F-5BFA-45A4-A1F4-EB9323B2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4AA6-1E53-4281-80F9-CB1C2A16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D22-4506-4376-9D69-852E4C3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BDFA-20EE-4B2E-B34C-B8578959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2FAF-5E86-4DE3-A1B4-AB7C63B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CD1E-A1F7-4116-B50A-332B9D2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5095-67E6-4F6B-AD50-E90F71D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DC43-2A16-4EFF-AC9A-2C224DAB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2A46-4521-485F-B5B7-5018E121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EA6F-6C13-4510-946A-AEEA7200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0A313-440C-44A3-B1C5-0C0BB176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F1C3-56BB-4D4D-8723-44C221A8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30A11-B6F2-4006-B2B0-D32E0D4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F14-2621-4712-8C44-80F0B310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2547-32F6-4C46-B98A-8B3EA21E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BEC9-4340-41A8-A4E2-A4491927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EF8B-160B-4670-AE72-7EAE0778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E712-5F16-474A-89AC-8609032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AEDB9-874C-48B1-B10C-7DB6B6BC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D1FAD-05E7-4729-88D7-49BB4E9C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0145-0643-4517-8A19-86F0D12D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A3A5-B890-4C7A-BFE9-3F8EC166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3A75-FCC7-4F96-A969-0EA79E08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2220-C0C6-43E9-B077-31D72596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003-FD01-41F5-B3B2-31DEA922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6E88F-2B17-461B-AE9D-3367A707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66CF-3A55-4CDD-B2DB-1F791991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1B619-18A1-4A30-9EA9-F00632E9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81969-C59A-42FB-8BD9-A57E5001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1477-62D2-49D4-9BEF-5316A7EE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742B-D659-421A-BD91-7BFE7B00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6907-0A7B-4A5D-88FA-6C2AF65F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CD55-5441-44AA-BDE4-1B75DD7F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182D0-0D08-45C5-A73B-BD98C6DD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964F-0468-457F-A510-36AABAA9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7B9-7D04-4B72-91A3-EC057C28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A4B0-C0B1-45C0-9C9F-E601FD80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853-E160-4E3A-BBF8-D2A1071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770-9B36-4DE8-B06C-0CBE86A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4FD-F2C3-468F-9EBC-842978F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D23A7-8A8E-4D51-9FF4-DFB16D557A5B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A3EE3-4B50-482D-815F-AC646976E21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5B842-743F-42E5-9311-DF352B734E28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E6653-A573-4074-B5F7-BC35961CB65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3D747-12F9-4E27-9E7A-512D034E7148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ΕΝΕΙΑ ΣΤΟ ΔΙΑΔΙ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Μήτσιου Αναστασία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85920" y="398160"/>
            <a:ext cx="758016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Franklin Gothic Book"/>
              </a:rPr>
              <a:t>Tι μπορούμε να κάνουμε αν διαπιστώσουμε ότι κάποιος φίλος μας/συμμαθητής μας έχει πέσει θύμα διαδικτυακού εκφοβισμού</a:t>
            </a: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7280" y="2377800"/>
            <a:ext cx="772308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του εκφράσουμε την υποστήριξ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αναφέρουμε το περιστατικό σε κάποιον που μπορεί να βοηθήσει – έναν γονέα ή έναν δάσκαλο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Εάν δούμε προσβλητικά σχόλια στο διαδίκτυο μπορούμε να κάνουμε αμέσως αναφορά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3" name="Εικόνα 3" descr=""/>
          <p:cNvPicPr/>
          <p:nvPr/>
        </p:nvPicPr>
        <p:blipFill>
          <a:blip r:embed="rId1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6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5" descr=""/>
          <p:cNvPicPr/>
          <p:nvPr/>
        </p:nvPicPr>
        <p:blipFill>
          <a:blip r:embed="rId3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73440" y="663480"/>
            <a:ext cx="7491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Ψηφιακός πολίτ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14360" y="2130120"/>
            <a:ext cx="7491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Το να είσαι καλός ψηφιακός πολίτης σημαίνει να χρησιμοποιείς την τεχνολογία υπεύθυνα με ασφάλεια, σεβασμό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Θα πρέπει να είμαστε ευγενικοί με τους άλλους στο διαδίκτυο, να σκεφτόμαστε πριν κοινοποιήσουμε και να προστατεύουμε τα προσωπικά μας στοιχεί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Ο σεβασμός της ιδιωτικής ζωής και η τήρηση των κανόνων που θέτουν οι ενήλικες είναι επίσης σημαντικός. Είναι σημαντικό να υπάρχει ισορροπία μεταξύ του χρόνου οθόνης και άλλων Δραστηριοτήτων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ς γίνουμε καλοί ψηφιακοί πολίτες και ας κάνουμε τον ψηφιακό κόσμο καλύτερο!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120" y="639720"/>
            <a:ext cx="7175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Λέξεις που χαρακτηρίζουν έναν καλό ψηφιακό πολίτη: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6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2095560" y="2292480"/>
            <a:ext cx="504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ευγένε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σεβα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καλοσύν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ευθυν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σορροπ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οστήρι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διωτικ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6360" y="763560"/>
            <a:ext cx="89456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1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3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1131840" y="2130480"/>
            <a:ext cx="672480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ξεχνάμε ποτέ ότι στην άλλη πλευρά της ηλεκτρονικής μας συνομιλίας βρίσκεται ένας άνθρωπο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ν ιδιωτικότητα των άλλω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ν κοινοποιούμε στο διαδίκτυο φωτογραφίες κάποιου αν δεν έχουμε την έγκρισή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 γνώμη των άλλων, ακόμα κι αν δε συμφωνούμε με αυτή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ν δε συμφωνούμε με κάποιον, εκφράζουμε τη διαφωνία μας πολιτισμέν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6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722600" y="2463840"/>
            <a:ext cx="609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4. Αποφεύγουμε τα ΚΕΦΑΛΑΙΑ γράμματα. Oι συνομιλητές μας νιώθουν πως τους υψώνουμε τη φων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5. Γράφουμε με σαφή,κατάλληλο και συνοπτικό τρόπο. Όταν επικοινωνούμε σε επίσημο ύφος, αποφεύγουμε τα greeklish, τις συντομεύσεις και τα emotic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6. Δεν κάνουμε εμφανείς αποκλεισμούς στο κοινό μας. Δε δημιουργούμε την αίσθηση στους υπόλοιπους ότι είναι αποκομμένο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150920" y="824040"/>
            <a:ext cx="807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166400" y="2003040"/>
            <a:ext cx="76820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Ελέγχουμε πάντα αν, όσα μοιραζόμαστε στο διαδίκτυο, είναι έγκυρα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Αναπτύσσουμε κριτική σκέψη και εμπιστευόμαστε το ένστικτο και τη λογικ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κεφτόμαστε πρι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θέσουμε ή αποδεχτούμε κάποιον φίλο. Αν δεν θέλουμε να μείνουμε σε επαφή μαζί τους, δεν τους προσθέτουμε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δημοσιεύουμε υλικό που προστατεύεται από πνευματικά δικαιώματα στο οποίο δεν είμαστε κάτοχοι των δικαιωμάτων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Όταν στέλνουμε email σε πολλούς παραλήπτες που δεν γνωρίζονται μεταξύ τους δε δημοσιοποιούμε τις ηλεκτρονικές τους διευθύνσει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2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6400" y="836640"/>
            <a:ext cx="876132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01400" y="4762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301760" y="1720800"/>
            <a:ext cx="56959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Γνώ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βασιμότητα σε πληροφορί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Προστασ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πό τον εκφοβισμό και τη βία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υμμετοχή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 συζητήσεις και φόρουμ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Δικαιοσύν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αναζήτησης βοήθειας εάν αισθάνεσαι πως απειλείσαι με οποιονδήποτε τρόπ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Εκπαίδευ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στην εκπαίδευση - ενημέρωση για το τι διατίθεται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Υγε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ναπαραμείνετε υγιείς σωματικά και ψυχικά ενώ αλληλεπιδράτε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8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4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0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520" y="596880"/>
            <a:ext cx="8575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15880" y="1720800"/>
            <a:ext cx="61372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υς άλλου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ην παρεμποδίζετε τα βασικά δικαιώματα των άλλων ή με οποιονδήποτε τρόπο συμμετέχετε σε συμπεριφορά που είναι επιβλαβής για τους άλλου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ν εαυτό σα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έπει να γνωρίζετε το ψηφιακό αποτύπωμά σας και πώς αυτό επηρεάζει τον τρόπο με τον οποίο σας αντιλαμβάνονται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3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55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01400" y="58896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Τι μπορούμε να κάνουμε αν κάτι μας ενοχλήσει/αναστατώσει στο διαδίκτυο;</a:t>
            </a:r>
            <a:br>
              <a:rPr sz="3600"/>
            </a:b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98080" y="1720800"/>
            <a:ext cx="757404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71160" indent="-37116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διακόψουμε αμέσως την επικοινωνία και να αποκλείσουμε τα μηνύματα ή το προφίλ που μας ενόχλησε/αναστάτωσε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μιλήσουμε με κάποιον που εμπιστευόμαστε, τους γονείς μας, έναν δάσκαλο ή έναν άλλο ενήλικ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Nα τραβήξουμε ένα στιγμιότυπο οθόνης και να κρατήσουμε τα στοιχεία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Να κάνουμε αναφορά στον ιστότοπο/εφαρμογή/μέσω κοινωνικής δικτύωσης/διαδικτυακό παιχνίδι αν αντιμετωπίσουμε διαδικτυακό εκφοβισμό, αγενές ή ψευδές περιεχόμενο, παρενόχληση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15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8" name="Εικόνα 3" descr=""/>
          <p:cNvPicPr/>
          <p:nvPr/>
        </p:nvPicPr>
        <p:blipFill>
          <a:blip r:embed="rId1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5" descr=""/>
          <p:cNvPicPr/>
          <p:nvPr/>
        </p:nvPicPr>
        <p:blipFill>
          <a:blip r:embed="rId3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16:44Z</dcterms:modified>
  <cp:revision>139</cp:revision>
  <dc:subject/>
  <dc:title>Παρουσίαση του PowerPoint</dc:title>
</cp:coreProperties>
</file>