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76C-37F2-432C-9FFC-26F9F3D9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BA1-4B3C-421C-9D22-A5BE69FE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EAB-6C5E-43F1-8A32-E89EA608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452-2D82-4127-A1BB-F2A2D2A3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3A62-64FA-4112-9FF6-1C446061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94D-7700-46FD-ABF9-B1DB4A93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93D-A1F9-4C36-B298-89F2C81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E6EE-8442-4063-B880-F9A8C9F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5BA0-BFD9-498E-A2CD-806A9FE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C1D-4474-4E7A-831D-6727F94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5E3-B15C-49E5-8D28-1EC09AE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366-2720-432C-BE56-A495B946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2FBF-3E97-481D-8008-B286E94B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F2E-B3D1-4523-AD32-AB73016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BE07-9433-42E8-97FC-C42C685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438B-6B82-4096-94C8-FD7AE02E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EDD-7059-4C13-959E-15CF6FC8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1470-F26B-4D1D-85E2-09D52A97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2248-FEC6-4BB9-A19C-56E75DA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D753-873A-4D77-8FC9-DC3A11E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0BD3-6587-4367-B261-E8734143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8EA5-41D5-4908-917D-026FE77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735-56BD-45BB-BAEB-82B4359F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4B65-D12C-483B-992C-3CA6C74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7D0E-7A59-45E1-81F4-59ABE22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A5D8-2261-4DA7-B5BC-299FE18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5666-8F56-4F8F-B1FA-4DA5A4E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8A1A-DC4D-4148-95C3-A482390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5834-4343-4CC0-834A-97F350E8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8CDF-23F9-4D14-8A2D-D5670EAE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6F1B-649A-4B57-B5B2-46671092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75C1-EE6A-4293-B862-DC9D7008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E12A-F080-4A8A-9D34-E1D6BBD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C35-7701-4029-85BF-7A5C3BB1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0AB3-AC89-487E-81CE-D37DAE1B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DBBE-41E4-4BB2-B021-1CA8BFDE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BCF7-B157-4E0C-B2A7-F03B1F2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9C9E-ECB8-46E0-A3BF-8109AA0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9216-39D7-4D5E-B58C-789DBED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8A77-A62A-45FA-85B6-E50C5E4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B27C-58C0-4277-928C-A57F0B85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F6FF-D998-4403-8E25-F9736E7D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E59F-8D5A-4AFD-96BD-5A59EAE6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30E5-DBEF-4858-BD26-93116BC8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E6C-4945-492A-A28F-07CA79A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E249-9988-4770-968D-5063BBF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435A-E327-4947-9FCE-950ABEA3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1F0D3-8FA6-4B5E-89C4-B389270C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7F90-3B36-48ED-9A31-928E1FD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C342-0E29-4443-B123-3C22F7A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4C77-2CF6-4A2F-9196-283EB48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A025-5EF3-4FA2-9381-0FE9FD4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A7B6-95CD-4C83-8D07-C8911BA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9FAE-6036-49DF-B08B-7C646976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B983-2CB3-4088-9E30-80569F88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A7F-8403-4996-839A-688A6E9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4693-E6FB-4CE3-9FF6-43443C42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5BB-11B2-4B7A-A02A-83B998D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AF8-ACB9-49A2-AADB-3FBED1E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8FF-B8E6-487D-9823-64449B8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705B-F1EA-4D3D-9516-E73EA1B3051B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F3D44-8E35-4801-AD0C-D7607161100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2E264-43BE-4586-A851-E707AE7FE232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B5377-8D85-4A06-8D62-9A9A7350CA6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0712C-33B6-4F6D-B4B4-03F2D4C1D70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ΕΝΕΙΑ ΣΤΟ ΔΙΑΔΙ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Μήτσιου Αναστασία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398160"/>
            <a:ext cx="75801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Tι μπορούμε να κάνουμε αν διαπιστώσουμε ότι κάποιος φίλος μας/συμμαθητής μας έχει πέσει θύμα διαδικτυακού εκφοβισμού</a:t>
            </a: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2377800"/>
            <a:ext cx="772308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του εκφράσουμε την υποστήριξ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αναφέρουμε το περιστατικό σε κάποιον που μπορεί να βοηθήσει – έναν γονέα ή έναν δάσκαλο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Εάν δούμε προσβλητικά σχόλια στο διαδίκτυο μπορούμε να κάνουμε αμέσως αναφορά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3" name="Εικόνα 3" descr=""/>
          <p:cNvPicPr/>
          <p:nvPr/>
        </p:nvPicPr>
        <p:blipFill>
          <a:blip r:embed="rId1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5" descr=""/>
          <p:cNvPicPr/>
          <p:nvPr/>
        </p:nvPicPr>
        <p:blipFill>
          <a:blip r:embed="rId3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73440" y="663480"/>
            <a:ext cx="7491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Ψηφιακός πολίτ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14360" y="2130120"/>
            <a:ext cx="7491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Το να είσαι καλός ψηφιακός πολίτης σημαίνει να χρησιμοποιείς την τεχνολογία υπεύθυνα με ασφάλεια, σεβασμό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Θα πρέπει να είμαστε ευγενικοί με τους άλλους στο διαδίκτυο, να σκεφτόμαστε πριν κοινοποιήσουμε και να προστατεύουμε τα προσωπικά μας στοιχεί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σεβασμός της ιδιωτικής ζωής και η τήρηση των κανόνων που θέτουν οι ενήλικες είναι επίσης σημαντικός. Είναι σημαντικό να υπάρχει ισορροπία μεταξύ του χρόνου οθόνης και άλλων Δραστηριοτήτων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ς γίνουμε καλοί ψηφιακοί πολίτες και ας κάνουμε τον ψηφιακό κόσμο καλύτερο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120" y="639720"/>
            <a:ext cx="7175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Λέξεις που χαρακτηρίζουν έναν καλό ψηφιακό πολίτη: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2095560" y="2292480"/>
            <a:ext cx="504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ευγέ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σεβ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καλοσύ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ευθυν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σορροπ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οστήρι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διω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360" y="763560"/>
            <a:ext cx="8945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1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3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131840" y="2130480"/>
            <a:ext cx="6724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ξεχνάμε ποτέ ότι στην άλλη πλευρά της ηλεκτρονικής μας συνομιλίας βρίσκεται ένας άνθρωπο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ν ιδιωτικότητα των άλλω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ν κοινοποιούμε στο διαδίκτυο φωτογραφίες κάποιου αν δεν έχουμε την έγκρισ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 γνώμη των άλλων, ακόμα κι αν δε συμφωνούμε με αυτή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ν δε συμφωνούμε με κάποιον, εκφράζουμε τη διαφωνία μας πολιτισμέ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6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22600" y="246384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4. Αποφεύγουμε τα ΚΕΦΑΛΑΙΑ γράμματα. Oι συνομιλητές μας νιώθουν πως τους υψώνουμε τη φω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5. Γράφουμε με σαφή,κατάλληλο και συνοπτικό τρόπο. Όταν επικοινωνούμε σε επίσημο ύφος, αποφεύγουμε τα greeklish, τις συντομεύσεις και τα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6. Δεν κάνουμε εμφανείς αποκλεισμούς στο κοινό μας. Δε δημιουργούμε την αίσθηση στους υπόλοιπους ότι είναι αποκομμένο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50920" y="82404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66400" y="2003040"/>
            <a:ext cx="76820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Ελέγχουμε πάντα αν, όσα μοιραζόμαστε στο διαδίκτυο, είναι έγκυρα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Αναπτύσσουμε κριτική σκέψη και εμπιστευόμαστε το ένστικτο και τη λογικ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κεφτόμαστε πρι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θέσουμε ή αποδεχτούμε κάποιον φίλο. Αν δεν θέλουμε να μείνουμε σε επαφή μαζί τους, δεν τους προσθέτουμε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δημοσιεύουμε υλικό που προστατεύεται από πνευματικά δικαιώματα στο οποίο δεν είμαστε κάτοχοι των δικαιωμάτων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Όταν στέλνουμε email σε πολλούς παραλήπτες που δεν γνωρίζονται μεταξύ τους δε δημοσιοποιούμε τις ηλεκτρονικές τους διευθύνσει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6400" y="836640"/>
            <a:ext cx="876132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01400" y="4762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01760" y="1720800"/>
            <a:ext cx="5695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Γνώ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βασιμότητα σε πληροφορί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Προστασ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πό τον εκφοβισμό και τη βί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υμμετοχή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 συζητήσεις και φόρουμ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Δικαιοσύν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αναζήτησης βοήθειας εάν αισθάνεσαι πως απειλείσαι με οποιονδήποτε τρόπ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Εκπαίδευ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στην εκπαίδευση - ενημέρωση για το τι διατίθεται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Υγε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ναπαραμείνετε υγιείς σωματικά και ψυχικά ενώ αλληλεπιδράτε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8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520" y="596880"/>
            <a:ext cx="8575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5880" y="1720800"/>
            <a:ext cx="61372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υς άλλου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ην παρεμποδίζετε τα βασικά δικαιώματα των άλλων ή με οποιονδήποτε τρόπο συμμετέχετε σε συμπεριφορά που είναι επιβλαβής για τους άλλου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ν εαυτό σα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έπει να γνωρίζετε το ψηφιακό αποτύπωμά σας και πώς αυτό επηρεάζει τον τρόπο με τον οποίο σας αντιλαμβάνονται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3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01400" y="58896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ι μπορούμε να κάνουμε αν κάτι μας ενοχλήσει/αναστατώσει στο διαδίκτυο;</a:t>
            </a:r>
            <a:br>
              <a:rPr sz="3600"/>
            </a:b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98080" y="1720800"/>
            <a:ext cx="757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διακόψουμε αμέσως την επικοινωνία και να αποκλείσουμε τα μηνύματα ή το προφίλ που μας ενόχλησε/αναστάτωσε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μιλήσουμε με κάποιον που εμπιστευόμαστε, τους γονείς μας, έναν δάσκαλο ή έναν άλλο ενήλικ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Nα τραβήξουμε ένα στιγμιότυπο οθόνης και να κρατήσουμε τα στοιχεί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Να κάνουμε αναφορά στον ιστότοπο/εφαρμογή/μέσω κοινωνικής δικτύωσης/διαδικτυακό παιχνίδι αν αντιμετωπίσουμε διαδικτυακό εκφοβισμό, αγενές ή ψευδές περιεχόμενο, παρενόχληση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15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8" name="Εικόνα 3" descr=""/>
          <p:cNvPicPr/>
          <p:nvPr/>
        </p:nvPicPr>
        <p:blipFill>
          <a:blip r:embed="rId1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5" descr=""/>
          <p:cNvPicPr/>
          <p:nvPr/>
        </p:nvPicPr>
        <p:blipFill>
          <a:blip r:embed="rId3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16:44Z</dcterms:modified>
  <cp:revision>139</cp:revision>
  <dc:subject/>
  <dc:title>Παρουσίαση του PowerPoint</dc:title>
</cp:coreProperties>
</file>