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31B-205B-43BF-9BD7-C023E61D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B803-A0DB-48CC-9C21-DC533AE8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02E-1227-4E0C-AB5B-1782D028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9B59-67FC-40BB-8739-6F1FDA3C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4B0A-3B3E-403B-A1EC-F868D961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0601-1C6D-49B2-8772-190B9007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1E37-633D-4519-B50D-53F6E088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C970-4FE1-4A5C-9FFD-347A87B7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6530-9303-49F5-9981-370230FF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3953-ACA0-476F-9EB6-169DC3AA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5B66-BCE7-4C27-A351-CFD198B8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980-FA74-40A0-9FE0-96D27164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81F4-ADE3-46D2-AD5C-93A25B06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3FEF-39BE-41F0-8C27-BB0A15F1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D2D0-355F-4A4E-ADDD-51E84CC9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76D7-B88F-4B28-B25E-C854F17F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DF1A-F05D-4AE3-A764-45D72368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2737D-1065-4060-8D4D-A09FE985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E84E7-2D00-40A9-806D-C8691BDE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D4718-0291-47FC-BBE0-81BDA6CF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87A96-FCD8-4F6F-B3FB-F06CDD88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CB9FA-A07B-4872-B798-DBFD0ED2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D4D6-2711-492B-8266-7662EFDC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D48C8-C89B-495D-A084-431D5307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920CC-F1D5-466A-8E05-6140BB74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BD7BB-DA99-4C93-A3D3-03471921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07B31-6BCF-4A1F-A376-C918F493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D1DCB-7B2F-4CF2-8D03-6B0846FA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A637D-C11C-479C-90F3-CB80E5CF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856E1-1E11-4385-8AD0-A88EAC52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15E08-5577-4E93-BB12-CB55A6C6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1E994-C8AE-4E74-B246-293F99D3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6AD59-8F87-448B-9865-73EA821B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28B-7EB3-4E7D-8D49-6D2AFA96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1E1A2-04CD-496F-9F34-FCF63CD6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E6192-C48C-4994-9735-F63339DC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0CE06-952E-4706-82CB-3D2BFE77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D8827-B3BC-41E0-9B13-F34AAF3B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EAAF3-B30D-4560-AF74-AA3EB5FB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7658E-D5B5-4A1E-AEFC-3A098B2B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7DE28-B364-4041-B439-7B1AB5D2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C0E4F-310C-49C2-9334-69367EDA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D54B6-6BE8-4299-92CB-FEC64EAC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5EF71-F8E1-4E98-B143-628BBFC2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05A-3B91-486B-97EB-85D033F0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06A7B-14CD-492B-A0D3-43B61059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6C10E-2DB4-4D24-84F9-893BCE06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78F20-3EE6-4AA3-8157-BDCE308E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EB59D-A428-46DF-A16C-609E1E01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9B742-D3DD-43CA-BCD8-B319C722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4A059-5A63-4431-9A70-CE84C305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16831-6FB7-48B4-8C7B-91942E46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2D328-BD1D-465A-AC5E-17D8F294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95A19-70BE-4863-98BD-F9563F43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93063-6857-43A3-95D8-88A80250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4A5-781F-410B-AEFB-4673BEF9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744C6-2FC9-445C-BC5D-C4EF748A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657-DFAC-410E-ABA9-02C7CD4F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D76C-4FF8-4043-8332-B8CF118B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827-4CC0-464C-B4B5-0113ED61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D8545-BB9C-4624-BCA3-707D376C2410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E4090-B5A9-4FAF-8B23-33A95DADD4D6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A2ED4-6D5A-4751-935B-CBBA59AFA655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88AD6-B46D-495A-A2AD-659163C14BC1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D23793-4C2F-48B0-A5D3-99E45D021355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62120" y="2071440"/>
            <a:ext cx="826776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Ο</a:t>
            </a:r>
            <a:r>
              <a:rPr b="0" lang="en-US" sz="4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ΚΟΣΜΟΣ ΤΩΝ ΚΛΑΣΜΑΤΩΝ 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Δημιουργός: Πελαγία Μπέλλου 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6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9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2920" y="371160"/>
            <a:ext cx="495756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Κλάσματα </a:t>
            </a:r>
            <a:br>
              <a:rPr sz="4000"/>
            </a:b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                </a:t>
            </a:r>
            <a:br>
              <a:rPr sz="4000"/>
            </a:br>
            <a:br>
              <a:rPr sz="4000"/>
            </a:b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1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2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Fraction clipart 20 free Cliparts | Download images on Clipground 2023"/>
          <p:cNvPicPr/>
          <p:nvPr/>
        </p:nvPicPr>
        <p:blipFill>
          <a:blip r:embed="rId4"/>
          <a:stretch/>
        </p:blipFill>
        <p:spPr>
          <a:xfrm>
            <a:off x="6699240" y="534960"/>
            <a:ext cx="2860560" cy="3295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Fractions clipart 20 free Cliparts | Download images on Clipground 2023"/>
          <p:cNvPicPr/>
          <p:nvPr/>
        </p:nvPicPr>
        <p:blipFill>
          <a:blip r:embed="rId5"/>
          <a:stretch/>
        </p:blipFill>
        <p:spPr>
          <a:xfrm>
            <a:off x="981000" y="3494160"/>
            <a:ext cx="2724120" cy="3111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404 - File or directory not found. | Math, Math made easy, Teacher websites"/>
          <p:cNvPicPr/>
          <p:nvPr/>
        </p:nvPicPr>
        <p:blipFill>
          <a:blip r:embed="rId6"/>
          <a:stretch/>
        </p:blipFill>
        <p:spPr>
          <a:xfrm>
            <a:off x="4110120" y="1449360"/>
            <a:ext cx="21844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17720" y="232920"/>
            <a:ext cx="3146400" cy="636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Η</a:t>
            </a:r>
            <a:r>
              <a:rPr b="1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r>
              <a:rPr b="1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ώ</a:t>
            </a:r>
            <a:r>
              <a:rPr b="1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ρα και τα κλασματα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ι σημα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ί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νουν οι εκφρασει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ς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;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Θα 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έ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ρθω σε 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έ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να τ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έ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αρτο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ε 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ρ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ί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α τ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έ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αρτα 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σχολ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ά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με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Με ποιες εικόνες ταιριάζουν</a:t>
            </a:r>
            <a:r>
              <a:rPr b="0" lang="el-GR" sz="4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8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29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0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ΜΑΘΗΜΑΤΙΚΑ Ε – ΠΑΙΖΩ ΚΑΙ ΜΑΘΑΙΝΩ ΤΑ ΚΛΑΣΜΑΤΑ | Αφιερωμένο στα μαθητούδια!"/>
          <p:cNvPicPr/>
          <p:nvPr/>
        </p:nvPicPr>
        <p:blipFill>
          <a:blip r:embed="rId4"/>
          <a:srcRect l="52764" t="36236" r="2327" b="-1942"/>
          <a:stretch/>
        </p:blipFill>
        <p:spPr>
          <a:xfrm>
            <a:off x="4392720" y="1041480"/>
            <a:ext cx="479556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90520" y="579600"/>
            <a:ext cx="62420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Συνταγές  και Κλάσματα 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3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34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5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"/>
          <p:cNvSpPr/>
          <p:nvPr/>
        </p:nvSpPr>
        <p:spPr>
          <a:xfrm>
            <a:off x="1852560" y="1308240"/>
            <a:ext cx="29876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ΚΕΙ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ΥΛΙΚ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¼ 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 ΤΟΥ ΚΙΛΟΥ </a:t>
            </a: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ΒΟΥΤΥΡ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¼ 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ΟΥ ΚΙΛΟΥ </a:t>
            </a: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ΖΑΧΑΡ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½ 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ΟΥ ΚΙΛΟΥ </a:t>
            </a: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ΑΛΕΥΡ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3 ΑΒΓ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1 ΒΑΝΙΛΙ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5211720" y="2550960"/>
            <a:ext cx="2986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35b7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Ι ΠΑΡΑΤΗΡΕΙΣ ΣΤΙΣ ΥΠΟΓΡΑΜΜΙΜΕΝΕΣ ΦΡΑΣΕΙ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35b7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ΠΟΙΑ Η ΣΗΜΑΣΙΑ ΤΟΥ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187200"/>
            <a:ext cx="3502080" cy="65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ο κλάσμα είναι μια διαίρεση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Φανερώνει </a:t>
            </a:r>
            <a:r>
              <a:rPr b="0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ο </a:t>
            </a:r>
            <a:r>
              <a:rPr b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μέρος </a:t>
            </a:r>
            <a:r>
              <a:rPr b="0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ενός συνόλου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Για παράδειγμα, το κλάσμα </a:t>
            </a:r>
            <a:r>
              <a:rPr b="1" lang="el-GR" sz="28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¼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μου δείχνει ότι πήρα 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ο 1 από τα 4 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κομμάτια της πίτσας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ι φανερώνουν τα κλασματα στις εικόνες; 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Διαδραστική άσκηση</a:t>
            </a: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ι μέρος της πίτσας έφαγα; - Βρες το ταίρι (wordwall.net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71600" y="2638080"/>
            <a:ext cx="960120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0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41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2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ola compañeros y amigos que nos visitan compartimos este fabuloso ..."/>
          <p:cNvPicPr/>
          <p:nvPr/>
        </p:nvPicPr>
        <p:blipFill>
          <a:blip r:embed="rId4"/>
          <a:srcRect l="0" t="4899" r="0" b="4163"/>
          <a:stretch/>
        </p:blipFill>
        <p:spPr>
          <a:xfrm>
            <a:off x="4402080" y="368280"/>
            <a:ext cx="49086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32920"/>
            <a:ext cx="8761320" cy="13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ΠΟΙΑ ΕΙΝΑΙ ΤΑ ΚΛΑΣΜΑΤΑ ΣΤΗΝ ΕΙΚΟΝΑ;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5" name="Εικόνα 3" descr=""/>
          <p:cNvPicPr/>
          <p:nvPr/>
        </p:nvPicPr>
        <p:blipFill>
          <a:blip r:embed="rId1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46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7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Pin de Lorena Diaz en de todo un poco. | Fracciones para primaria ..."/>
          <p:cNvPicPr/>
          <p:nvPr/>
        </p:nvPicPr>
        <p:blipFill>
          <a:blip r:embed="rId4"/>
          <a:stretch/>
        </p:blipFill>
        <p:spPr>
          <a:xfrm>
            <a:off x="1217520" y="1552680"/>
            <a:ext cx="3853080" cy="4803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1371600" y="2286000"/>
            <a:ext cx="9601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26800" y="70344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ΤΙΑΧΝΩ ΚΛΑΣΜΑΤΑ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69760" y="2041560"/>
            <a:ext cx="876132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Διαδραστικές ασκήσεις ‪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εισαγωγή στα κλάσματα‬ (colorado.edu)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‪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φτιάξε ένα κλάσμα‬ (colorado.edu)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2" name="Εικόνα 3" descr=""/>
          <p:cNvPicPr/>
          <p:nvPr/>
        </p:nvPicPr>
        <p:blipFill>
          <a:blip r:embed="rId1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5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54" name="Εικόνα 5" descr=""/>
          <p:cNvPicPr/>
          <p:nvPr/>
        </p:nvPicPr>
        <p:blipFill>
          <a:blip r:embed="rId3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4-06-24T08:01:38Z</dcterms:modified>
  <cp:revision>138</cp:revision>
  <dc:subject/>
  <dc:title>Παρουσίαση του PowerPoint</dc:title>
</cp:coreProperties>
</file>