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1B52-9BE6-4887-BB5C-5CF4D840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0BD3-EEC7-4EA2-BAC0-03F096C2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DEB2-6280-40F3-ACA4-2E4D3999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5941-0EDB-48B2-9D86-BEC2A1BC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22C6-AD24-4FBC-AA79-85509AF8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7F20-6914-4A0F-AF87-E83BEFBF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48E1-5F53-4E01-9359-ADF8058F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6D21C-2798-4323-B087-EB9874F4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46A0-0287-413F-825B-968E7300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99343-F370-4B71-B4FA-D75429D1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AE8D-0CDE-4F4C-A2C7-8C83F55E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3D19-4103-404A-8566-E10489AD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697A-C26A-4772-A997-5AAB9B23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76C5-2D4D-4CA4-A775-88D1B769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3A4C5-C921-4D63-A205-15B556C27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09CB-73F2-4EB1-A539-4E64DE16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F337A-0516-4571-A39D-110D2B6C8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01634-0FA6-4074-970B-330C4734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4AE80-BBE3-4C69-B6E1-186634B5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EE664-7B72-4D97-A44C-BFC1158E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2B4BB-55FD-47FC-BA1B-0CBB5AD4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96309-D345-4F4E-A227-934B60C6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851-9CE3-4EA1-9FFD-EDCFDDD7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E75137-A08E-4034-A535-33113EC3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8153F-BE9E-4F91-A95A-6D08FA96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D1199-7E65-4F2A-9036-9EA0D55A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69382-73C1-4187-9D00-6A6F7492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0238A-335C-4AC9-901B-7FAA67A1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ABBB5-F059-4365-89B0-B8A8CC127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E29D2-4B96-4791-88B1-BDF30FA75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6AA89-CA0B-4DA5-A8FA-65E71A15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1D670-A58A-4B8C-9147-64FF3179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E2565-4B41-4DC9-80BF-35C162B5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8799-80D8-4471-AD2B-C5F75C40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4D3D5-6901-4421-B39B-7C9C136C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FC85F-A623-4B35-98DE-F13864F4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9AD8F-0FAD-42B8-80F9-D0F1899F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63821-ED92-42A4-8ECA-F0D1E21A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DC271-DCA6-47AC-8D83-0B38082B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37D6C-3677-4231-A7DA-7B2D8A77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7487C-5CEB-4CEB-8D38-5E9B7A541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F1B09-FAE6-48BD-81F9-A4E11579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CB1D4-2F51-4BC1-B67F-FFAE86CC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26D36-30B3-4B3B-B780-44A3ACE8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548-E7D3-4EB1-86F2-8E435DF3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7356C-952B-4655-A4A3-9461218E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55962-A984-4DDF-9DF4-9018567E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080D6-0AE0-4AFC-85C1-3C50B77B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EB5E1-8789-442E-B80F-EBF358B2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5EB4F-0565-4962-BEAA-3CE48C15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D04FA-58B6-4F19-A6BA-97DCCEC7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50A2B-73DD-4FCA-8B49-8A508D14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12476-1B11-41ED-89D5-2A15EBA4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7C964-6A30-41D8-B6F9-40BE6D35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B68795-2BA8-4529-BA60-181CBE823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260E-A45C-4A65-8479-E7CF4DAB9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D6344-243D-4672-9350-9085F162B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A7AB-F972-43B0-83B2-57A07DB8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0BF-7F4E-4350-96C6-4C9E2E53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E51-0022-40D0-AD02-9530E8E9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CB7148-EDF2-47F5-870B-F54D21C4E117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custGeom>
              <a:avLst/>
              <a:gdLst>
                <a:gd name="textAreaLeft" fmla="*/ 0 w 3274920"/>
                <a:gd name="textAreaRight" fmla="*/ 3275280 w 3274920"/>
                <a:gd name="textAreaTop" fmla="*/ 0 h 4408560"/>
                <a:gd name="textAreaBottom" fmla="*/ 4408560 h 4408560"/>
              </a:gdLst>
              <a:ahLst/>
              <a:rect l="textAreaLeft" t="textAreaTop" r="textAreaRight" b="textAreaBottom"/>
              <a:pathLst>
                <a:path w="10000" h="10000">
                  <a:moveTo>
                    <a:pt x="8761" y="0"/>
                  </a:moveTo>
                  <a:lnTo>
                    <a:pt x="10000" y="0"/>
                  </a:lnTo>
                  <a:lnTo>
                    <a:pt x="10000" y="10000"/>
                  </a:lnTo>
                  <a:lnTo>
                    <a:pt x="0" y="10000"/>
                  </a:lnTo>
                  <a:lnTo>
                    <a:pt x="0" y="9126"/>
                  </a:lnTo>
                  <a:lnTo>
                    <a:pt x="8761" y="9127"/>
                  </a:lnTo>
                  <a:lnTo>
                    <a:pt x="8761" y="0"/>
                  </a:lnTo>
                  <a:close/>
                </a:path>
              </a:pathLst>
            </a:cu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custGeom>
              <a:avLst/>
              <a:gdLst>
                <a:gd name="textAreaLeft" fmla="*/ -360 w 3274920"/>
                <a:gd name="textAreaRight" fmla="*/ 3274920 w 3274920"/>
                <a:gd name="textAreaTop" fmla="*/ 0 h 4408560"/>
                <a:gd name="textAreaBottom" fmla="*/ 4408560 h 4408560"/>
              </a:gdLst>
              <a:ahLst/>
              <a:rect l="textAreaLeft" t="textAreaTop" r="textAreaRight" b="textAreaBottom"/>
              <a:pathLst>
                <a:path w="10002" h="10000">
                  <a:moveTo>
                    <a:pt x="8763" y="0"/>
                  </a:moveTo>
                  <a:lnTo>
                    <a:pt x="10002" y="0"/>
                  </a:lnTo>
                  <a:lnTo>
                    <a:pt x="10002" y="10000"/>
                  </a:lnTo>
                  <a:lnTo>
                    <a:pt x="2" y="10000"/>
                  </a:lnTo>
                  <a:cubicBezTo>
                    <a:pt x="-2" y="9698"/>
                    <a:pt x="4" y="9427"/>
                    <a:pt x="0" y="9125"/>
                  </a:cubicBezTo>
                  <a:lnTo>
                    <a:pt x="8763" y="9128"/>
                  </a:lnTo>
                  <a:lnTo>
                    <a:pt x="8763" y="0"/>
                  </a:lnTo>
                  <a:close/>
                </a:path>
              </a:pathLst>
            </a:cu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F8B66-837E-42AC-A5E1-A0DBDD1EF6F4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custGeom>
            <a:avLst/>
            <a:gdLst>
              <a:gd name="textAreaLeft" fmla="*/ 0 w 3274920"/>
              <a:gd name="textAreaRight" fmla="*/ 3275280 w 3274920"/>
              <a:gd name="textAreaTop" fmla="*/ 0 h 4408560"/>
              <a:gd name="textAreaBottom" fmla="*/ 4408920 h 4408560"/>
            </a:gdLst>
            <a:ahLst/>
            <a:rect l="textAreaLeft" t="textAreaTop" r="textAreaRight" b="textAreaBottom"/>
            <a:pathLst>
              <a:path w="4125" h="5554">
                <a:moveTo>
                  <a:pt x="3614" y="0"/>
                </a:moveTo>
                <a:lnTo>
                  <a:pt x="4125" y="0"/>
                </a:lnTo>
                <a:lnTo>
                  <a:pt x="4125" y="5554"/>
                </a:lnTo>
                <a:lnTo>
                  <a:pt x="0" y="5554"/>
                </a:lnTo>
                <a:lnTo>
                  <a:pt x="0" y="5074"/>
                </a:lnTo>
                <a:lnTo>
                  <a:pt x="3614" y="5074"/>
                </a:lnTo>
                <a:lnTo>
                  <a:pt x="3614" y="0"/>
                </a:lnTo>
                <a:close/>
              </a:path>
            </a:pathLst>
          </a:cu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7C509-261C-482C-970E-E6274654E074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320467-2E2F-416F-A6C2-63FB74A93011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259796-F117-4C8A-AAE9-08A2D6D61C1D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5b74"/>
                </a:solidFill>
                <a:latin typeface="Franklin Gothic Book"/>
              </a:rPr>
              <a:t>Δημιουργός: Κούλης Ιωάννης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7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2841120" y="1789200"/>
            <a:ext cx="743436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ΕΙΔΗ ΤΡΙΓΩΝΩΝ</a:t>
            </a:r>
            <a:br>
              <a:rPr sz="4400"/>
            </a:b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ΩΣ ΠΡΟΣ ΤΙΣ ΠΛΕΥΡΕΣ ΤΟΥΣ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33320" y="338040"/>
            <a:ext cx="74912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χωρισμός σχημάτων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52200" y="1425240"/>
            <a:ext cx="78865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25" name="Ορθογώνιο 2"/>
          <p:cNvSpPr/>
          <p:nvPr/>
        </p:nvSpPr>
        <p:spPr>
          <a:xfrm rot="1306800">
            <a:off x="1436760" y="2052360"/>
            <a:ext cx="914400" cy="914400"/>
          </a:xfrm>
          <a:prstGeom prst="rect">
            <a:avLst/>
          </a:prstGeom>
          <a:solidFill>
            <a:srgbClr val="00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Ισοσκελές τρίγωνο 3"/>
          <p:cNvSpPr/>
          <p:nvPr/>
        </p:nvSpPr>
        <p:spPr>
          <a:xfrm>
            <a:off x="2643120" y="1824120"/>
            <a:ext cx="782640" cy="1112760"/>
          </a:xfrm>
          <a:prstGeom prst="triangle">
            <a:avLst>
              <a:gd name="adj" fmla="val 50000"/>
            </a:avLst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Ορθογώνιο 4"/>
          <p:cNvSpPr/>
          <p:nvPr/>
        </p:nvSpPr>
        <p:spPr>
          <a:xfrm>
            <a:off x="5667480" y="1965240"/>
            <a:ext cx="1419120" cy="889200"/>
          </a:xfrm>
          <a:prstGeom prst="rect">
            <a:avLst/>
          </a:prstGeom>
          <a:solidFill>
            <a:srgbClr val="ffff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Διάγραμμα ροής: Διεργασία 5"/>
          <p:cNvSpPr/>
          <p:nvPr/>
        </p:nvSpPr>
        <p:spPr>
          <a:xfrm>
            <a:off x="7451640" y="2549520"/>
            <a:ext cx="1193760" cy="622440"/>
          </a:xfrm>
          <a:prstGeom prst="flowChartProcess">
            <a:avLst/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Παραλληλόγραμμο 6"/>
          <p:cNvSpPr/>
          <p:nvPr/>
        </p:nvSpPr>
        <p:spPr>
          <a:xfrm>
            <a:off x="2409840" y="4403880"/>
            <a:ext cx="1189080" cy="820440"/>
          </a:xfrm>
          <a:prstGeom prst="parallelogram">
            <a:avLst>
              <a:gd name="adj" fmla="val 25048"/>
            </a:avLst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Τραπέζιο 7"/>
          <p:cNvSpPr/>
          <p:nvPr/>
        </p:nvSpPr>
        <p:spPr>
          <a:xfrm>
            <a:off x="6568920" y="5138640"/>
            <a:ext cx="1320840" cy="822600"/>
          </a:xfrm>
          <a:custGeom>
            <a:avLst/>
            <a:gdLst/>
            <a:ahLst/>
            <a:rect l="l" t="t" r="r" b="b"/>
            <a:pathLst>
              <a:path w="1320714" h="821635">
                <a:moveTo>
                  <a:pt x="0" y="821635"/>
                </a:moveTo>
                <a:lnTo>
                  <a:pt x="205409" y="0"/>
                </a:lnTo>
                <a:lnTo>
                  <a:pt x="1115305" y="0"/>
                </a:lnTo>
                <a:lnTo>
                  <a:pt x="1320714" y="821635"/>
                </a:lnTo>
                <a:lnTo>
                  <a:pt x="0" y="821635"/>
                </a:lnTo>
                <a:close/>
              </a:path>
            </a:pathLst>
          </a:custGeom>
          <a:solidFill>
            <a:srgbClr val="ffc000"/>
          </a:solidFill>
          <a:ln w="34920">
            <a:solidFill>
              <a:srgbClr val="0647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Ορθογώνιο τρίγωνο 8"/>
          <p:cNvSpPr/>
          <p:nvPr/>
        </p:nvSpPr>
        <p:spPr>
          <a:xfrm rot="4737000">
            <a:off x="1775880" y="3456000"/>
            <a:ext cx="741240" cy="1189080"/>
          </a:xfrm>
          <a:prstGeom prst="rtTriangle">
            <a:avLst/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Ρόμβος 9"/>
          <p:cNvSpPr/>
          <p:nvPr/>
        </p:nvSpPr>
        <p:spPr>
          <a:xfrm>
            <a:off x="4013280" y="4654440"/>
            <a:ext cx="623880" cy="1471680"/>
          </a:xfrm>
          <a:prstGeom prst="diamond">
            <a:avLst/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Ισοσκελές τρίγωνο 10"/>
          <p:cNvSpPr/>
          <p:nvPr/>
        </p:nvSpPr>
        <p:spPr>
          <a:xfrm>
            <a:off x="2849400" y="2917800"/>
            <a:ext cx="1417680" cy="10065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Ορθογώνιο τρίγωνο 11"/>
          <p:cNvSpPr/>
          <p:nvPr/>
        </p:nvSpPr>
        <p:spPr>
          <a:xfrm>
            <a:off x="7110360" y="3340080"/>
            <a:ext cx="1020960" cy="1008000"/>
          </a:xfrm>
          <a:prstGeom prst="rtTriangle">
            <a:avLst/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Ορθογώνιο τρίγωνο 12"/>
          <p:cNvSpPr/>
          <p:nvPr/>
        </p:nvSpPr>
        <p:spPr>
          <a:xfrm rot="3912000">
            <a:off x="4640760" y="2493000"/>
            <a:ext cx="1055880" cy="993600"/>
          </a:xfrm>
          <a:prstGeom prst="rtTriangle">
            <a:avLst/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Ισοσκελές τρίγωνο 13"/>
          <p:cNvSpPr/>
          <p:nvPr/>
        </p:nvSpPr>
        <p:spPr>
          <a:xfrm>
            <a:off x="1006560" y="5346720"/>
            <a:ext cx="3020760" cy="914400"/>
          </a:xfrm>
          <a:prstGeom prst="triangle">
            <a:avLst>
              <a:gd name="adj" fmla="val 50000"/>
            </a:avLst>
          </a:prstGeom>
          <a:solidFill>
            <a:srgbClr val="318b71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Ισοσκελές τρίγωνο 14"/>
          <p:cNvSpPr/>
          <p:nvPr/>
        </p:nvSpPr>
        <p:spPr>
          <a:xfrm rot="4444200">
            <a:off x="5068800" y="3681360"/>
            <a:ext cx="2368440" cy="622080"/>
          </a:xfrm>
          <a:prstGeom prst="triangle">
            <a:avLst>
              <a:gd name="adj" fmla="val 50000"/>
            </a:avLst>
          </a:prstGeom>
          <a:solidFill>
            <a:srgbClr val="3e8853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Ορθογώνιο τρίγωνο 15"/>
          <p:cNvSpPr/>
          <p:nvPr/>
        </p:nvSpPr>
        <p:spPr>
          <a:xfrm>
            <a:off x="5491080" y="5207040"/>
            <a:ext cx="325440" cy="636480"/>
          </a:xfrm>
          <a:prstGeom prst="rtTriangle">
            <a:avLst/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217080"/>
            <a:ext cx="922500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ιαχωρισμός σχημάτων ως προς των αριθμών των πλευρών τους(τρίγωνα). 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0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2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43" name="Ισοσκελές τρίγωνο 1"/>
          <p:cNvSpPr/>
          <p:nvPr/>
        </p:nvSpPr>
        <p:spPr>
          <a:xfrm>
            <a:off x="1968480" y="1943280"/>
            <a:ext cx="782640" cy="1112760"/>
          </a:xfrm>
          <a:prstGeom prst="triangle">
            <a:avLst>
              <a:gd name="adj" fmla="val 50000"/>
            </a:avLst>
          </a:prstGeom>
          <a:solidFill>
            <a:srgbClr val="a8ecef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Ορθογώνιο τρίγωνο 2"/>
          <p:cNvSpPr/>
          <p:nvPr/>
        </p:nvSpPr>
        <p:spPr>
          <a:xfrm rot="4737000">
            <a:off x="1735920" y="4695840"/>
            <a:ext cx="741240" cy="1189080"/>
          </a:xfrm>
          <a:prstGeom prst="rtTriangle">
            <a:avLst/>
          </a:prstGeom>
          <a:solidFill>
            <a:srgbClr val="30525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Ισοσκελές τρίγωνο 3"/>
          <p:cNvSpPr/>
          <p:nvPr/>
        </p:nvSpPr>
        <p:spPr>
          <a:xfrm>
            <a:off x="3365640" y="4973760"/>
            <a:ext cx="1417320" cy="1008000"/>
          </a:xfrm>
          <a:prstGeom prst="triangle">
            <a:avLst>
              <a:gd name="adj" fmla="val 50000"/>
            </a:avLst>
          </a:prstGeom>
          <a:solidFill>
            <a:srgbClr val="42ba97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Ορθογώνιο τρίγωνο 4"/>
          <p:cNvSpPr/>
          <p:nvPr/>
        </p:nvSpPr>
        <p:spPr>
          <a:xfrm>
            <a:off x="6885000" y="4973760"/>
            <a:ext cx="1020600" cy="1008000"/>
          </a:xfrm>
          <a:prstGeom prst="rtTriangle">
            <a:avLst/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Ορθογώνιο τρίγωνο 5"/>
          <p:cNvSpPr/>
          <p:nvPr/>
        </p:nvSpPr>
        <p:spPr>
          <a:xfrm rot="3912000">
            <a:off x="7089480" y="2276280"/>
            <a:ext cx="1057320" cy="993960"/>
          </a:xfrm>
          <a:prstGeom prst="rtTriangle">
            <a:avLst/>
          </a:prstGeom>
          <a:solidFill>
            <a:srgbClr val="ffff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Ισοσκελές τρίγωνο 6"/>
          <p:cNvSpPr/>
          <p:nvPr/>
        </p:nvSpPr>
        <p:spPr>
          <a:xfrm>
            <a:off x="3830760" y="2085840"/>
            <a:ext cx="2981160" cy="20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Ισοσκελές τρίγωνο 7"/>
          <p:cNvSpPr/>
          <p:nvPr/>
        </p:nvSpPr>
        <p:spPr>
          <a:xfrm rot="4444200">
            <a:off x="7473600" y="3754440"/>
            <a:ext cx="2367000" cy="62388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6240" y="473040"/>
            <a:ext cx="90122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Χαρακτηριστικά τριγώνων ως προς τις πλευρές τους</a:t>
            </a:r>
            <a:r>
              <a:rPr b="0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1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5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9"/>
          <p:cNvSpPr/>
          <p:nvPr/>
        </p:nvSpPr>
        <p:spPr>
          <a:xfrm>
            <a:off x="1047600" y="1971720"/>
            <a:ext cx="8255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Σκαληνό                            καμία πλευρά ί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Ισοσκελές                         2 πλευρές ίσ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Ισόπλευρο                        3 πλευρές ίσ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Βέλος: Δεξιό 10"/>
          <p:cNvSpPr/>
          <p:nvPr/>
        </p:nvSpPr>
        <p:spPr>
          <a:xfrm>
            <a:off x="3613320" y="2200320"/>
            <a:ext cx="1244520" cy="225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Βέλος: Δεξιό 11"/>
          <p:cNvSpPr/>
          <p:nvPr/>
        </p:nvSpPr>
        <p:spPr>
          <a:xfrm>
            <a:off x="3613320" y="3429000"/>
            <a:ext cx="1244520" cy="225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Βέλος: Δεξιό 12"/>
          <p:cNvSpPr/>
          <p:nvPr/>
        </p:nvSpPr>
        <p:spPr>
          <a:xfrm>
            <a:off x="3613320" y="4657680"/>
            <a:ext cx="1244520" cy="225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62a39f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79520" y="812880"/>
            <a:ext cx="62913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έκταση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425240" y="2003040"/>
            <a:ext cx="7335720" cy="38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Franklin Gothic Book"/>
              </a:rPr>
              <a:t>                       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καμία γωνία ίση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καληνό                   </a:t>
            </a:r>
            <a:r>
              <a:rPr b="0" lang="el-GR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αμβλυγώνι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ρθογώνι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γωνίες ίσες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Ισοσκελές                 </a:t>
            </a:r>
            <a:r>
              <a:rPr b="0" lang="el-GR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αμβλυγώνι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ρθογώνι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Ισόπλευρο                  </a:t>
            </a:r>
            <a:r>
              <a:rPr b="0" lang="el-GR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γωνίες ίσες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Ισόπλευρο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0" name="Εικόνα 3" descr=""/>
          <p:cNvPicPr/>
          <p:nvPr/>
        </p:nvPicPr>
        <p:blipFill>
          <a:blip r:embed="rId1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6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62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cxnSp>
        <p:nvCxnSpPr>
          <p:cNvPr id="263" name="Ευθύγραμμο βέλος σύνδεσης 2"/>
          <p:cNvCxnSpPr/>
          <p:nvPr/>
        </p:nvCxnSpPr>
        <p:spPr>
          <a:xfrm flipV="1">
            <a:off x="2416320" y="2196360"/>
            <a:ext cx="969120" cy="43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Ευθύγραμμο βέλος σύνδεσης 6"/>
          <p:cNvCxnSpPr/>
          <p:nvPr/>
        </p:nvCxnSpPr>
        <p:spPr>
          <a:xfrm>
            <a:off x="2416320" y="2633400"/>
            <a:ext cx="9691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Ευθύγραμμο βέλος σύνδεσης 9"/>
          <p:cNvCxnSpPr/>
          <p:nvPr/>
        </p:nvCxnSpPr>
        <p:spPr>
          <a:xfrm>
            <a:off x="2416320" y="2633760"/>
            <a:ext cx="969120" cy="437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Ευθύγραμμο βέλος σύνδεσης 11"/>
          <p:cNvCxnSpPr/>
          <p:nvPr/>
        </p:nvCxnSpPr>
        <p:spPr>
          <a:xfrm flipV="1">
            <a:off x="2568600" y="3935160"/>
            <a:ext cx="969120" cy="437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Ευθύγραμμο βέλος σύνδεσης 12"/>
          <p:cNvCxnSpPr/>
          <p:nvPr/>
        </p:nvCxnSpPr>
        <p:spPr>
          <a:xfrm>
            <a:off x="2590920" y="4371480"/>
            <a:ext cx="9691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Ευθύγραμμο βέλος σύνδεσης 13"/>
          <p:cNvCxnSpPr/>
          <p:nvPr/>
        </p:nvCxnSpPr>
        <p:spPr>
          <a:xfrm>
            <a:off x="2644920" y="5687640"/>
            <a:ext cx="970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9" name="Ευθύγραμμο βέλος σύνδεσης 15"/>
          <p:cNvCxnSpPr/>
          <p:nvPr/>
        </p:nvCxnSpPr>
        <p:spPr>
          <a:xfrm>
            <a:off x="2595600" y="4397040"/>
            <a:ext cx="969120" cy="437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320" y="1258560"/>
            <a:ext cx="8248680" cy="723960"/>
          </a:xfrm>
          <a:prstGeom prst="rect">
            <a:avLst/>
          </a:prstGeom>
          <a:noFill/>
          <a:ln w="9360">
            <a:solidFill>
              <a:srgbClr val="1cade4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 </a:t>
            </a:r>
            <a:r>
              <a:rPr b="0" lang="el-GR" sz="3200" spc="-1" strike="noStrike">
                <a:solidFill>
                  <a:srgbClr val="335b74"/>
                </a:solidFill>
                <a:latin typeface="Times New Roman"/>
                <a:ea typeface="Times New Roman"/>
              </a:rPr>
              <a:t>Παρουσίαση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71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7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7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grpSp>
        <p:nvGrpSpPr>
          <p:cNvPr id="274" name="TextBox 3"/>
          <p:cNvGrpSpPr/>
          <p:nvPr/>
        </p:nvGrpSpPr>
        <p:grpSpPr>
          <a:xfrm>
            <a:off x="1225440" y="3492360"/>
            <a:ext cx="8180640" cy="927360"/>
            <a:chOff x="1225440" y="3492360"/>
            <a:chExt cx="8180640" cy="927360"/>
          </a:xfrm>
        </p:grpSpPr>
        <p:pic>
          <p:nvPicPr>
            <p:cNvPr id="275" name="TextBox 3" descr=""/>
            <p:cNvPicPr/>
            <p:nvPr/>
          </p:nvPicPr>
          <p:blipFill>
            <a:blip r:embed="rId4"/>
            <a:stretch/>
          </p:blipFill>
          <p:spPr>
            <a:xfrm>
              <a:off x="1225440" y="3492360"/>
              <a:ext cx="8180640" cy="9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1365120" y="3630600"/>
              <a:ext cx="789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Επιβεβαίωση                     ή           αναγνώριση του λάθου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Ευθύγραμμο βέλος σύνδεσης 6" descr=""/>
          <p:cNvPicPr/>
          <p:nvPr/>
        </p:nvPicPr>
        <p:blipFill>
          <a:blip r:embed="rId5"/>
          <a:stretch/>
        </p:blipFill>
        <p:spPr>
          <a:xfrm>
            <a:off x="3029040" y="1736640"/>
            <a:ext cx="2408040" cy="2158920"/>
          </a:xfrm>
          <a:prstGeom prst="rect">
            <a:avLst/>
          </a:prstGeom>
          <a:ln w="0">
            <a:noFill/>
          </a:ln>
        </p:spPr>
      </p:pic>
      <p:pic>
        <p:nvPicPr>
          <p:cNvPr id="278" name="Ευθύγραμμο βέλος σύνδεσης 8" descr=""/>
          <p:cNvPicPr/>
          <p:nvPr/>
        </p:nvPicPr>
        <p:blipFill>
          <a:blip r:embed="rId6"/>
          <a:stretch/>
        </p:blipFill>
        <p:spPr>
          <a:xfrm>
            <a:off x="5230800" y="1822320"/>
            <a:ext cx="20239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455560" y="677880"/>
            <a:ext cx="5800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έκταση της δραστηριότητας  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80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154240" y="2179800"/>
            <a:ext cx="6734160" cy="3416040"/>
          </a:xfrm>
          <a:prstGeom prst="rect">
            <a:avLst/>
          </a:prstGeom>
          <a:ln w="0">
            <a:noFill/>
          </a:ln>
        </p:spPr>
      </p:pic>
      <p:pic>
        <p:nvPicPr>
          <p:cNvPr id="281" name="Εικόνα 3" descr=""/>
          <p:cNvPicPr/>
          <p:nvPr/>
        </p:nvPicPr>
        <p:blipFill>
          <a:blip r:embed="rId2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82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83" name="Εικόνα 5" descr=""/>
          <p:cNvPicPr/>
          <p:nvPr/>
        </p:nvPicPr>
        <p:blipFill>
          <a:blip r:embed="rId4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525760" y="3311640"/>
            <a:ext cx="53625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Σας ευχαριστώ πολύ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85" name="Εικόνα 3" descr=""/>
          <p:cNvPicPr/>
          <p:nvPr/>
        </p:nvPicPr>
        <p:blipFill>
          <a:blip r:embed="rId1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86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87" name="Εικόνα 5" descr=""/>
          <p:cNvPicPr/>
          <p:nvPr/>
        </p:nvPicPr>
        <p:blipFill>
          <a:blip r:embed="rId3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Νικολέτα-Παρασκευή Κούλη</cp:lastModifiedBy>
  <dcterms:modified xsi:type="dcterms:W3CDTF">2023-11-29T23:20:50Z</dcterms:modified>
  <cp:revision>137</cp:revision>
  <dc:subject/>
  <dc:title>Παρουσίαση του PowerPoint</dc:title>
</cp:coreProperties>
</file>