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D455-4B3F-4F89-950B-FE7FB7A9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CA8F-ED2F-4DB3-986C-C030DBCF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B21-8F68-46FE-A230-35E215F1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584B-5C53-4D2C-BB8E-FD56B8D3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AC90-F410-4D73-9903-4E27A38E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4FF0-42A4-45A7-B2BF-71EF8D5E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2181-A570-4341-A108-7ECC35B3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8C8A-C9E4-4629-A179-0F0ADCC2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2556-6CE2-4C20-9555-3472B675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2673-CD78-466C-A35D-FD340D6E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406C-909D-4A7F-80D5-E546F17E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B58-E571-4422-A634-6F7D284D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77CC-2F09-49D5-914E-115D4B2D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BDC1-0B73-4CDD-BE50-BF934004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82C8-BBBA-4D92-900A-14F5AF9A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B530-394D-44F8-90FF-6A19E26A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9850-0F5E-49FE-BC30-CF5264E6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B9B4B-BA3B-4EF8-8298-EAC71D2A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4AF53-94A8-408C-A72C-936CB666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27B67-4567-41AB-97EC-5CE1E3C4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225C2-4FFF-4E36-BF4C-29E58E49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DEF86-D201-4FA8-8555-5CFD7A48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8671-A139-4251-B4B2-8216F10D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B586D-AD53-42E8-8CF2-08BF2EF6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9FFE7-89D9-43EC-B72A-B06C218C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25163-48A5-4153-8DF8-AC2E82F2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644AE-E9E2-4189-A3A1-23BE7D8D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991FE-9662-4546-9723-B46A76C0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D4BD2-24E5-47EC-999F-8ADDA6D5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9456C-5DDE-4611-9A3E-74C18BC7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A1C88-17CB-4DA7-A343-11AC7488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D5476-D631-4144-9038-4BBCDBAC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6724F-1472-413D-984C-E621BA42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5C82-D8E4-4F0A-880C-383869C1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C066C-54B5-4CB8-BE25-7DF5D25C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10CCA-E542-48ED-8DA8-1F2A5AAD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F17D3-5AE6-49B8-A361-72AACD01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DB46E-4ED0-4E03-8290-80731927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02C29-0B00-4DD5-AC63-1BB70EE7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32950-9E66-40DA-A3B1-877495D3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19793-52F2-4586-A768-3637A6FD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10ED7-F4E2-4A2D-AAD9-630C3342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96F0A-E4F4-4BFF-86E5-9E83629B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D666D-5AB6-420B-A151-8A78E3FE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DE37-752B-43F2-ADE0-930561BB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74920-7C69-4CBE-B484-3F4971AB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5E41F-964C-4B7D-9E44-DAF80A7F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2AC79-3530-4AF3-8802-BF980D19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9BE9B-0713-46D9-93FA-5E3482BB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034BA-21EC-45BA-AA38-E62954F5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5F3CE-5275-4A3E-AF64-B970268F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18587-B979-4076-A4E4-83162A10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971EE-444C-43BA-8394-3837C73C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CF7FB-7E42-4E43-9A0E-BEDDF8F0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386DE-DC4E-4FF4-9970-305A0ED3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4134-6A0D-4874-B743-7F2E7F30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9CC30-2D0B-4510-A6B8-A0FFD2BA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4CB9-CC42-4FF7-992B-33B0B250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5F15-CD24-44D1-8E00-97664268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891D-683D-4F9A-AA05-550E4E39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6D46A9-0D8A-437F-A08C-481DC118DBE6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custGeom>
              <a:avLst/>
              <a:gdLst>
                <a:gd name="textAreaLeft" fmla="*/ 0 w 3274920"/>
                <a:gd name="textAreaRight" fmla="*/ 3275280 w 3274920"/>
                <a:gd name="textAreaTop" fmla="*/ 0 h 4408560"/>
                <a:gd name="textAreaBottom" fmla="*/ 4408560 h 4408560"/>
              </a:gdLst>
              <a:ahLst/>
              <a:rect l="textAreaLeft" t="textAreaTop" r="textAreaRight" b="textAreaBottom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126"/>
                  </a:lnTo>
                  <a:lnTo>
                    <a:pt x="8761" y="912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custGeom>
              <a:avLst/>
              <a:gdLst>
                <a:gd name="textAreaLeft" fmla="*/ -360 w 3274920"/>
                <a:gd name="textAreaRight" fmla="*/ 3274920 w 3274920"/>
                <a:gd name="textAreaTop" fmla="*/ 0 h 4408560"/>
                <a:gd name="textAreaBottom" fmla="*/ 4408560 h 4408560"/>
              </a:gdLst>
              <a:ahLst/>
              <a:rect l="textAreaLeft" t="textAreaTop" r="textAreaRight" b="textAreaBottom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0284B-DC57-468A-872E-B14E1C7287F2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custGeom>
            <a:avLst/>
            <a:gdLst>
              <a:gd name="textAreaLeft" fmla="*/ 0 w 3274920"/>
              <a:gd name="textAreaRight" fmla="*/ 3275280 w 3274920"/>
              <a:gd name="textAreaTop" fmla="*/ 0 h 4408560"/>
              <a:gd name="textAreaBottom" fmla="*/ 4408920 h 4408560"/>
            </a:gdLst>
            <a:ahLst/>
            <a:rect l="textAreaLeft" t="textAreaTop" r="textAreaRight" b="textAreaBottom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37DC1-4989-4CA4-B4DB-F23CC10D5E5B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CDE696-E835-4779-B671-40332956A03A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2BCFE5-14CB-4B1F-B6B1-ACB0961CC701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30320" y="40273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5b74"/>
                </a:solidFill>
                <a:latin typeface="Franklin Gothic Book"/>
              </a:rPr>
              <a:t>Δημιουργός: Κούλης Ιωάννης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Ορθογώνιο 3"/>
          <p:cNvSpPr/>
          <p:nvPr/>
        </p:nvSpPr>
        <p:spPr>
          <a:xfrm>
            <a:off x="468360" y="89064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7" name="Εικόνα 5" descr=""/>
          <p:cNvPicPr/>
          <p:nvPr/>
        </p:nvPicPr>
        <p:blipFill>
          <a:blip r:embed="rId2"/>
          <a:stretch/>
        </p:blipFill>
        <p:spPr>
          <a:xfrm>
            <a:off x="1030320" y="1062000"/>
            <a:ext cx="1811160" cy="271008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2841120" y="1789200"/>
            <a:ext cx="7434360" cy="17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ΕΙΔΗ ΤΡΙΓΩΝΩΝ</a:t>
            </a:r>
            <a:br>
              <a:rPr sz="4400"/>
            </a:b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ΩΣ ΠΡΟΣ ΤΙΣ ΠΛΕΥΡΕΣ ΤΟΥΣ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33320" y="338040"/>
            <a:ext cx="74912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αχωρισμός σχημάτων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52200" y="1425240"/>
            <a:ext cx="78865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2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2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4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25" name="Ορθογώνιο 2"/>
          <p:cNvSpPr/>
          <p:nvPr/>
        </p:nvSpPr>
        <p:spPr>
          <a:xfrm rot="1306800">
            <a:off x="1436760" y="2052360"/>
            <a:ext cx="914400" cy="914400"/>
          </a:xfrm>
          <a:prstGeom prst="rect">
            <a:avLst/>
          </a:prstGeom>
          <a:solidFill>
            <a:srgbClr val="00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Ισοσκελές τρίγωνο 3"/>
          <p:cNvSpPr/>
          <p:nvPr/>
        </p:nvSpPr>
        <p:spPr>
          <a:xfrm>
            <a:off x="2643120" y="1824120"/>
            <a:ext cx="782640" cy="1112760"/>
          </a:xfrm>
          <a:prstGeom prst="triangle">
            <a:avLst>
              <a:gd name="adj" fmla="val 50000"/>
            </a:avLst>
          </a:prstGeom>
          <a:solidFill>
            <a:srgbClr val="2683c6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Ορθογώνιο 4"/>
          <p:cNvSpPr/>
          <p:nvPr/>
        </p:nvSpPr>
        <p:spPr>
          <a:xfrm>
            <a:off x="5667480" y="1965240"/>
            <a:ext cx="1419120" cy="889200"/>
          </a:xfrm>
          <a:prstGeom prst="rect">
            <a:avLst/>
          </a:prstGeom>
          <a:solidFill>
            <a:srgbClr val="ffff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Διάγραμμα ροής: Διεργασία 5"/>
          <p:cNvSpPr/>
          <p:nvPr/>
        </p:nvSpPr>
        <p:spPr>
          <a:xfrm>
            <a:off x="7451640" y="2549520"/>
            <a:ext cx="1193760" cy="622440"/>
          </a:xfrm>
          <a:prstGeom prst="flowChartProcess">
            <a:avLst/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Παραλληλόγραμμο 6"/>
          <p:cNvSpPr/>
          <p:nvPr/>
        </p:nvSpPr>
        <p:spPr>
          <a:xfrm>
            <a:off x="2409840" y="4403880"/>
            <a:ext cx="1189080" cy="820440"/>
          </a:xfrm>
          <a:prstGeom prst="parallelogram">
            <a:avLst>
              <a:gd name="adj" fmla="val 25048"/>
            </a:avLst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Τραπέζιο 7"/>
          <p:cNvSpPr/>
          <p:nvPr/>
        </p:nvSpPr>
        <p:spPr>
          <a:xfrm>
            <a:off x="6568920" y="5138640"/>
            <a:ext cx="1320840" cy="822600"/>
          </a:xfrm>
          <a:custGeom>
            <a:avLst/>
            <a:gdLst/>
            <a:ahLst/>
            <a:rect l="l" t="t" r="r" b="b"/>
            <a:pathLst>
              <a:path w="1320714" h="821635">
                <a:moveTo>
                  <a:pt x="0" y="821635"/>
                </a:moveTo>
                <a:lnTo>
                  <a:pt x="205409" y="0"/>
                </a:lnTo>
                <a:lnTo>
                  <a:pt x="1115305" y="0"/>
                </a:lnTo>
                <a:lnTo>
                  <a:pt x="1320714" y="821635"/>
                </a:lnTo>
                <a:lnTo>
                  <a:pt x="0" y="821635"/>
                </a:lnTo>
                <a:close/>
              </a:path>
            </a:pathLst>
          </a:custGeom>
          <a:solidFill>
            <a:srgbClr val="ffc000"/>
          </a:solidFill>
          <a:ln w="34920">
            <a:solidFill>
              <a:srgbClr val="0647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Ορθογώνιο τρίγωνο 8"/>
          <p:cNvSpPr/>
          <p:nvPr/>
        </p:nvSpPr>
        <p:spPr>
          <a:xfrm rot="4737000">
            <a:off x="1775880" y="3456000"/>
            <a:ext cx="741240" cy="1189080"/>
          </a:xfrm>
          <a:prstGeom prst="rtTriangle">
            <a:avLst/>
          </a:prstGeom>
          <a:solidFill>
            <a:srgbClr val="ffc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Ρόμβος 9"/>
          <p:cNvSpPr/>
          <p:nvPr/>
        </p:nvSpPr>
        <p:spPr>
          <a:xfrm>
            <a:off x="4013280" y="4654440"/>
            <a:ext cx="623880" cy="1471680"/>
          </a:xfrm>
          <a:prstGeom prst="diamond">
            <a:avLst/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Ισοσκελές τρίγωνο 10"/>
          <p:cNvSpPr/>
          <p:nvPr/>
        </p:nvSpPr>
        <p:spPr>
          <a:xfrm>
            <a:off x="2849400" y="2917800"/>
            <a:ext cx="1417680" cy="10065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Ορθογώνιο τρίγωνο 11"/>
          <p:cNvSpPr/>
          <p:nvPr/>
        </p:nvSpPr>
        <p:spPr>
          <a:xfrm>
            <a:off x="7110360" y="3340080"/>
            <a:ext cx="1020960" cy="1008000"/>
          </a:xfrm>
          <a:prstGeom prst="rtTriangle">
            <a:avLst/>
          </a:prstGeom>
          <a:solidFill>
            <a:srgbClr val="2683c6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Ορθογώνιο τρίγωνο 12"/>
          <p:cNvSpPr/>
          <p:nvPr/>
        </p:nvSpPr>
        <p:spPr>
          <a:xfrm rot="3912000">
            <a:off x="4640760" y="2493000"/>
            <a:ext cx="1055880" cy="993600"/>
          </a:xfrm>
          <a:prstGeom prst="rtTriangle">
            <a:avLst/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Ισοσκελές τρίγωνο 13"/>
          <p:cNvSpPr/>
          <p:nvPr/>
        </p:nvSpPr>
        <p:spPr>
          <a:xfrm>
            <a:off x="1006560" y="5346720"/>
            <a:ext cx="3020760" cy="914400"/>
          </a:xfrm>
          <a:prstGeom prst="triangle">
            <a:avLst>
              <a:gd name="adj" fmla="val 50000"/>
            </a:avLst>
          </a:prstGeom>
          <a:solidFill>
            <a:srgbClr val="318b71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Ισοσκελές τρίγωνο 14"/>
          <p:cNvSpPr/>
          <p:nvPr/>
        </p:nvSpPr>
        <p:spPr>
          <a:xfrm rot="4444200">
            <a:off x="5068800" y="3681360"/>
            <a:ext cx="2368440" cy="622080"/>
          </a:xfrm>
          <a:prstGeom prst="triangle">
            <a:avLst>
              <a:gd name="adj" fmla="val 50000"/>
            </a:avLst>
          </a:prstGeom>
          <a:solidFill>
            <a:srgbClr val="3e8853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Ορθογώνιο τρίγωνο 15"/>
          <p:cNvSpPr/>
          <p:nvPr/>
        </p:nvSpPr>
        <p:spPr>
          <a:xfrm>
            <a:off x="5491080" y="5207040"/>
            <a:ext cx="325440" cy="636480"/>
          </a:xfrm>
          <a:prstGeom prst="rtTriangle">
            <a:avLst/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217080"/>
            <a:ext cx="922500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αχωρισμός σχημάτων ως προς των αριθμών των πλευρών τους(τρίγωνα). 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0" name="Εικόνα 3" descr=""/>
          <p:cNvPicPr/>
          <p:nvPr/>
        </p:nvPicPr>
        <p:blipFill>
          <a:blip r:embed="rId1"/>
          <a:stretch/>
        </p:blipFill>
        <p:spPr>
          <a:xfrm>
            <a:off x="9794880" y="1943280"/>
            <a:ext cx="1811160" cy="2604960"/>
          </a:xfrm>
          <a:prstGeom prst="rect">
            <a:avLst/>
          </a:prstGeom>
          <a:ln w="0">
            <a:noFill/>
          </a:ln>
        </p:spPr>
      </p:pic>
      <p:pic>
        <p:nvPicPr>
          <p:cNvPr id="241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2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416880" y="4930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43" name="Ισοσκελές τρίγωνο 1"/>
          <p:cNvSpPr/>
          <p:nvPr/>
        </p:nvSpPr>
        <p:spPr>
          <a:xfrm>
            <a:off x="1968480" y="1943280"/>
            <a:ext cx="782640" cy="1112760"/>
          </a:xfrm>
          <a:prstGeom prst="triangle">
            <a:avLst>
              <a:gd name="adj" fmla="val 50000"/>
            </a:avLst>
          </a:prstGeom>
          <a:solidFill>
            <a:srgbClr val="a8ecef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Ορθογώνιο τρίγωνο 2"/>
          <p:cNvSpPr/>
          <p:nvPr/>
        </p:nvSpPr>
        <p:spPr>
          <a:xfrm rot="4737000">
            <a:off x="1735920" y="4695840"/>
            <a:ext cx="741240" cy="1189080"/>
          </a:xfrm>
          <a:prstGeom prst="rtTriangle">
            <a:avLst/>
          </a:prstGeom>
          <a:solidFill>
            <a:srgbClr val="30525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Ισοσκελές τρίγωνο 3"/>
          <p:cNvSpPr/>
          <p:nvPr/>
        </p:nvSpPr>
        <p:spPr>
          <a:xfrm>
            <a:off x="3365640" y="4973760"/>
            <a:ext cx="1417320" cy="1008000"/>
          </a:xfrm>
          <a:prstGeom prst="triangle">
            <a:avLst>
              <a:gd name="adj" fmla="val 50000"/>
            </a:avLst>
          </a:prstGeom>
          <a:solidFill>
            <a:srgbClr val="42ba97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Ορθογώνιο τρίγωνο 4"/>
          <p:cNvSpPr/>
          <p:nvPr/>
        </p:nvSpPr>
        <p:spPr>
          <a:xfrm>
            <a:off x="6885000" y="4973760"/>
            <a:ext cx="1020600" cy="1008000"/>
          </a:xfrm>
          <a:prstGeom prst="rtTriangle">
            <a:avLst/>
          </a:prstGeom>
          <a:solidFill>
            <a:srgbClr val="2683c6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Ορθογώνιο τρίγωνο 5"/>
          <p:cNvSpPr/>
          <p:nvPr/>
        </p:nvSpPr>
        <p:spPr>
          <a:xfrm rot="3912000">
            <a:off x="7089480" y="2276280"/>
            <a:ext cx="1057320" cy="993960"/>
          </a:xfrm>
          <a:prstGeom prst="rtTriangle">
            <a:avLst/>
          </a:prstGeom>
          <a:solidFill>
            <a:srgbClr val="ffff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Ισοσκελές τρίγωνο 6"/>
          <p:cNvSpPr/>
          <p:nvPr/>
        </p:nvSpPr>
        <p:spPr>
          <a:xfrm>
            <a:off x="3830760" y="2085840"/>
            <a:ext cx="2981160" cy="207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Ισοσκελές τρίγωνο 7"/>
          <p:cNvSpPr/>
          <p:nvPr/>
        </p:nvSpPr>
        <p:spPr>
          <a:xfrm rot="4444200">
            <a:off x="7473600" y="3754440"/>
            <a:ext cx="2367000" cy="62388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6240" y="473040"/>
            <a:ext cx="90122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αρακτηριστικά τριγώνων ως προς τις πλευρές τους</a:t>
            </a:r>
            <a:r>
              <a:rPr b="0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1" name="Εικόνα 3" descr=""/>
          <p:cNvPicPr/>
          <p:nvPr/>
        </p:nvPicPr>
        <p:blipFill>
          <a:blip r:embed="rId1"/>
          <a:stretch/>
        </p:blipFill>
        <p:spPr>
          <a:xfrm>
            <a:off x="9888480" y="1971720"/>
            <a:ext cx="1811520" cy="2552760"/>
          </a:xfrm>
          <a:prstGeom prst="rect">
            <a:avLst/>
          </a:prstGeom>
          <a:ln w="0">
            <a:noFill/>
          </a:ln>
        </p:spPr>
      </p:pic>
      <p:pic>
        <p:nvPicPr>
          <p:cNvPr id="252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53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302760" y="49309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9"/>
          <p:cNvSpPr/>
          <p:nvPr/>
        </p:nvSpPr>
        <p:spPr>
          <a:xfrm>
            <a:off x="1047600" y="1971720"/>
            <a:ext cx="8255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Σκαληνό                            καμία πλευρά ί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Ισοσκελές                         2 πλευρές ίσ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Ισόπλευρο                        3 πλευρές ίσ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Βέλος: Δεξιό 10"/>
          <p:cNvSpPr/>
          <p:nvPr/>
        </p:nvSpPr>
        <p:spPr>
          <a:xfrm>
            <a:off x="3613320" y="2200320"/>
            <a:ext cx="1244520" cy="2253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Βέλος: Δεξιό 11"/>
          <p:cNvSpPr/>
          <p:nvPr/>
        </p:nvSpPr>
        <p:spPr>
          <a:xfrm>
            <a:off x="3613320" y="3429000"/>
            <a:ext cx="1244520" cy="2253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Βέλος: Δεξιό 12"/>
          <p:cNvSpPr/>
          <p:nvPr/>
        </p:nvSpPr>
        <p:spPr>
          <a:xfrm>
            <a:off x="3613320" y="4657680"/>
            <a:ext cx="1244520" cy="2253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62a39f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79520" y="812880"/>
            <a:ext cx="62913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έκταση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425240" y="2003040"/>
            <a:ext cx="7335720" cy="38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Franklin Gothic Book"/>
              </a:rPr>
              <a:t>                        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l-G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καμία γωνία ίση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καληνό                   </a:t>
            </a:r>
            <a:r>
              <a:rPr b="0" lang="el-GR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αμβλυγώνι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ρθογώνι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l-G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γωνίες ίσες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Ισοσκελές                 </a:t>
            </a:r>
            <a:r>
              <a:rPr b="0" lang="el-GR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αμβλυγώνι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ρθογώνι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Ισόπλευρο                  </a:t>
            </a:r>
            <a:r>
              <a:rPr b="0" lang="el-G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γωνίες ίσες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Ισόπλευρ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60" name="Εικόνα 3" descr=""/>
          <p:cNvPicPr/>
          <p:nvPr/>
        </p:nvPicPr>
        <p:blipFill>
          <a:blip r:embed="rId1"/>
          <a:stretch/>
        </p:blipFill>
        <p:spPr>
          <a:xfrm>
            <a:off x="9713880" y="2003400"/>
            <a:ext cx="1811520" cy="2368440"/>
          </a:xfrm>
          <a:prstGeom prst="rect">
            <a:avLst/>
          </a:prstGeom>
          <a:ln w="0">
            <a:noFill/>
          </a:ln>
        </p:spPr>
      </p:pic>
      <p:pic>
        <p:nvPicPr>
          <p:cNvPr id="261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62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cxnSp>
        <p:nvCxnSpPr>
          <p:cNvPr id="263" name="Ευθύγραμμο βέλος σύνδεσης 2"/>
          <p:cNvCxnSpPr/>
          <p:nvPr/>
        </p:nvCxnSpPr>
        <p:spPr>
          <a:xfrm flipV="1">
            <a:off x="2416320" y="2196360"/>
            <a:ext cx="969120" cy="43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4" name="Ευθύγραμμο βέλος σύνδεσης 6"/>
          <p:cNvCxnSpPr/>
          <p:nvPr/>
        </p:nvCxnSpPr>
        <p:spPr>
          <a:xfrm>
            <a:off x="2416320" y="2633400"/>
            <a:ext cx="9691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Ευθύγραμμο βέλος σύνδεσης 9"/>
          <p:cNvCxnSpPr/>
          <p:nvPr/>
        </p:nvCxnSpPr>
        <p:spPr>
          <a:xfrm>
            <a:off x="2416320" y="2633760"/>
            <a:ext cx="969120" cy="437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6" name="Ευθύγραμμο βέλος σύνδεσης 11"/>
          <p:cNvCxnSpPr/>
          <p:nvPr/>
        </p:nvCxnSpPr>
        <p:spPr>
          <a:xfrm flipV="1">
            <a:off x="2568600" y="3935160"/>
            <a:ext cx="969120" cy="437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Ευθύγραμμο βέλος σύνδεσης 12"/>
          <p:cNvCxnSpPr/>
          <p:nvPr/>
        </p:nvCxnSpPr>
        <p:spPr>
          <a:xfrm>
            <a:off x="2590920" y="4371480"/>
            <a:ext cx="9691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Ευθύγραμμο βέλος σύνδεσης 13"/>
          <p:cNvCxnSpPr/>
          <p:nvPr/>
        </p:nvCxnSpPr>
        <p:spPr>
          <a:xfrm>
            <a:off x="2644920" y="5687640"/>
            <a:ext cx="970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" name="Ευθύγραμμο βέλος σύνδεσης 15"/>
          <p:cNvCxnSpPr/>
          <p:nvPr/>
        </p:nvCxnSpPr>
        <p:spPr>
          <a:xfrm>
            <a:off x="2595600" y="4397040"/>
            <a:ext cx="969120" cy="43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1258560"/>
            <a:ext cx="8248680" cy="723960"/>
          </a:xfrm>
          <a:prstGeom prst="rect">
            <a:avLst/>
          </a:prstGeom>
          <a:noFill/>
          <a:ln w="9360">
            <a:solidFill>
              <a:srgbClr val="1cade4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Παρουσίαση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71" name="Εικόνα 3" descr=""/>
          <p:cNvPicPr/>
          <p:nvPr/>
        </p:nvPicPr>
        <p:blipFill>
          <a:blip r:embed="rId1"/>
          <a:stretch/>
        </p:blipFill>
        <p:spPr>
          <a:xfrm>
            <a:off x="9888480" y="1982880"/>
            <a:ext cx="1811520" cy="2600280"/>
          </a:xfrm>
          <a:prstGeom prst="rect">
            <a:avLst/>
          </a:prstGeom>
          <a:ln w="0">
            <a:noFill/>
          </a:ln>
        </p:spPr>
      </p:pic>
      <p:pic>
        <p:nvPicPr>
          <p:cNvPr id="272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73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64600" y="5049720"/>
            <a:ext cx="2752920" cy="1667160"/>
          </a:xfrm>
          <a:prstGeom prst="rect">
            <a:avLst/>
          </a:prstGeom>
          <a:ln w="0">
            <a:noFill/>
          </a:ln>
        </p:spPr>
      </p:pic>
      <p:grpSp>
        <p:nvGrpSpPr>
          <p:cNvPr id="274" name="TextBox 3"/>
          <p:cNvGrpSpPr/>
          <p:nvPr/>
        </p:nvGrpSpPr>
        <p:grpSpPr>
          <a:xfrm>
            <a:off x="1225440" y="3492360"/>
            <a:ext cx="8180640" cy="927360"/>
            <a:chOff x="1225440" y="3492360"/>
            <a:chExt cx="8180640" cy="927360"/>
          </a:xfrm>
        </p:grpSpPr>
        <p:pic>
          <p:nvPicPr>
            <p:cNvPr id="275" name="TextBox 3" descr=""/>
            <p:cNvPicPr/>
            <p:nvPr/>
          </p:nvPicPr>
          <p:blipFill>
            <a:blip r:embed="rId4"/>
            <a:stretch/>
          </p:blipFill>
          <p:spPr>
            <a:xfrm>
              <a:off x="1225440" y="3492360"/>
              <a:ext cx="818064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365120" y="3630600"/>
              <a:ext cx="789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Επιβεβαίωση                     ή           αναγνώριση του λάθου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Ευθύγραμμο βέλος σύνδεσης 6" descr=""/>
          <p:cNvPicPr/>
          <p:nvPr/>
        </p:nvPicPr>
        <p:blipFill>
          <a:blip r:embed="rId5"/>
          <a:stretch/>
        </p:blipFill>
        <p:spPr>
          <a:xfrm>
            <a:off x="3029040" y="1736640"/>
            <a:ext cx="2408040" cy="2158920"/>
          </a:xfrm>
          <a:prstGeom prst="rect">
            <a:avLst/>
          </a:prstGeom>
          <a:ln w="0">
            <a:noFill/>
          </a:ln>
        </p:spPr>
      </p:pic>
      <p:pic>
        <p:nvPicPr>
          <p:cNvPr id="278" name="Ευθύγραμμο βέλος σύνδεσης 8" descr=""/>
          <p:cNvPicPr/>
          <p:nvPr/>
        </p:nvPicPr>
        <p:blipFill>
          <a:blip r:embed="rId6"/>
          <a:stretch/>
        </p:blipFill>
        <p:spPr>
          <a:xfrm>
            <a:off x="5230800" y="1822320"/>
            <a:ext cx="20239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455560" y="677880"/>
            <a:ext cx="5800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έκταση της δραστηριότητας  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80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154240" y="2179800"/>
            <a:ext cx="6734160" cy="3416040"/>
          </a:xfrm>
          <a:prstGeom prst="rect">
            <a:avLst/>
          </a:prstGeom>
          <a:ln w="0">
            <a:noFill/>
          </a:ln>
        </p:spPr>
      </p:pic>
      <p:pic>
        <p:nvPicPr>
          <p:cNvPr id="281" name="Εικόνα 3" descr=""/>
          <p:cNvPicPr/>
          <p:nvPr/>
        </p:nvPicPr>
        <p:blipFill>
          <a:blip r:embed="rId2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82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83" name="Εικόνα 5" descr=""/>
          <p:cNvPicPr/>
          <p:nvPr/>
        </p:nvPicPr>
        <p:blipFill>
          <a:blip r:embed="rId4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25760" y="3311640"/>
            <a:ext cx="53625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Σας ευχαριστώ πολύ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85" name="Εικόνα 3" descr=""/>
          <p:cNvPicPr/>
          <p:nvPr/>
        </p:nvPicPr>
        <p:blipFill>
          <a:blip r:embed="rId1"/>
          <a:stretch/>
        </p:blipFill>
        <p:spPr>
          <a:xfrm>
            <a:off x="9713880" y="2308320"/>
            <a:ext cx="1811520" cy="2736720"/>
          </a:xfrm>
          <a:prstGeom prst="rect">
            <a:avLst/>
          </a:prstGeom>
          <a:ln w="0">
            <a:noFill/>
          </a:ln>
        </p:spPr>
      </p:pic>
      <p:pic>
        <p:nvPicPr>
          <p:cNvPr id="286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93640"/>
          </a:xfrm>
          <a:prstGeom prst="rect">
            <a:avLst/>
          </a:prstGeom>
          <a:ln w="0">
            <a:noFill/>
          </a:ln>
        </p:spPr>
      </p:pic>
      <p:pic>
        <p:nvPicPr>
          <p:cNvPr id="287" name="Εικόνα 5" descr=""/>
          <p:cNvPicPr/>
          <p:nvPr/>
        </p:nvPicPr>
        <p:blipFill>
          <a:blip r:embed="rId3"/>
          <a:stretch/>
        </p:blipFill>
        <p:spPr>
          <a:xfrm>
            <a:off x="9242280" y="519120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Νικολέτα-Παρασκευή Κούλη</cp:lastModifiedBy>
  <dcterms:modified xsi:type="dcterms:W3CDTF">2023-11-29T23:20:50Z</dcterms:modified>
  <cp:revision>137</cp:revision>
  <dc:subject/>
  <dc:title>Παρουσίαση του PowerPoint</dc:title>
</cp:coreProperties>
</file>