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FE5E1-1CA9-4015-B671-45D8DEF4C294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ντί της παρουσίασης οι μαθητές θα μπορούσαν να υλοποιήσουν τις δραστηριότητες του παρακάτω συνδέσμο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https://learningapps.org/watch?v=pjt5wvay3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96AAD-118B-45AB-BE32-121B444C476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να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o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Ρομπότ με κινητήρα και αισθητήρα απόσταση από το πακέτο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Do 2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δώ η απάντηση μπορεί να ποικίλει, από ρομπότ που έχουν δει ή και από αυτά που φαντάζοντα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ε ρομπότ με τον άμεσο έλεγχο του ανθρώπου (τηλεκατευθυνόμενα ρομπότ) και σε αυτόνομα ρομπότ με προγραμματισμένο έλεγχο από υπολογιστή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89FF3-C1ED-4D2C-B5C6-BFFD911A7E6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ωστή απάντηση η «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υ κινητήρα και του αισθητήρα απόσταση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F302A-0188-44AC-93D0-012F063FE6A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ροσθήκη Νέου Αντικειμένου από «Επιλέξτε ένα αντικείμενο», (στην αναζήτηση πάνω αριστερά) πληκτρολογείτ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obot”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και επιλέγετε το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 Robo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. Με την εισαγωγή του αντικειμένου, από την καρτέλα «Ενδυμασίες» επιλέγετε την τρίτη ενδυμασία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etro Robo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πικρατέστερη ιδέα καταγράφετε στο πίνακ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Μία απάντηση «Αποφεύγοντας τα εμπόδι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E22B3-B59F-417F-B7FC-E30D51355FD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ι ρόλοι των ομάδων είναι ενδεικτικοί και ανάλογα με τους μαθητές οι ρόλοι μπορούν να διαφοροποιούνται και να δίνεται έμφαση στις αδυναμίες των παιδιών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Αρχηγό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Επιβλέπει την ομάδα και επεμβαίνει – βοηθάει όπου χρειάζεται. 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υπεύθυνος του υπολογιστή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ελέγχει τις διαφάνειες με τα βήματα της κατασκευή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Υπεύθυνος επιλογή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επιλέγει τα σωστά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o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«τουβλάκια». 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Κατασκευαστή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συναρμολογεί τα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o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«τουβλάκι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εριγραφή τρόπου λειτουργίας όπως παρουσιάστηκε στο αρχικό βίντε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4CD56-BD0B-414E-84FB-210DD260902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σωστό αποτέλεσμα βρίσκεται </a:t>
            </a:r>
            <a:r>
              <a:rPr b="0" lang="el-G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https://scratch.mit.edu/projects/931948982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ρομπότ κάθε φορά που εντοπίζει εμπόδιο στον αισθητήρα απόστασης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ντιστρέφει την κίνηση του μοτέρ, δηλαδή κάνει πίσω με ταυτόχρονη στροφ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0F5EB-E6FD-4384-924F-E9C9BC56EAB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σωστό αποτέλεσμα βρίσκεται </a:t>
            </a:r>
            <a:r>
              <a:rPr b="0" lang="el-G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https://scratch.mit.edu/projects/931948982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ρομπότ κάθε φορά που εντοπίζει εμπόδιο στον αισθητήρα απόστασης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ντιστρέφει την κίνηση του μοτέρ, δηλαδή κάνει πίσω με ταυτόχρονη στροφ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3D54E-6CC4-4A3B-BC02-C0E2C526F0D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80D-321F-4C27-8953-B42E0625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49B-A7F7-4451-8CF3-3577E4A3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C04-CAEF-4670-89F9-F3A1AB2A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651-B0DB-41ED-BAC6-EF69A83C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CAE5-26C6-4719-9A2A-14AFAA98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9420-5590-4020-A3C1-B222D879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4841-3DDF-416C-B325-CB48A3D2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F892-F519-467D-A510-CB5D304E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B92C-D8B5-47EB-927A-04F966E2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151D-83CF-4799-95E8-967D7DEC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A821-9F8C-417D-B96F-58B59FA1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B66-D036-4DC5-8657-51F6840F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4C0E-651F-4695-8828-E0DB2669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9413-1A91-4B09-9237-86663AD7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4C38-E57E-4CBC-9580-AF7325EB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D83E-00F8-400B-A934-F4D0DCA9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785A-2859-4365-8172-2C1AB706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A0AB6-8635-4A48-A382-00B58776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59B5C-7B1A-4AE2-AF84-772E949D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05D1-EE1A-48F9-8300-F87742CC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4649-2365-4917-AB14-D7725C1D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CD50E-2B01-4747-9929-FA94EC3A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482-6703-42F4-9B7B-358AE6AE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7D126-AF7C-44C9-957E-1FCA1596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0BA8-76B5-4B63-A898-B35F015E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876D-4E87-48B9-8AD1-57A1BB35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E83F-6E83-4F68-98F8-E1EFCDC6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379AE-943D-48B6-B2B6-91002065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3C18-8326-4A10-8F02-D81D537B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4975-0106-42EE-866C-8B5F0BB3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D8745-2470-4B63-9328-B859ABE2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54E76-D13C-46DC-92C5-37AF4FA7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AF60B-D484-4D37-A4A5-0EC1B04C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11F-3AA2-4BAD-BDCB-03793C47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8D5D6-4B0E-4D3F-AC09-DBA8C14C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9C825-FD52-4037-A796-D4491C8B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163ED-8428-4B7A-B04E-E68900FB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F33C8-0AF6-412B-9005-096DC2D2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B6284-1779-4674-B0F6-C6CD70B8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7F3D-9F7E-41E0-A5E6-B13F0FA3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37D57-BD28-4771-883B-664C4D11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5417-ED6C-4DDC-B178-629CC041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F674-BC77-4E66-9D6F-4CD1BDB0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A5AFE-325A-4D98-BACF-DF7DB5F1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372-E1B3-48DA-AE34-C6A57554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F378F-2518-4FC3-B5C1-F6D7BA69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34063-CEE8-48B8-8093-75A58E79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459C1-50F7-4537-8FE9-D8976F8C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20FB7-DEE4-4FEE-8598-52100401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CC450-EC58-4AAD-A5B5-AA880FF2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2E444-DBD3-417E-AABC-7BA55D16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3FB5A-9E3D-401F-A6E5-408AD289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59FF8-C60E-470F-B2B8-48FE8CE5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2321E-C045-4088-B000-9DC738D5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2140A-5F94-4705-922E-F92E434B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589-EA38-4BCE-ACC6-0CD2A869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2FA0A-9504-4FB4-AE6F-F133C2E2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472-967E-4942-BBEE-3CB09533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786-DD40-47F3-ABE8-0558E576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BCA-E6AA-40FA-9345-27D21DCC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8A41E-C29E-4E9C-8C16-12076C5F1468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A5928-1797-4C15-BC6A-F6CAF6E53653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5E70D-133C-4327-B0B1-EC73D55A31E0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B6A50-0C41-485A-81EA-6F8AF8469618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78902-0E9C-4935-95A1-1CCB56661B29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-ac6Cvu4hPs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88800" y="2151000"/>
            <a:ext cx="791388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5b74"/>
                </a:solidFill>
                <a:latin typeface="Franklin Gothic Book"/>
              </a:rPr>
              <a:t>ΑΠΟΦΕΥΓΟΝΤΑΣ ΤΑ ΕΜΠΟΔΙΑ 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Δημιουργός: Βαρελάς Ανδρέας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3" name="Ορθογώνιο 3"/>
          <p:cNvSpPr/>
          <p:nvPr/>
        </p:nvSpPr>
        <p:spPr>
          <a:xfrm>
            <a:off x="936720" y="74916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Εικόνα 4" descr=""/>
          <p:cNvPicPr/>
          <p:nvPr/>
        </p:nvPicPr>
        <p:blipFill>
          <a:blip r:embed="rId1"/>
          <a:stretch/>
        </p:blipFill>
        <p:spPr>
          <a:xfrm>
            <a:off x="10074240" y="301680"/>
            <a:ext cx="1336680" cy="1299960"/>
          </a:xfrm>
          <a:prstGeom prst="rect">
            <a:avLst/>
          </a:prstGeom>
          <a:ln w="0">
            <a:noFill/>
          </a:ln>
        </p:spPr>
      </p:pic>
      <p:pic>
        <p:nvPicPr>
          <p:cNvPr id="225" name="Εικόνα 5" descr=""/>
          <p:cNvPicPr/>
          <p:nvPr/>
        </p:nvPicPr>
        <p:blipFill>
          <a:blip r:embed="rId2"/>
          <a:stretch/>
        </p:blipFill>
        <p:spPr>
          <a:xfrm>
            <a:off x="1219320" y="1203480"/>
            <a:ext cx="1811160" cy="2709720"/>
          </a:xfrm>
          <a:prstGeom prst="rect">
            <a:avLst/>
          </a:prstGeom>
          <a:ln w="0">
            <a:noFill/>
          </a:ln>
        </p:spPr>
      </p:pic>
      <p:pic>
        <p:nvPicPr>
          <p:cNvPr id="226" name="Εικόνα 6" descr=""/>
          <p:cNvPicPr/>
          <p:nvPr/>
        </p:nvPicPr>
        <p:blipFill>
          <a:blip r:embed="rId3"/>
          <a:stretch/>
        </p:blipFill>
        <p:spPr>
          <a:xfrm>
            <a:off x="8238960" y="4302000"/>
            <a:ext cx="275292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38080" y="663480"/>
            <a:ext cx="8526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1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 -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αρουσίαση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41360" y="2333520"/>
            <a:ext cx="53485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Τι παρατηρείτε στην εικόνα; 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οια είδη ρομπότ γνωρίζεται;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οιες κατηγορίες ρομπότ </a:t>
            </a: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γνωρίζετε;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9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30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1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Users\andre\Desktop\Διδακτικό Σενάριο\κατασκευή\με τοίχο\IMG_20231115_130808_1.jpg"/>
          <p:cNvPicPr/>
          <p:nvPr/>
        </p:nvPicPr>
        <p:blipFill>
          <a:blip r:embed="rId4"/>
          <a:stretch/>
        </p:blipFill>
        <p:spPr>
          <a:xfrm>
            <a:off x="1225440" y="1517760"/>
            <a:ext cx="36705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97120" y="663480"/>
            <a:ext cx="84679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1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 -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αρουσίαση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539360"/>
            <a:ext cx="834552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αρουσίαση Βίντεο  </a:t>
            </a:r>
            <a:r>
              <a:rPr b="0" lang="el-GR" sz="22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200" spc="-1" strike="noStrike" u="sng">
                <a:solidFill>
                  <a:srgbClr val="6eac1c"/>
                </a:solidFill>
                <a:uFillTx/>
                <a:latin typeface="Franklin Gothic Book"/>
                <a:hlinkClick r:id="rId1"/>
              </a:rPr>
              <a:t>https://youtu.be/-ac6Cvu4hPs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Σε ποια κατηγορία ανήκει το ρομπότ που παρακολουθήσατε;</a:t>
            </a:r>
            <a:br>
              <a:rPr sz="2200"/>
            </a:b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Α) Σε ρομπότ με τον άμεσο έλεγχο του ανθρώπου (τηλεκατευθυνόμενο ρομπότ)</a:t>
            </a:r>
            <a:br>
              <a:rPr sz="2200"/>
            </a:b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Β) Σε αυτόνομο ρομπότ με έλεγχο ενός προγραμματισμένου υπολογιστή</a:t>
            </a: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οιον αυτοματισμό χρησιμοποιεί το συγκεκριμένο ρομπότ;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5" name="Εικόνα 3" descr=""/>
          <p:cNvPicPr/>
          <p:nvPr/>
        </p:nvPicPr>
        <p:blipFill>
          <a:blip r:embed="rId2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36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7" name="Εικόνα 5" descr=""/>
          <p:cNvPicPr/>
          <p:nvPr/>
        </p:nvPicPr>
        <p:blipFill>
          <a:blip r:embed="rId4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22160" y="663480"/>
            <a:ext cx="86425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1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-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αρουσίαση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2240" y="1539360"/>
            <a:ext cx="834552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Μετάβαση στο 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Scratch (online) </a:t>
            </a:r>
            <a:br>
              <a:rPr sz="2200"/>
            </a:br>
            <a:r>
              <a:rPr b="0" lang="en-US" sz="22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335b74"/>
                </a:solidFill>
                <a:latin typeface="Franklin Gothic Book"/>
              </a:rPr>
              <a:t>https://scratch.mit.edu/projects/931838393/editor/</a:t>
            </a:r>
            <a:r>
              <a:rPr b="0" lang="el-GR" sz="2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Με ποιο εικονίδιο θα αλλάζατε το αντικείμενο «γάτα» από τις ενδυμασίες που θα αντιπροσώπευε καλύτερα το ρομπότ;</a:t>
            </a:r>
            <a:br>
              <a:rPr sz="2200"/>
            </a:b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(προσοχή επιλογή ενδυμασίας από τις «Ενδυμασίες» και </a:t>
            </a:r>
            <a:br>
              <a:rPr sz="2000"/>
            </a:b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όχι προσθήκη νέου αντικειμένου)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         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Ενδεικτική Απάντηση: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2.    Τι τίτλο θα δίνατε για το συγκεκριμένο ρομπότ; </a:t>
            </a:r>
            <a:br>
              <a:rPr sz="2200"/>
            </a:b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632880" y="1947960"/>
            <a:ext cx="1892520" cy="275724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9917280" y="453960"/>
            <a:ext cx="1608120" cy="137016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4"/>
          <a:stretch/>
        </p:blipFill>
        <p:spPr>
          <a:xfrm>
            <a:off x="7970760" y="3130560"/>
            <a:ext cx="13143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2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- Κατασκευή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84240" y="1885680"/>
            <a:ext cx="825192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Καθορισμός ρόλων για τα μέλη των ομάδων: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Αρχηγός της ομάδας 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Υπεύθυνος υπολογιστή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Υπεύθυνος επιλογής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Κατασκευαστής ρομπότ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(Η σειρά των ρόλων να αλλάζει ανά 10 διαφάνειες)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Σύνδεσμος με τα βήματα κατασκευής: </a:t>
            </a:r>
            <a:r>
              <a:rPr b="0" lang="el-GR" sz="20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f2fb79"/>
                </a:solidFill>
                <a:latin typeface="Franklin Gothic Book"/>
              </a:rPr>
              <a:t>https://drive.google.com/file/d/18QGLw_TiAxB-LnyHw85suZCtyzPDkGUH/view?usp=sharing</a:t>
            </a:r>
            <a:r>
              <a:rPr b="0" lang="el-GR" sz="2000" spc="-1" strike="noStrike">
                <a:solidFill>
                  <a:srgbClr val="f2fb79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335b74"/>
                </a:solidFill>
                <a:latin typeface="Franklin Gothic Book"/>
              </a:rPr>
              <a:t>Ολοκλήρωση: 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εριγραφή τρόπου λειτουργίας ρομπότ</a:t>
            </a:r>
            <a:r>
              <a:rPr b="1" lang="el-GR" sz="22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6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48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812880"/>
            <a:ext cx="9890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3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- Προγραμματισμός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55600" y="1908000"/>
            <a:ext cx="8067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Μετάβαση στον προγραμματισμό του ρομπότ (σύνδεση των μεμονωμένων εντολών στην σωστή σειρά)</a:t>
            </a:r>
            <a:r>
              <a:rPr b="0" lang="el-GR" sz="20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https://scratch.mit.edu/projects/931838393/editor/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Σύνδεση του ρομπότ με το πρόγραμμα του </a:t>
            </a:r>
            <a:r>
              <a:rPr b="0" i="1" lang="en-US" sz="2000" spc="-1" strike="noStrike">
                <a:solidFill>
                  <a:srgbClr val="335b74"/>
                </a:solidFill>
                <a:latin typeface="Franklin Gothic Book"/>
              </a:rPr>
              <a:t>Scratch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Εκτέλεση των εντολών και έλεγχος στη σωστή λειτουργία του ρομπότ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Ερώτηση: Τι κάνει το συγκεκριμένο ρομπότ και πως θα μπορούσε να περιγραφεί με λόγια ο προγραμματισμός του</a:t>
            </a:r>
            <a:r>
              <a:rPr b="0" i="1" lang="en-US" sz="2000" spc="-1" strike="noStrike">
                <a:solidFill>
                  <a:srgbClr val="335b74"/>
                </a:solidFill>
                <a:latin typeface="Franklin Gothic Book"/>
              </a:rPr>
              <a:t>;</a:t>
            </a: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1" name="Εικόνα 3" descr=""/>
          <p:cNvPicPr/>
          <p:nvPr/>
        </p:nvPicPr>
        <p:blipFill>
          <a:blip r:embed="rId1"/>
          <a:stretch/>
        </p:blipFill>
        <p:spPr>
          <a:xfrm>
            <a:off x="9713880" y="2151000"/>
            <a:ext cx="1811520" cy="273708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2"/>
          <a:stretch/>
        </p:blipFill>
        <p:spPr>
          <a:xfrm>
            <a:off x="10063080" y="422280"/>
            <a:ext cx="1462320" cy="149400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5" descr=""/>
          <p:cNvPicPr/>
          <p:nvPr/>
        </p:nvPicPr>
        <p:blipFill>
          <a:blip r:embed="rId3"/>
          <a:stretch/>
        </p:blipFill>
        <p:spPr>
          <a:xfrm>
            <a:off x="9242280" y="503388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812880"/>
            <a:ext cx="9890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4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- Στάδιο αξιολόγηση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155600" y="1908000"/>
            <a:ext cx="8067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αρουσίαση του ρομπότ της κάθε ομάδας στην ολομέλεια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υμπλήρωση 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Google Form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https://docs.google.com/forms/d/e/1FAIpQLSfy2PdHqQQOZs0IMQnl-SGtfmkA7w7dInX_gv1EVhGs5GCo_g/viewform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6" name="Εικόνα 3" descr=""/>
          <p:cNvPicPr/>
          <p:nvPr/>
        </p:nvPicPr>
        <p:blipFill>
          <a:blip r:embed="rId1"/>
          <a:stretch/>
        </p:blipFill>
        <p:spPr>
          <a:xfrm>
            <a:off x="9713880" y="2151000"/>
            <a:ext cx="1811520" cy="2737080"/>
          </a:xfrm>
          <a:prstGeom prst="rect">
            <a:avLst/>
          </a:prstGeom>
          <a:ln w="0">
            <a:noFill/>
          </a:ln>
        </p:spPr>
      </p:pic>
      <p:pic>
        <p:nvPicPr>
          <p:cNvPr id="257" name="Εικόνα 4" descr=""/>
          <p:cNvPicPr/>
          <p:nvPr/>
        </p:nvPicPr>
        <p:blipFill>
          <a:blip r:embed="rId2"/>
          <a:stretch/>
        </p:blipFill>
        <p:spPr>
          <a:xfrm>
            <a:off x="10063080" y="422280"/>
            <a:ext cx="1462320" cy="1494000"/>
          </a:xfrm>
          <a:prstGeom prst="rect">
            <a:avLst/>
          </a:prstGeom>
          <a:ln w="0">
            <a:noFill/>
          </a:ln>
        </p:spPr>
      </p:pic>
      <p:pic>
        <p:nvPicPr>
          <p:cNvPr id="258" name="Εικόνα 5" descr=""/>
          <p:cNvPicPr/>
          <p:nvPr/>
        </p:nvPicPr>
        <p:blipFill>
          <a:blip r:embed="rId3"/>
          <a:stretch/>
        </p:blipFill>
        <p:spPr>
          <a:xfrm>
            <a:off x="9242280" y="503388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And Bar</cp:lastModifiedBy>
  <dcterms:modified xsi:type="dcterms:W3CDTF">2023-11-29T20:09:09Z</dcterms:modified>
  <cp:revision>206</cp:revision>
  <dc:subject/>
  <dc:title>Παρουσίαση του PowerPoint</dc:title>
</cp:coreProperties>
</file>