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move the slide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AC997-30FA-4351-8012-A76BBBFAE8BC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Αντί της παρουσίασης οι μαθητές θα μπορούσαν να υλοποιήσουν τις δραστηριότητες του παρακάτω συνδέσμο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200" spc="-1" strike="noStrike" u="sng">
                <a:solidFill>
                  <a:srgbClr val="000000"/>
                </a:solidFill>
                <a:uFillTx/>
                <a:latin typeface="Calibri"/>
              </a:rPr>
              <a:t>https://learningapps.org/watch?v=pjt5wvay32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DBDC15-7D24-4A40-84CA-AAC1541113A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νδεικτικές Απαντήσει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Ένα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o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Ρομπότ με κινητήρα και αισθητήρα απόσταση από το πακέτο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Do 2.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δώ η απάντηση μπορεί να ποικίλει, από ρομπότ που έχουν δει ή και από αυτά που φαντάζοντα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Σε ρομπότ με τον άμεσο έλεγχο του ανθρώπου (τηλεκατευθυνόμενα ρομπότ) και σε αυτόνομα ρομπότ με προγραμματισμένο έλεγχο από υπολογιστή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77BC5-FA78-435A-9E18-C7479554448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νδεικτικές Απαντήσει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Σωστή απάντηση η «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Του κινητήρα και του αισθητήρα απόσταση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3BC004-DDFA-4BC0-89E5-F801D6CD98F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νδεικτικές Απαντήσει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Προσθήκη Νέου Αντικειμένου από «Επιλέξτε ένα αντικείμενο», (στην αναζήτηση πάνω αριστερά) πληκτρολογείτ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robot”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και επιλέγετε το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 Robot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. Με την εισαγωγή του αντικειμένου, από την καρτέλα «Ενδυμασίες» επιλέγετε την τρίτη ενδυμασία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Retro Robot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πικρατέστερη ιδέα καταγράφετε στο πίνακ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Μία απάντηση «Αποφεύγοντας τα εμπόδια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F404D-562D-4525-BB96-B308AE8F9C6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Οι ρόλοι των ομάδων είναι ενδεικτικοί και ανάλογα με τους μαθητές οι ρόλοι μπορούν να διαφοροποιούνται και να δίνεται έμφαση στις αδυναμίες των παιδιών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Ο </a:t>
            </a:r>
            <a:r>
              <a:rPr b="0" lang="el-GR" sz="1200" spc="-1" strike="noStrike" u="sng">
                <a:solidFill>
                  <a:srgbClr val="000000"/>
                </a:solidFill>
                <a:uFillTx/>
                <a:latin typeface="Calibri"/>
              </a:rPr>
              <a:t>Αρχηγός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: Επιβλέπει την ομάδα και επεμβαίνει – βοηθάει όπου χρειάζεται. Ο </a:t>
            </a:r>
            <a:r>
              <a:rPr b="0" lang="el-GR" sz="1200" spc="-1" strike="noStrike" u="sng">
                <a:solidFill>
                  <a:srgbClr val="000000"/>
                </a:solidFill>
                <a:uFillTx/>
                <a:latin typeface="Calibri"/>
              </a:rPr>
              <a:t>υπεύθυνος του υπολογιστή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: ελέγχει τις διαφάνειες με τα βήματα της κατασκευή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Ο </a:t>
            </a:r>
            <a:r>
              <a:rPr b="0" lang="el-GR" sz="1200" spc="-1" strike="noStrike" u="sng">
                <a:solidFill>
                  <a:srgbClr val="000000"/>
                </a:solidFill>
                <a:uFillTx/>
                <a:latin typeface="Calibri"/>
              </a:rPr>
              <a:t>Υπεύθυνος επιλογής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: επιλέγει τα σωστά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o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«τουβλάκια». Ο </a:t>
            </a:r>
            <a:r>
              <a:rPr b="0" lang="el-GR" sz="1200" spc="-1" strike="noStrike" u="sng">
                <a:solidFill>
                  <a:srgbClr val="000000"/>
                </a:solidFill>
                <a:uFillTx/>
                <a:latin typeface="Calibri"/>
              </a:rPr>
              <a:t>Κατασκευαστής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: συναρμολογεί τα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o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«τουβλάκια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Περιγραφή τρόπου λειτουργίας όπως παρουσιάστηκε στο αρχικό βίντε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FCCB4-0512-4957-833A-084625CCBF8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νδεικτικές Απαντήσει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Το σωστό αποτέλεσμα βρίσκεται </a:t>
            </a:r>
            <a:r>
              <a:rPr b="0" lang="el-G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https://scratch.mit.edu/projects/931948982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Το ρομπότ κάθε φορά που εντοπίζει εμπόδιο στον αισθητήρα απόστασης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αντιστρέφει την κίνηση του μοτέρ, δηλαδή κάνει πίσω με ταυτόχρονη στροφ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23B726-D727-48F6-9EBD-9473D771896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Ενδεικτικές Απαντήσει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Το σωστό αποτέλεσμα βρίσκεται </a:t>
            </a:r>
            <a:r>
              <a:rPr b="0" lang="el-G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https://scratch.mit.edu/projects/931948982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Το ρομπότ κάθε φορά που εντοπίζει εμπόδιο στον αισθητήρα απόστασης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αντιστρέφει την κίνηση του μοτέρ, δηλαδή κάνει πίσω με ταυτόχρονη στροφ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DBC5AD-BA8B-4F70-AB63-316D2C95DFE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DC21-6693-450E-A414-595D164E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B376-507F-4F97-992A-069F2FA6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76E1-021E-4BAB-9A2F-F28A0BF4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88F4-10EB-48D1-A18E-0C5A6522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8CBC-3E39-4DCC-8130-EA253953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3F4C-6AAE-4650-9360-1159C9A7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6BAC-0C3E-4912-BC43-6038352E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8B5B-3B90-46CA-B0F3-B09D6EA7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A4AE-BAA8-4DA4-ABB4-BF8ED551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3027-551D-41E5-AEB2-B5C1AF4A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E06E-988F-42D8-8D54-A13B27E2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182-6409-434F-B9BA-846BD565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6BFC-B157-4079-87EF-EECCFE20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84E5-275D-41D9-8ED7-43772109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724C-F392-4FD1-9724-9F62388E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0080-4297-4161-9691-D041A927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D86A-D44F-4DDC-9F3E-E4F49EFE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25A22-C219-4F7F-92B6-4C9C8A7D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C9A1A-46FC-4EFE-BFDF-E4159AA5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5927B-A9B8-4857-8E44-509A4C50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B06DC-4B59-4419-96CB-BE3963AA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38A36-5DC2-47D1-A551-1681078D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20F-64E2-4EB9-9698-980E940A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461AB-2AC1-41A6-B0FE-8063C1AC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9B5D6-2725-4F9C-A8C6-40D4266B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7D75B-9AF4-4651-A86C-337A01F2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196A1-000D-4E04-8556-C2928EE2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E9FD5-4D73-4766-9860-1A0B92C5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F0926-A085-4EDB-ACF1-006F850C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C960C-A497-4B5B-8EBF-F9F7FC53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C2D37-62FC-4CF7-B12C-1CBADE28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2612E-CCDC-45B0-A604-A5039E45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6A80A-3FC6-4A75-B50E-F6BB0396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0A06-603A-4F2B-945C-DB1E8DB4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D6391-7468-4DE4-872A-184C1D07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3EA2C-0D52-45C8-BBAF-4FB82552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6ED2B-8333-4DDF-8784-CF2A2BB8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66184-6F2A-45DC-8EA2-2C60296E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11733-142B-41C2-A368-4093CB45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D39F2-C50A-4119-8012-1B56DD23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58C03-7DF3-456B-BFE2-85E78470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6F5B9-A0C2-4E79-9CC6-96DD5192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EF9EB-F7E2-49F3-B0D5-78335B88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E89BD-2E42-46C9-ADAE-2116703D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FD10-D768-4C86-B714-E4081495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1D01A-341E-490E-A27B-82E514A6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6A2A1-DCD0-4429-A549-8171AC95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B3EC0-353B-4420-A82D-0DFBED56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CB574-EBE5-4FD4-A808-528C0CB2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BE96B-F0B8-4C6C-AD3F-3744DEE3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AC897-F658-4AB3-A79D-A4B1DB5C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2DAB6-54CC-422B-8CAD-AF2711F0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34B0A-436F-4782-B1BC-263E660B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FCD88-F799-4A66-9AC3-3CD5EE98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BB0DC-3F07-46D6-99C4-70764FAD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E12F-3C21-4B65-9DDE-9EA61294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E90E5-128D-4C63-8702-2D040ECA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9923-7A13-4081-BC6A-4BBBB851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191D-78AA-4C9D-BFED-1FCD6E10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1385-9C8D-40ED-B466-B7C6F4BC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CFBBC5-962A-43B6-8DC4-F38BD7B531F9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44BAF3-7250-463B-8431-A351CF09A915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9CF883-A081-4E24-ABFF-D04B51474D17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F08C96-B239-463C-9AA7-4FCBF9D953B5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D5431-DECA-4C53-BB39-C10254AB72CA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youtu.be/-ac6Cvu4hPs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88800" y="2151000"/>
            <a:ext cx="791388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5b74"/>
                </a:solidFill>
                <a:latin typeface="Franklin Gothic Book"/>
              </a:rPr>
              <a:t>ΑΠΟΦΕΥΓΟΝΤΑΣ ΤΑ ΕΜΠΟΔΙΑ </a:t>
            </a:r>
            <a:endParaRPr b="0" lang="en-US" sz="36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030320" y="4027320"/>
            <a:ext cx="9144000" cy="22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335b74"/>
                </a:solidFill>
                <a:latin typeface="Franklin Gothic Book"/>
              </a:rPr>
              <a:t>Δημιουργός: Βαρελάς Ανδρέας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3" name="Ορθογώνιο 3"/>
          <p:cNvSpPr/>
          <p:nvPr/>
        </p:nvSpPr>
        <p:spPr>
          <a:xfrm>
            <a:off x="936720" y="74916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Εικόνα 4" descr=""/>
          <p:cNvPicPr/>
          <p:nvPr/>
        </p:nvPicPr>
        <p:blipFill>
          <a:blip r:embed="rId1"/>
          <a:stretch/>
        </p:blipFill>
        <p:spPr>
          <a:xfrm>
            <a:off x="10074240" y="301680"/>
            <a:ext cx="1336680" cy="1299960"/>
          </a:xfrm>
          <a:prstGeom prst="rect">
            <a:avLst/>
          </a:prstGeom>
          <a:ln w="0">
            <a:noFill/>
          </a:ln>
        </p:spPr>
      </p:pic>
      <p:pic>
        <p:nvPicPr>
          <p:cNvPr id="225" name="Εικόνα 5" descr=""/>
          <p:cNvPicPr/>
          <p:nvPr/>
        </p:nvPicPr>
        <p:blipFill>
          <a:blip r:embed="rId2"/>
          <a:stretch/>
        </p:blipFill>
        <p:spPr>
          <a:xfrm>
            <a:off x="1219320" y="1203480"/>
            <a:ext cx="1811160" cy="2709720"/>
          </a:xfrm>
          <a:prstGeom prst="rect">
            <a:avLst/>
          </a:prstGeom>
          <a:ln w="0">
            <a:noFill/>
          </a:ln>
        </p:spPr>
      </p:pic>
      <p:pic>
        <p:nvPicPr>
          <p:cNvPr id="226" name="Εικόνα 6" descr=""/>
          <p:cNvPicPr/>
          <p:nvPr/>
        </p:nvPicPr>
        <p:blipFill>
          <a:blip r:embed="rId3"/>
          <a:stretch/>
        </p:blipFill>
        <p:spPr>
          <a:xfrm>
            <a:off x="8238960" y="4302000"/>
            <a:ext cx="275292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638080" y="663480"/>
            <a:ext cx="852660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άση 1</a:t>
            </a:r>
            <a:r>
              <a:rPr b="0" lang="el-GR" sz="4400" spc="-1" strike="noStrike" baseline="30000">
                <a:solidFill>
                  <a:srgbClr val="335b74"/>
                </a:solidFill>
                <a:latin typeface="Franklin Gothic Book"/>
              </a:rPr>
              <a:t>η</a:t>
            </a: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 - 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Παρουσίαση ρομπότ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941360" y="2333520"/>
            <a:ext cx="534852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Τι παρατηρείτε στην εικόνα; 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Ποια είδη ρομπότ γνωρίζεται;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Ποιες κατηγορίες ρομπότ </a:t>
            </a:r>
            <a:br>
              <a:rPr sz="2200"/>
            </a:b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γνωρίζετε;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9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30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1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C:\Users\andre\Desktop\Διδακτικό Σενάριο\κατασκευή\με τοίχο\IMG_20231115_130808_1.jpg"/>
          <p:cNvPicPr/>
          <p:nvPr/>
        </p:nvPicPr>
        <p:blipFill>
          <a:blip r:embed="rId4"/>
          <a:stretch/>
        </p:blipFill>
        <p:spPr>
          <a:xfrm>
            <a:off x="1225440" y="1517760"/>
            <a:ext cx="367056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697120" y="663480"/>
            <a:ext cx="84679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άση 1</a:t>
            </a:r>
            <a:r>
              <a:rPr b="0" lang="el-GR" sz="4400" spc="-1" strike="noStrike" baseline="30000">
                <a:solidFill>
                  <a:srgbClr val="335b74"/>
                </a:solidFill>
                <a:latin typeface="Franklin Gothic Book"/>
              </a:rPr>
              <a:t>η</a:t>
            </a: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 - 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Παρουσίαση ρομπότ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22240" y="1539360"/>
            <a:ext cx="834552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Παρουσίαση Βίντεο  </a:t>
            </a:r>
            <a:r>
              <a:rPr b="0" lang="el-GR" sz="2200" spc="-1" strike="noStrike">
                <a:solidFill>
                  <a:srgbClr val="335b74"/>
                </a:solidFill>
                <a:latin typeface="Wingdings"/>
                <a:ea typeface="Wingdings"/>
              </a:rPr>
              <a:t>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n-US" sz="2200" spc="-1" strike="noStrike" u="sng">
                <a:solidFill>
                  <a:srgbClr val="6eac1c"/>
                </a:solidFill>
                <a:uFillTx/>
                <a:latin typeface="Franklin Gothic Book"/>
                <a:hlinkClick r:id="rId1"/>
              </a:rPr>
              <a:t>https://youtu.be/-ac6Cvu4hPs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Σε ποια κατηγορία ανήκει το ρομπότ που παρακολουθήσατε;</a:t>
            </a:r>
            <a:br>
              <a:rPr sz="2200"/>
            </a:br>
            <a:br>
              <a:rPr sz="2200"/>
            </a:b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Α) Σε ρομπότ με τον άμεσο έλεγχο του ανθρώπου (τηλεκατευθυνόμενο ρομπότ)</a:t>
            </a:r>
            <a:br>
              <a:rPr sz="2200"/>
            </a:br>
            <a:br>
              <a:rPr sz="2200"/>
            </a:b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Β) Σε αυτόνομο ρομπότ με έλεγχο ενός προγραμματισμένου υπολογιστή</a:t>
            </a:r>
            <a:br>
              <a:rPr sz="2200"/>
            </a:b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Ποιον αυτοματισμό χρησιμοποιεί το συγκεκριμένο ρομπότ;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5" name="Εικόνα 3" descr=""/>
          <p:cNvPicPr/>
          <p:nvPr/>
        </p:nvPicPr>
        <p:blipFill>
          <a:blip r:embed="rId2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36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7" name="Εικόνα 5" descr=""/>
          <p:cNvPicPr/>
          <p:nvPr/>
        </p:nvPicPr>
        <p:blipFill>
          <a:blip r:embed="rId4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22160" y="663480"/>
            <a:ext cx="86425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άση 1</a:t>
            </a:r>
            <a:r>
              <a:rPr b="0" lang="el-GR" sz="4400" spc="-1" strike="noStrike" baseline="30000">
                <a:solidFill>
                  <a:srgbClr val="335b74"/>
                </a:solidFill>
                <a:latin typeface="Franklin Gothic Book"/>
              </a:rPr>
              <a:t>η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- 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Παρουσίαση ρομπότ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22240" y="1539360"/>
            <a:ext cx="834552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Μετάβαση στο 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Scratch (online) </a:t>
            </a:r>
            <a:br>
              <a:rPr sz="2200"/>
            </a:br>
            <a:r>
              <a:rPr b="0" lang="en-US" sz="2200" spc="-1" strike="noStrike">
                <a:solidFill>
                  <a:srgbClr val="335b74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335b74"/>
                </a:solidFill>
                <a:latin typeface="Franklin Gothic Book"/>
              </a:rPr>
              <a:t>https://scratch.mit.edu/projects/931838393/editor/</a:t>
            </a:r>
            <a:r>
              <a:rPr b="0" lang="el-GR" sz="24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Με ποιο εικονίδιο θα αλλάζατε το αντικείμενο «γάτα» από τις ενδυμασίες που θα αντιπροσώπευε καλύτερα το ρομπότ;</a:t>
            </a:r>
            <a:br>
              <a:rPr sz="2200"/>
            </a:b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(προσοχή επιλογή ενδυμασίας από τις «Ενδυμασίες» και </a:t>
            </a:r>
            <a:br>
              <a:rPr sz="2000"/>
            </a:b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όχι προσθήκη νέου αντικειμένου)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n-US" sz="2200" spc="-1" strike="noStrike">
                <a:solidFill>
                  <a:srgbClr val="335b74"/>
                </a:solidFill>
                <a:latin typeface="Franklin Gothic Book"/>
              </a:rPr>
              <a:t>         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	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Ενδεικτική Απάντηση: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2.    Τι τίτλο θα δίνατε για το συγκεκριμένο ρομπότ; </a:t>
            </a:r>
            <a:br>
              <a:rPr sz="2200"/>
            </a:b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0" name="Εικόνα 3" descr=""/>
          <p:cNvPicPr/>
          <p:nvPr/>
        </p:nvPicPr>
        <p:blipFill>
          <a:blip r:embed="rId1"/>
          <a:stretch/>
        </p:blipFill>
        <p:spPr>
          <a:xfrm>
            <a:off x="9632880" y="1947960"/>
            <a:ext cx="1892520" cy="2757240"/>
          </a:xfrm>
          <a:prstGeom prst="rect">
            <a:avLst/>
          </a:prstGeom>
          <a:ln w="0">
            <a:noFill/>
          </a:ln>
        </p:spPr>
      </p:pic>
      <p:pic>
        <p:nvPicPr>
          <p:cNvPr id="241" name="Εικόνα 4" descr=""/>
          <p:cNvPicPr/>
          <p:nvPr/>
        </p:nvPicPr>
        <p:blipFill>
          <a:blip r:embed="rId2"/>
          <a:stretch/>
        </p:blipFill>
        <p:spPr>
          <a:xfrm>
            <a:off x="9917280" y="453960"/>
            <a:ext cx="1608120" cy="1370160"/>
          </a:xfrm>
          <a:prstGeom prst="rect">
            <a:avLst/>
          </a:prstGeom>
          <a:ln w="0">
            <a:noFill/>
          </a:ln>
        </p:spPr>
      </p:pic>
      <p:pic>
        <p:nvPicPr>
          <p:cNvPr id="242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"/>
          <p:cNvPicPr/>
          <p:nvPr/>
        </p:nvPicPr>
        <p:blipFill>
          <a:blip r:embed="rId4"/>
          <a:stretch/>
        </p:blipFill>
        <p:spPr>
          <a:xfrm>
            <a:off x="7970760" y="3130560"/>
            <a:ext cx="131436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55560" y="677880"/>
            <a:ext cx="87613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άση 2</a:t>
            </a:r>
            <a:r>
              <a:rPr b="0" lang="el-GR" sz="4400" spc="-1" strike="noStrike" baseline="30000">
                <a:solidFill>
                  <a:srgbClr val="335b74"/>
                </a:solidFill>
                <a:latin typeface="Franklin Gothic Book"/>
              </a:rPr>
              <a:t>η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- Κατασκευή ρομπότ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84240" y="1885680"/>
            <a:ext cx="825192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Καθορισμός ρόλων για τα μέλη των ομάδων: 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 algn="just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Αρχηγός της ομάδας </a:t>
            </a:r>
            <a:endParaRPr b="0" i="1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 algn="just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Υπεύθυνος υπολογιστή</a:t>
            </a:r>
            <a:endParaRPr b="0" i="1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 algn="just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Υπεύθυνος επιλογής</a:t>
            </a:r>
            <a:endParaRPr b="0" i="1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 algn="just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Κατασκευαστής ρομπότ</a:t>
            </a:r>
            <a:endParaRPr b="0" i="1" lang="en-US" sz="22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 algn="just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(Η σειρά των ρόλων να αλλάζει ανά 10 διαφάνειες)</a:t>
            </a:r>
            <a:endParaRPr b="0" i="1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Σύνδεσμος με τα βήματα κατασκευής: </a:t>
            </a:r>
            <a:r>
              <a:rPr b="0" lang="el-GR" sz="2000" spc="-1" strike="noStrike">
                <a:solidFill>
                  <a:srgbClr val="335b74"/>
                </a:solidFill>
                <a:latin typeface="Wingdings"/>
                <a:ea typeface="Wingdings"/>
              </a:rPr>
              <a:t>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f2fb79"/>
                </a:solidFill>
                <a:latin typeface="Franklin Gothic Book"/>
              </a:rPr>
              <a:t>https://drive.google.com/file/d/18QGLw_TiAxB-LnyHw85suZCtyzPDkGUH/view?usp=sharing</a:t>
            </a:r>
            <a:r>
              <a:rPr b="0" lang="el-GR" sz="2000" spc="-1" strike="noStrike">
                <a:solidFill>
                  <a:srgbClr val="f2fb79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335b74"/>
                </a:solidFill>
                <a:latin typeface="Franklin Gothic Book"/>
              </a:rPr>
              <a:t>Ολοκλήρωση: </a:t>
            </a:r>
            <a:r>
              <a:rPr b="0" lang="el-GR" sz="2200" spc="-1" strike="noStrike">
                <a:solidFill>
                  <a:srgbClr val="335b74"/>
                </a:solidFill>
                <a:latin typeface="Franklin Gothic Book"/>
              </a:rPr>
              <a:t>Περιγραφή τρόπου λειτουργίας ρομπότ</a:t>
            </a:r>
            <a:r>
              <a:rPr b="1" lang="el-GR" sz="22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endParaRPr b="0" lang="en-US" sz="2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6" name="Εικόνα 3" descr=""/>
          <p:cNvPicPr/>
          <p:nvPr/>
        </p:nvPicPr>
        <p:blipFill>
          <a:blip r:embed="rId1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47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48" name="Εικόνα 5" descr=""/>
          <p:cNvPicPr/>
          <p:nvPr/>
        </p:nvPicPr>
        <p:blipFill>
          <a:blip r:embed="rId3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812880"/>
            <a:ext cx="98902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άση </a:t>
            </a: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3</a:t>
            </a:r>
            <a:r>
              <a:rPr b="0" lang="el-GR" sz="4400" spc="-1" strike="noStrike" baseline="30000">
                <a:solidFill>
                  <a:srgbClr val="335b74"/>
                </a:solidFill>
                <a:latin typeface="Franklin Gothic Book"/>
              </a:rPr>
              <a:t>η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- Προγραμματισμός ρομπότ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155600" y="1908000"/>
            <a:ext cx="80676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Μετάβαση στον προγραμματισμό του ρομπότ (σύνδεση των μεμονωμένων εντολών στην σωστή σειρά)</a:t>
            </a:r>
            <a:r>
              <a:rPr b="0" lang="el-GR" sz="2000" spc="-1" strike="noStrike">
                <a:solidFill>
                  <a:srgbClr val="335b74"/>
                </a:solidFill>
                <a:latin typeface="Wingdings"/>
                <a:ea typeface="Wingdings"/>
              </a:rPr>
              <a:t>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https://scratch.mit.edu/projects/931838393/editor/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Σύνδεση του ρομπότ με το πρόγραμμα του </a:t>
            </a:r>
            <a:r>
              <a:rPr b="0" i="1" lang="en-US" sz="2000" spc="-1" strike="noStrike">
                <a:solidFill>
                  <a:srgbClr val="335b74"/>
                </a:solidFill>
                <a:latin typeface="Franklin Gothic Book"/>
              </a:rPr>
              <a:t>Scratch</a:t>
            </a:r>
            <a:endParaRPr b="0" i="1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Εκτέλεση των εντολών και έλεγχος στη σωστή λειτουργία του ρομπότ</a:t>
            </a:r>
            <a:endParaRPr b="0" i="1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87480" indent="-45720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Ερώτηση: Τι κάνει το συγκεκριμένο ρομπότ και πως θα μπορούσε να περιγραφεί με λόγια ο προγραμματισμός του</a:t>
            </a:r>
            <a:r>
              <a:rPr b="0" i="1" lang="en-US" sz="2000" spc="-1" strike="noStrike">
                <a:solidFill>
                  <a:srgbClr val="335b74"/>
                </a:solidFill>
                <a:latin typeface="Franklin Gothic Book"/>
              </a:rPr>
              <a:t>;</a:t>
            </a:r>
            <a:r>
              <a:rPr b="0" i="1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i="1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1" name="Εικόνα 3" descr=""/>
          <p:cNvPicPr/>
          <p:nvPr/>
        </p:nvPicPr>
        <p:blipFill>
          <a:blip r:embed="rId1"/>
          <a:stretch/>
        </p:blipFill>
        <p:spPr>
          <a:xfrm>
            <a:off x="9713880" y="2151000"/>
            <a:ext cx="1811520" cy="2737080"/>
          </a:xfrm>
          <a:prstGeom prst="rect">
            <a:avLst/>
          </a:prstGeom>
          <a:ln w="0">
            <a:noFill/>
          </a:ln>
        </p:spPr>
      </p:pic>
      <p:pic>
        <p:nvPicPr>
          <p:cNvPr id="252" name="Εικόνα 4" descr=""/>
          <p:cNvPicPr/>
          <p:nvPr/>
        </p:nvPicPr>
        <p:blipFill>
          <a:blip r:embed="rId2"/>
          <a:stretch/>
        </p:blipFill>
        <p:spPr>
          <a:xfrm>
            <a:off x="10063080" y="422280"/>
            <a:ext cx="1462320" cy="1494000"/>
          </a:xfrm>
          <a:prstGeom prst="rect">
            <a:avLst/>
          </a:prstGeom>
          <a:ln w="0">
            <a:noFill/>
          </a:ln>
        </p:spPr>
      </p:pic>
      <p:pic>
        <p:nvPicPr>
          <p:cNvPr id="253" name="Εικόνα 5" descr=""/>
          <p:cNvPicPr/>
          <p:nvPr/>
        </p:nvPicPr>
        <p:blipFill>
          <a:blip r:embed="rId3"/>
          <a:stretch/>
        </p:blipFill>
        <p:spPr>
          <a:xfrm>
            <a:off x="9242280" y="503388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812880"/>
            <a:ext cx="98902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άση 4</a:t>
            </a:r>
            <a:r>
              <a:rPr b="0" lang="el-GR" sz="4400" spc="-1" strike="noStrike" baseline="30000">
                <a:solidFill>
                  <a:srgbClr val="335b74"/>
                </a:solidFill>
                <a:latin typeface="Franklin Gothic Book"/>
              </a:rPr>
              <a:t>η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- Στάδιο αξιολόγησης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155600" y="1908000"/>
            <a:ext cx="80676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αρουσίαση του ρομπότ της κάθε ομάδας στην ολομέλεια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Συμπλήρωση 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Google Form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l-GR" sz="2000" spc="-1" strike="noStrike">
                <a:solidFill>
                  <a:srgbClr val="335b74"/>
                </a:solidFill>
                <a:latin typeface="Wingdings"/>
                <a:ea typeface="Wingdings"/>
              </a:rPr>
              <a:t>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https://docs.google.com/forms/d/e/1FAIpQLSfy2PdHqQQOZs0IMQnl-SGtfmkA7w7dInX_gv1EVhGs5GCo_g/viewform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6" name="Εικόνα 3" descr=""/>
          <p:cNvPicPr/>
          <p:nvPr/>
        </p:nvPicPr>
        <p:blipFill>
          <a:blip r:embed="rId1"/>
          <a:stretch/>
        </p:blipFill>
        <p:spPr>
          <a:xfrm>
            <a:off x="9713880" y="2151000"/>
            <a:ext cx="1811520" cy="2737080"/>
          </a:xfrm>
          <a:prstGeom prst="rect">
            <a:avLst/>
          </a:prstGeom>
          <a:ln w="0">
            <a:noFill/>
          </a:ln>
        </p:spPr>
      </p:pic>
      <p:pic>
        <p:nvPicPr>
          <p:cNvPr id="257" name="Εικόνα 4" descr=""/>
          <p:cNvPicPr/>
          <p:nvPr/>
        </p:nvPicPr>
        <p:blipFill>
          <a:blip r:embed="rId2"/>
          <a:stretch/>
        </p:blipFill>
        <p:spPr>
          <a:xfrm>
            <a:off x="10063080" y="422280"/>
            <a:ext cx="1462320" cy="1494000"/>
          </a:xfrm>
          <a:prstGeom prst="rect">
            <a:avLst/>
          </a:prstGeom>
          <a:ln w="0">
            <a:noFill/>
          </a:ln>
        </p:spPr>
      </p:pic>
      <p:pic>
        <p:nvPicPr>
          <p:cNvPr id="258" name="Εικόνα 5" descr=""/>
          <p:cNvPicPr/>
          <p:nvPr/>
        </p:nvPicPr>
        <p:blipFill>
          <a:blip r:embed="rId3"/>
          <a:stretch/>
        </p:blipFill>
        <p:spPr>
          <a:xfrm>
            <a:off x="9242280" y="503388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And Bar</cp:lastModifiedBy>
  <dcterms:modified xsi:type="dcterms:W3CDTF">2023-11-29T20:09:09Z</dcterms:modified>
  <cp:revision>206</cp:revision>
  <dc:subject/>
  <dc:title>Παρουσίαση του PowerPoint</dc:title>
</cp:coreProperties>
</file>