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AB6-581F-4A1D-969E-1244B4F2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B07-FD97-4797-902F-B2E0166D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CB8-803D-485B-97EB-B6BE6129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C11-805F-42AB-83F3-6059EFE0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BA6C-3A92-4028-9522-58D4BFC5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060C-2D25-4F63-9B76-00E422DC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29B1-C118-4911-9AC7-3F57D844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1C93-DCFB-4762-A91C-AEFE6E84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210F-BC50-4713-A364-0429E77E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9702-C689-46E0-A38C-03C31D7C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93CD-0B92-4E01-9FDF-C1A672CD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0536-6670-4464-A677-B3045044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4478-FBB0-410E-826D-31D73485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052F-CA2D-4098-8D88-C267A6D8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CC18-7FFC-4362-9ECB-6290AB25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3EEF-2FD0-4342-BB92-5949E64A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7B65-D952-4111-8EC3-077353C5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F1822-3119-41C0-B7B3-633DA7EA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D33E9-40B2-4DB8-8D08-E3F3B09C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2DFFB-6D6E-46CF-B821-34F16518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A17FF-1DD1-46BD-91E5-BBAEA87D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536A8-E90D-4F9D-BEB5-6CFB55C4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184-BB25-4EED-BED8-C50B92C0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A8878-EE29-4A05-A1C7-DFD4A823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260A4-1470-45B5-9847-AD4E8145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E5D15-3183-4751-91B4-DF8E6853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ABC99-F798-45C5-BD4E-7F7D9FDE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5A5B0-EE74-4719-AD8D-34E3349D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479D3-F8E5-40ED-87A3-A732DD09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C78FB-9DE3-4C6A-904B-7FC880FF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9AD51-B8C9-4149-A288-2F6FF6BA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C754D-89B3-4A2F-AFF1-47D71C84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74533-AC70-4D68-B957-4254D9ED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214-B735-4938-94CB-F3216390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A30B8-AC36-41F3-B283-AE5DD456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211B9-E936-4538-923F-186389F5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B67D7-29B1-4EB7-84F5-C2274383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7E793-B810-4F54-B686-D432B89D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C5082-D9DA-4A70-989E-4E67AE3B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34BA6-2C13-41B6-B50C-E35F19A6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DB78D-2176-4DF1-99BA-0405F5FA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E54D5-A15D-435C-9C89-D24FC2E6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32668-D5C2-4B05-BEB9-B148FE8C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66F58-7E36-47FC-8153-DCEBF344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4272-CC7D-47BC-AA06-0BBCB477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DD405-8B89-4F07-9605-D12BC196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7D80E-FD0C-418B-ADB1-2683AADF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F3C7A-D65E-4C6A-BCDA-178DB863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08023-1686-40FD-89BA-01B269C3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145CD-50BD-4001-9406-B7F14C82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5B49E-27F0-4B52-9B5E-4DFB350D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91438-E5B6-4483-8CE3-ECA88F56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10929-AAEE-4889-B0BB-8E24A910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DD21C-2FC7-42F7-8A5C-EDCF6072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9DCAA-9D88-48F1-B5D0-CA840498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03B-8684-4FC2-BD34-D0BF5BA5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51B08-0F7D-4127-8CA5-020A146C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D7C-3064-485D-9276-182F8F2D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431-14F6-40D4-BB91-E5E5DDEC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B75-E815-4D77-92D7-4EF80B59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EF2FB-E6DB-42E3-8DCE-D9EAEA030B69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D732F-056F-4097-9F35-97E208BDE029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6A885-D40D-4E3D-8179-0C6C5202FEA0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077DC-3D35-40E3-965A-037DFB973845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64302-59FB-4D32-89AE-A65043B816DF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hyperlink" Target="https://el.wikipedia.org/wiki/&#915;&#941;&#966;&#965;&#961;&#945;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36920" y="2549520"/>
            <a:ext cx="826776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5b74"/>
                </a:solidFill>
                <a:latin typeface="Franklin Gothic Book"/>
              </a:rPr>
              <a:t>ΟΛΗΜΕΡΙΣ ΤΟ ΧΤΙΖΑΝΕ…ΤΟ ΒΡΑΔΥ ΔΕΝ ΕΓΚΡΕΜΙΖΟΤΑΝ. ΚΑΤΑΣΚΕΥΑΖΟΝΤΑΣ ΓΕΦΥΡΕΣ.</a:t>
            </a:r>
            <a:endParaRPr b="0" lang="en-US" sz="28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5b74"/>
                </a:solidFill>
                <a:latin typeface="Franklin Gothic Book"/>
              </a:rPr>
              <a:t>Δημιουργοί: Θεοδώρα Κουτζιακουτζίδου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Χριστίνα Μαργώνη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45920" y="557280"/>
            <a:ext cx="74912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Πληροφορίες για τις γέφυρες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1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1152360" y="1674720"/>
            <a:ext cx="7407360" cy="31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Calibri"/>
                <a:ea typeface="Calibri"/>
              </a:rPr>
              <a:t>Γέφυρα είναι κατασκευή που έχει σκοπό την αποκατάσταση της συνέχειας μιας γραμμής επικοινωνίας, όπως μιας οδού (οδική γέφυρα), ενός σιδηροδρόμου (σιδηροδρομική), μιας ροής πεζών (πεζογέφυρα) ή ενός αγωγού (π.χ. υδατογέφυρα, γέφυρα καλωδίων κλπ.), πάνω από ένα εμπόδιο. </a:t>
            </a: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el-GR" sz="1600" spc="-1" strike="noStrike">
                <a:solidFill>
                  <a:srgbClr val="000000"/>
                </a:solidFill>
                <a:latin typeface="Calibri"/>
                <a:ea typeface="Calibri"/>
              </a:rPr>
              <a:t>Τα συνήθη εμπόδια που γεφυρώνονται είναι ποτάμια ή γενικότερα υδάτινες επιφάνειες, άλλοι συγκοινωνιακοί άξονες (άλλες οδοί-που, αν υπάρχει και σύνδεση, η γέφυρα ή οι γέφυρες εντάσσονται στον ανισόπεδο κυκλοφοριακό κόμβο που σχηματίζεται-ή σιδηροδρομικές γραμμές), τεχνητές υδατικές ροές, εδαφικές ταπεινώσεις (χαράδρες, κοιλάδες) κ.λπ.</a:t>
            </a: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Calibri"/>
              </a:rPr>
              <a:t>Ανακτήθηκε την 28/11/2023 από: chrome-extension://efaidnbmnnnibpcajpcglclefindmkaj/http://kpe-makrin.mag.sch.gr/smnrgefyr13/GEFYRA.pdf).</a:t>
            </a:r>
            <a:endParaRPr b="0" lang="en-US" sz="1200" spc="-1" strike="noStrike">
              <a:solidFill>
                <a:srgbClr val="335b7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07840" y="2533680"/>
            <a:ext cx="74962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  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6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27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8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1254240" y="1181880"/>
            <a:ext cx="77756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Οι μεγαλύτεροι κατασκευαστές γέφυρας της αρχαιότητας ήταν οι αρχαίοι Ρωμαίοι. Οι Ρωμαίοι έχτισαν γερανογέφυρες. Μερικές σώζονται μέχρι και σήμερα. Ένα παράδειγμα είναι η γέφυρα Alcántara, που χτίστηκε πάνω από τον ποταμό Τάγο, στην Ισπανία. Οι Ρωμαίοι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χρησιμοποίησαν επίσης τσιμέντο, το οποίο μείωσε τη μεταβολή της αντοχής που βρέθηκε σε φυσική πέτρ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Calibri"/>
              </a:rPr>
              <a:t>(Ανακτήθηκε την 29/11/2023 από: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l-GR" sz="1600" spc="-1" strike="noStrike" u="sng">
                <a:solidFill>
                  <a:srgbClr val="6eac1c"/>
                </a:solidFill>
                <a:uFillTx/>
                <a:latin typeface="Calibri"/>
                <a:ea typeface="Calibri"/>
                <a:hlinkClick r:id="rId4"/>
              </a:rPr>
              <a:t>https://el.wikipedia.org/wiki/%CE%93%CE%AD%CF%86%CF%85%CF%81%CE%B1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Εικόνα 3" descr=""/>
          <p:cNvPicPr/>
          <p:nvPr/>
        </p:nvPicPr>
        <p:blipFill>
          <a:blip r:embed="rId1"/>
          <a:stretch/>
        </p:blipFill>
        <p:spPr>
          <a:xfrm>
            <a:off x="9888480" y="199080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3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2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34640" y="503280"/>
            <a:ext cx="8761320" cy="637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Υπάρχουν 4 τύποι γεφυρών: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Γέφυρα με τραβέρσες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Γέφυρα με προβόλους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Κρεμαστή γέφυρα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Τοξωτή γέφυρα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Σχεδιασμός και υπολογισμός των γεφυρών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Η σύγχρονη αντιμετώπιση των προβλημάτων σχεδιασμού μιας γέφυρας είναι γενικά μια σύνθετη και αρκετά εξειδικευμένη εργασία. Τα κριτήρια σχεδιασμού είναι: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Η ασφάλεια της κατασκευής σε συνηθισμένες αλλά και έκτακτες καταπονήσεις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Η διατήρηση της αντοχής της στο χρόνο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Η λειτουργικότητα της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Η οικονομία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Η εναρμόνιση της κατασκευής με το περιβάλλον.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22040" y="53820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335b74"/>
                </a:solidFill>
                <a:latin typeface="Franklin Gothic Book"/>
              </a:rPr>
              <a:t>Το γεφύρι της Άρτας</a:t>
            </a:r>
            <a:endParaRPr b="0" lang="en-US" sz="5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5" name="6 - Θέση περιεχομένου" descr="Γέφυρα Άρτας.jpg"/>
          <p:cNvPicPr/>
          <p:nvPr/>
        </p:nvPicPr>
        <p:blipFill>
          <a:blip r:embed="rId1"/>
          <a:stretch/>
        </p:blipFill>
        <p:spPr>
          <a:xfrm>
            <a:off x="1766880" y="1758960"/>
            <a:ext cx="7153200" cy="4024440"/>
          </a:xfrm>
          <a:prstGeom prst="rect">
            <a:avLst/>
          </a:prstGeom>
          <a:ln w="0">
            <a:noFill/>
          </a:ln>
        </p:spPr>
      </p:pic>
      <p:pic>
        <p:nvPicPr>
          <p:cNvPr id="236" name="Εικόνα 3" descr=""/>
          <p:cNvPicPr/>
          <p:nvPr/>
        </p:nvPicPr>
        <p:blipFill>
          <a:blip r:embed="rId2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37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38" name="Εικόνα 5" descr=""/>
          <p:cNvPicPr/>
          <p:nvPr/>
        </p:nvPicPr>
        <p:blipFill>
          <a:blip r:embed="rId4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3680" y="32688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335b74"/>
                </a:solidFill>
                <a:latin typeface="Franklin Gothic Book"/>
              </a:rPr>
              <a:t>Καλωδιωτές γέφυρες</a:t>
            </a:r>
            <a:endParaRPr b="0" lang="en-US" sz="5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0" name="6 - Θέση περιεχομένου" descr="Καλωδιωτές γέφυρες.JPG"/>
          <p:cNvPicPr/>
          <p:nvPr/>
        </p:nvPicPr>
        <p:blipFill>
          <a:blip r:embed="rId1"/>
          <a:stretch/>
        </p:blipFill>
        <p:spPr>
          <a:xfrm>
            <a:off x="1084320" y="1384200"/>
            <a:ext cx="7796160" cy="4848480"/>
          </a:xfrm>
          <a:prstGeom prst="rect">
            <a:avLst/>
          </a:prstGeom>
          <a:ln w="0">
            <a:noFill/>
          </a:ln>
        </p:spPr>
      </p:pic>
      <p:pic>
        <p:nvPicPr>
          <p:cNvPr id="241" name="Εικόνα 3" descr=""/>
          <p:cNvPicPr/>
          <p:nvPr/>
        </p:nvPicPr>
        <p:blipFill>
          <a:blip r:embed="rId2"/>
          <a:stretch/>
        </p:blipFill>
        <p:spPr>
          <a:xfrm>
            <a:off x="9713880" y="2308320"/>
            <a:ext cx="1811520" cy="2736720"/>
          </a:xfrm>
          <a:prstGeom prst="rect">
            <a:avLst/>
          </a:prstGeom>
          <a:ln w="0">
            <a:noFill/>
          </a:ln>
        </p:spPr>
      </p:pic>
      <p:pic>
        <p:nvPicPr>
          <p:cNvPr id="242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93640"/>
          </a:xfrm>
          <a:prstGeom prst="rect">
            <a:avLst/>
          </a:prstGeom>
          <a:ln w="0">
            <a:noFill/>
          </a:ln>
        </p:spPr>
      </p:pic>
      <p:pic>
        <p:nvPicPr>
          <p:cNvPr id="243" name="Εικόνα 5" descr=""/>
          <p:cNvPicPr/>
          <p:nvPr/>
        </p:nvPicPr>
        <p:blipFill>
          <a:blip r:embed="rId4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36360" y="60480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Μεταλλικές τοξωτές γέφυρες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5" name="6 - Θέση περιεχομένου" descr="Μεταλικές τοξωτές γέφυρες.JPG"/>
          <p:cNvPicPr/>
          <p:nvPr/>
        </p:nvPicPr>
        <p:blipFill>
          <a:blip r:embed="rId1"/>
          <a:stretch/>
        </p:blipFill>
        <p:spPr>
          <a:xfrm>
            <a:off x="1014480" y="1531800"/>
            <a:ext cx="8080200" cy="4980240"/>
          </a:xfrm>
          <a:prstGeom prst="rect">
            <a:avLst/>
          </a:prstGeom>
          <a:ln w="0">
            <a:noFill/>
          </a:ln>
        </p:spPr>
      </p:pic>
      <p:pic>
        <p:nvPicPr>
          <p:cNvPr id="246" name="Εικόνα 3" descr=""/>
          <p:cNvPicPr/>
          <p:nvPr/>
        </p:nvPicPr>
        <p:blipFill>
          <a:blip r:embed="rId2"/>
          <a:stretch/>
        </p:blipFill>
        <p:spPr>
          <a:xfrm>
            <a:off x="9713880" y="2286000"/>
            <a:ext cx="1811520" cy="2563920"/>
          </a:xfrm>
          <a:prstGeom prst="rect">
            <a:avLst/>
          </a:prstGeom>
          <a:ln w="0">
            <a:noFill/>
          </a:ln>
        </p:spPr>
      </p:pic>
      <p:pic>
        <p:nvPicPr>
          <p:cNvPr id="247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625400"/>
          </a:xfrm>
          <a:prstGeom prst="rect">
            <a:avLst/>
          </a:prstGeom>
          <a:ln w="0">
            <a:noFill/>
          </a:ln>
        </p:spPr>
      </p:pic>
      <p:pic>
        <p:nvPicPr>
          <p:cNvPr id="248" name="Εικόνα 5" descr=""/>
          <p:cNvPicPr/>
          <p:nvPr/>
        </p:nvPicPr>
        <p:blipFill>
          <a:blip r:embed="rId4"/>
          <a:stretch/>
        </p:blipFill>
        <p:spPr>
          <a:xfrm>
            <a:off x="9242280" y="4995720"/>
            <a:ext cx="275292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Πλωτή γέφυρα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0" name="3 - Θέση περιεχομένου" descr="lefkada-1-1024x566.jpg"/>
          <p:cNvPicPr/>
          <p:nvPr/>
        </p:nvPicPr>
        <p:blipFill>
          <a:blip r:embed="rId1"/>
          <a:stretch/>
        </p:blipFill>
        <p:spPr>
          <a:xfrm>
            <a:off x="2438280" y="2014560"/>
            <a:ext cx="6478560" cy="3581280"/>
          </a:xfrm>
          <a:prstGeom prst="rect">
            <a:avLst/>
          </a:prstGeom>
          <a:ln w="0">
            <a:noFill/>
          </a:ln>
        </p:spPr>
      </p:pic>
      <p:pic>
        <p:nvPicPr>
          <p:cNvPr id="25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62540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3" descr=""/>
          <p:cNvPicPr/>
          <p:nvPr/>
        </p:nvPicPr>
        <p:blipFill>
          <a:blip r:embed="rId3"/>
          <a:stretch/>
        </p:blipFill>
        <p:spPr>
          <a:xfrm>
            <a:off x="9713880" y="2286000"/>
            <a:ext cx="1811520" cy="2563920"/>
          </a:xfrm>
          <a:prstGeom prst="rect">
            <a:avLst/>
          </a:prstGeom>
          <a:ln w="0">
            <a:noFill/>
          </a:ln>
        </p:spPr>
      </p:pic>
      <p:pic>
        <p:nvPicPr>
          <p:cNvPr id="253" name="Εικόνα 5" descr=""/>
          <p:cNvPicPr/>
          <p:nvPr/>
        </p:nvPicPr>
        <p:blipFill>
          <a:blip r:embed="rId4"/>
          <a:stretch/>
        </p:blipFill>
        <p:spPr>
          <a:xfrm>
            <a:off x="9686880" y="4995720"/>
            <a:ext cx="230832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53720" y="587160"/>
            <a:ext cx="7061400" cy="72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335b74"/>
                </a:solidFill>
                <a:latin typeface="Franklin Gothic Book"/>
              </a:rPr>
              <a:t>Επί τόπου έγχυση </a:t>
            </a:r>
            <a:endParaRPr b="0" lang="en-US" sz="5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5" name="6 - Θέση περιεχομένου" descr="Επί τόπου έκχυση.JPG"/>
          <p:cNvPicPr/>
          <p:nvPr/>
        </p:nvPicPr>
        <p:blipFill>
          <a:blip r:embed="rId1"/>
          <a:stretch/>
        </p:blipFill>
        <p:spPr>
          <a:xfrm>
            <a:off x="1549440" y="1655640"/>
            <a:ext cx="7618320" cy="4654800"/>
          </a:xfrm>
          <a:prstGeom prst="rect">
            <a:avLst/>
          </a:prstGeom>
          <a:ln w="0">
            <a:noFill/>
          </a:ln>
        </p:spPr>
      </p:pic>
      <p:pic>
        <p:nvPicPr>
          <p:cNvPr id="256" name="Εικόνα 3" descr=""/>
          <p:cNvPicPr/>
          <p:nvPr/>
        </p:nvPicPr>
        <p:blipFill>
          <a:blip r:embed="rId2"/>
          <a:stretch/>
        </p:blipFill>
        <p:spPr>
          <a:xfrm>
            <a:off x="9923400" y="2244600"/>
            <a:ext cx="1811520" cy="2605320"/>
          </a:xfrm>
          <a:prstGeom prst="rect">
            <a:avLst/>
          </a:prstGeom>
          <a:ln w="0">
            <a:noFill/>
          </a:ln>
        </p:spPr>
      </p:pic>
      <p:pic>
        <p:nvPicPr>
          <p:cNvPr id="257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28480"/>
          </a:xfrm>
          <a:prstGeom prst="rect">
            <a:avLst/>
          </a:prstGeom>
          <a:ln w="0">
            <a:noFill/>
          </a:ln>
        </p:spPr>
      </p:pic>
      <p:pic>
        <p:nvPicPr>
          <p:cNvPr id="258" name="Εικόνα 5" descr=""/>
          <p:cNvPicPr/>
          <p:nvPr/>
        </p:nvPicPr>
        <p:blipFill>
          <a:blip r:embed="rId4"/>
          <a:stretch/>
        </p:blipFill>
        <p:spPr>
          <a:xfrm>
            <a:off x="9282240" y="4960800"/>
            <a:ext cx="27525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3-11-30T10:19:48Z</dcterms:modified>
  <cp:revision>133</cp:revision>
  <dc:subject/>
  <dc:title>Παρουσίαση του PowerPoint</dc:title>
</cp:coreProperties>
</file>