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339-C94F-41CF-835B-9646A1E0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442-15E9-49D5-9165-98189EF4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A2A-4E69-442B-B7F8-1FD9F612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89F-88C2-4B87-B13B-A274836F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FD6D-35BD-4065-8C1D-F9D38D27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8C8-79EF-42B7-A145-C8BB2B83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EB40-0A59-4D9E-81C6-352CF120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B84C-F4C9-4D17-B6E5-5D78335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8010-3A99-4DF6-842C-DE06DF3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F1FA-ECBA-4302-B5F9-8244885C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E9F-968A-42ED-92BE-09D014C8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C9D-5C79-4B76-A2F5-B2987086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BD1-3C16-4672-BD03-B31A68F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857A-61C2-4406-9114-B4CFAC0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5470-0749-4927-837A-6AC394E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3186-B4B3-4D9A-AC3A-A51DC32B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DAFF-5D6E-4A38-AB40-4B8B7279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1891-46DC-41BF-88D8-FB8B866B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7EC1-6BB0-4418-8216-413710A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98BF-B88E-47AD-B7AB-BDB8A8E0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E05B-A36E-4DBD-A830-346FB952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C790-C0F3-4F67-BED9-2D1BBCCB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CF0-010D-4D74-9455-442DB9A4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3C29-C6C7-4F40-8808-DD6D50D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D5DA-C926-48F3-AE72-2146E70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209D-D9EC-4CB3-A98F-A04C54D6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A309-F9C7-495C-8BFC-922986C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8146-CDEC-4B0A-A092-4FF1052A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4598-E542-45AE-A562-EFF2CEB0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9FC4-6A1A-468A-9049-15D363B5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A143-EF71-4BD5-9405-7294C0D0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91AF-9175-4EDA-8A1F-954F9103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499F-0485-47AE-B062-AEA22C78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F44-B754-4A37-BD01-3852EB32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FBAC-6FFF-4131-86FD-5D2C74F1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AEFA2-A58E-40C0-94CF-B8DE6E0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B4F0-AA02-4E58-AF77-0FF73D42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BC80-B517-4925-9E9F-0A08782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2AD6-CC54-4E81-8C57-AF5DE20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9CAB3-392F-41A5-AA3E-A88B6C0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00F59-71C2-44AE-AF37-5A950F5A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F93D-9457-4B97-8153-3EDF67D9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072B-E050-4333-9B37-3903AA10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F5C1-CA5E-47E3-BF5D-A251A00D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13D-77FB-4A45-A84D-1CFF97A4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F3FF-1052-4BDB-A670-606BDC46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E2718-91BF-4DA9-8A19-2D5F8F08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47080-2B0A-4AEC-961B-95AF971C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E0D1C-02CB-4961-8343-2A2CFC31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0A59B-F515-4730-82CC-15B90505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0F89-D8DF-4923-8A05-97371C19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1F701-05F1-48DB-B1E8-E22BE32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7523-0F24-483D-A561-3F54CAC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B001-E455-4CE4-90E5-063DB23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BFAC-9454-440C-B86A-A8E7E6C9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4F4-9A29-4AEA-B513-DD9BA9E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E0CDE-1B91-4BEA-B7EB-212BE078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5BF-0B88-47F9-8B01-36D9CBB6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E22-86ED-406F-8BF9-A6F25B74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4EA-DE8E-4074-AEF9-32DD63C2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033AC-648D-4FB4-A9D3-62ABCFB55BC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97839-E609-472D-ADE2-C17135969C93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BAA5C-116D-430A-8A24-E2992497F8CA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97CB1-B781-4279-9770-2C9E21C55532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52195-0C5D-4370-AA9E-68C37797B57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s://el.wikipedia.org/wiki/&#915;&#941;&#966;&#965;&#961;&#945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36920" y="254952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5b74"/>
                </a:solidFill>
                <a:latin typeface="Franklin Gothic Book"/>
              </a:rPr>
              <a:t>ΟΛΗΜΕΡΙΣ ΤΟ ΧΤΙΖΑΝΕ…ΤΟ ΒΡΑΔΥ ΔΕΝ ΕΓΚΡΕΜΙΖΟΤΑΝ. ΚΑΤΑΣΚΕΥΑΖΟΝΤΑΣ ΓΕΦΥΡΕΣ.</a:t>
            </a:r>
            <a:endParaRPr b="0" lang="en-US" sz="28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οί: Θεοδώρα Κουτζιακουτζίδου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Χριστίνα Μαργώνη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45920" y="55728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ληροφορίες για τις γέφυρε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1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52360" y="1674720"/>
            <a:ext cx="740736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Γέφυρα είναι κατασκευή που έχει σκοπό την αποκατάσταση της συνέχειας μιας γραμμής επικοινωνίας, όπως μιας οδού (οδική γέφυρα), ενός σιδηροδρόμου (σιδηροδρομική), μιας ροής πεζών (πεζογέφυρα) ή ενός αγωγού (π.χ. υδατογέφυρα, γέφυρα καλωδίων κλπ.), πάνω από ένα εμπόδιο.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Τα συνήθη εμπόδια που γεφυρώνονται είναι ποτάμια ή γενικότερα υδάτινες επιφάνειες, άλλοι συγκοινωνιακοί άξονες (άλλες οδοί-που, αν υπάρχει και σύνδεση, η γέφυρα ή οι γέφυρες εντάσσονται στον ανισόπεδο κυκλοφοριακό κόμβο που σχηματίζεται-ή σιδηροδρομικές γραμμές), τεχνητές υδατικές ροές, εδαφικές ταπεινώσεις (χαράδρες, κοιλάδες) κ.λπ.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Ανακτήθηκε την 28/11/2023 από: chrome-extension://efaidnbmnnnibpcajpcglclefindmkaj/http://kpe-makrin.mag.sch.gr/smnrgefyr13/GEFYRA.pdf).</a:t>
            </a:r>
            <a:endParaRPr b="0" lang="en-US" sz="12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07840" y="25336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6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254240" y="1181880"/>
            <a:ext cx="77756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Οι μεγαλύτεροι κατασκευαστές γέφυρας της αρχαιότητας ήταν οι αρχαίοι Ρωμαίοι. Οι Ρωμαίοι έχτισαν γερανογέφυρες. Μερικές σώζονται μέχρι και σήμερα. Ένα παράδειγμα είναι η γέφυρα Alcántara, που χτίστηκε πάνω από τον ποταμό Τάγο, στην Ισπανία. Οι Ρωμαίοι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χρησιμοποίησαν επίσης τσιμέντο, το οποίο μείωσε τη μεταβολή της αντοχής που βρέθηκε σε φυσική πέτρ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(Ανακτήθηκε την 29/11/2023 από: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l-GR" sz="1600" spc="-1" strike="noStrike" u="sng">
                <a:solidFill>
                  <a:srgbClr val="6eac1c"/>
                </a:solidFill>
                <a:uFillTx/>
                <a:latin typeface="Calibri"/>
                <a:ea typeface="Calibri"/>
                <a:hlinkClick r:id="rId4"/>
              </a:rPr>
              <a:t>https://el.wikipedia.org/wiki/%CE%93%CE%AD%CF%86%CF%85%CF%81%CE%B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Εικόνα 3" descr=""/>
          <p:cNvPicPr/>
          <p:nvPr/>
        </p:nvPicPr>
        <p:blipFill>
          <a:blip r:embed="rId1"/>
          <a:stretch/>
        </p:blipFill>
        <p:spPr>
          <a:xfrm>
            <a:off x="9888480" y="199080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4640" y="503280"/>
            <a:ext cx="8761320" cy="63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Υπάρχουν 4 τύποι γεφυρών: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Γέφυρα με τραβέρσε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Γέφυρα με προβόλου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Κρεμαστή γέφυρ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Τοξωτή γέφυρα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Σχεδιασμός και υπολογισμός των γεφυρών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σύγχρονη αντιμετώπιση των προβλημάτων σχεδιασμού μιας γέφυρας είναι γενικά μια σύνθετη και αρκετά εξειδικευμένη εργασία. Τα κριτήρια σχεδιασμού είναι: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ασφάλεια της κατασκευής σε συνηθισμένες αλλά και έκτακτες καταπονήσει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διατήρηση της αντοχής της στο χρόνο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λειτουργικότητα της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οικονομία</a:t>
            </a:r>
            <a:br>
              <a:rPr sz="2400"/>
            </a:b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Η εναρμόνιση της κατασκευής με το περιβάλλον.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22040" y="53820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5b74"/>
                </a:solidFill>
                <a:latin typeface="Franklin Gothic Book"/>
              </a:rPr>
              <a:t>Το γεφύρι της Άρτας</a:t>
            </a:r>
            <a:endParaRPr b="0" lang="en-US" sz="5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6 - Θέση περιεχομένου" descr="Γέφυρα Άρτας.jpg"/>
          <p:cNvPicPr/>
          <p:nvPr/>
        </p:nvPicPr>
        <p:blipFill>
          <a:blip r:embed="rId1"/>
          <a:stretch/>
        </p:blipFill>
        <p:spPr>
          <a:xfrm>
            <a:off x="1766880" y="1758960"/>
            <a:ext cx="7153200" cy="402444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38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3680" y="32688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5b74"/>
                </a:solidFill>
                <a:latin typeface="Franklin Gothic Book"/>
              </a:rPr>
              <a:t>Καλωδιωτές γέφυρες</a:t>
            </a:r>
            <a:endParaRPr b="0" lang="en-US" sz="5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6 - Θέση περιεχομένου" descr="Καλωδιωτές γέφυρες.JPG"/>
          <p:cNvPicPr/>
          <p:nvPr/>
        </p:nvPicPr>
        <p:blipFill>
          <a:blip r:embed="rId1"/>
          <a:stretch/>
        </p:blipFill>
        <p:spPr>
          <a:xfrm>
            <a:off x="1084320" y="1384200"/>
            <a:ext cx="7796160" cy="484848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3" descr=""/>
          <p:cNvPicPr/>
          <p:nvPr/>
        </p:nvPicPr>
        <p:blipFill>
          <a:blip r:embed="rId2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5" descr=""/>
          <p:cNvPicPr/>
          <p:nvPr/>
        </p:nvPicPr>
        <p:blipFill>
          <a:blip r:embed="rId4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6360" y="60480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Μεταλλικές τοξωτές γέφυρε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5" name="6 - Θέση περιεχομένου" descr="Μεταλικές τοξωτές γέφυρες.JPG"/>
          <p:cNvPicPr/>
          <p:nvPr/>
        </p:nvPicPr>
        <p:blipFill>
          <a:blip r:embed="rId1"/>
          <a:stretch/>
        </p:blipFill>
        <p:spPr>
          <a:xfrm>
            <a:off x="1014480" y="1531800"/>
            <a:ext cx="8080200" cy="498024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3" descr=""/>
          <p:cNvPicPr/>
          <p:nvPr/>
        </p:nvPicPr>
        <p:blipFill>
          <a:blip r:embed="rId2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5" descr=""/>
          <p:cNvPicPr/>
          <p:nvPr/>
        </p:nvPicPr>
        <p:blipFill>
          <a:blip r:embed="rId4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λωτή γέφυρ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3 - Θέση περιεχομένου" descr="lefkada-1-1024x566.jpg"/>
          <p:cNvPicPr/>
          <p:nvPr/>
        </p:nvPicPr>
        <p:blipFill>
          <a:blip r:embed="rId1"/>
          <a:stretch/>
        </p:blipFill>
        <p:spPr>
          <a:xfrm>
            <a:off x="2438280" y="2014560"/>
            <a:ext cx="6478560" cy="358128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3" descr=""/>
          <p:cNvPicPr/>
          <p:nvPr/>
        </p:nvPicPr>
        <p:blipFill>
          <a:blip r:embed="rId3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4"/>
          <a:stretch/>
        </p:blipFill>
        <p:spPr>
          <a:xfrm>
            <a:off x="9686880" y="4995720"/>
            <a:ext cx="23083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53720" y="587160"/>
            <a:ext cx="706140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335b74"/>
                </a:solidFill>
                <a:latin typeface="Franklin Gothic Book"/>
              </a:rPr>
              <a:t>Επί τόπου έγχυση </a:t>
            </a:r>
            <a:endParaRPr b="0" lang="en-US" sz="5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5" name="6 - Θέση περιεχομένου" descr="Επί τόπου έκχυση.JPG"/>
          <p:cNvPicPr/>
          <p:nvPr/>
        </p:nvPicPr>
        <p:blipFill>
          <a:blip r:embed="rId1"/>
          <a:stretch/>
        </p:blipFill>
        <p:spPr>
          <a:xfrm>
            <a:off x="1549440" y="1655640"/>
            <a:ext cx="7618320" cy="465480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3-11-30T10:19:48Z</dcterms:modified>
  <cp:revision>133</cp:revision>
  <dc:subject/>
  <dc:title>Παρουσίαση του PowerPoint</dc:title>
</cp:coreProperties>
</file>