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318C-AA83-4729-874A-734FD499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12AA-95B1-43B3-9F09-B9B8E2BA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1A7E-85EA-4B64-9F66-745B30BE3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761-85C3-402F-917A-FF81E369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7ED73-1526-489F-86D3-0E20B541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CC654-AA2B-4465-B81A-58907B17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E053-3D56-48FE-9807-AA293A61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83397-DEF3-4ACB-A84E-B0BA53BB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9C7B-4723-4764-A630-D23BBE78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7D95-1B1C-417C-A702-260145A3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0BD8-7970-41FE-964F-E0312FEB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6D11-0353-474F-8C85-BEC74B4D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7D07-F9F0-447C-86F7-41A3209E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0EEF-558B-4784-B108-40F7984C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8B87-7855-4FA9-8FAA-C5B003BD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6BD5-4BE2-4403-96CD-35A5936D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EFF6-79CC-4A37-9342-BCED8DF0F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7F911-F51C-45AF-BC00-82E067B66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272F2-3FCA-463B-956E-A7B54BBD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FBFC2-8FF5-412D-8E19-5E092701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1F51F-861F-437F-94CB-CF1ED4B8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D25AA-DC35-4B3B-9810-530BADC6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D4D-BB99-4C1B-8624-F473521C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C15F1-255A-434F-8CAD-8BEED83A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A16B0-8974-459E-9EAD-5BCFBD80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BC1BD-EEF4-4F21-96FA-545BC200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E7549-373C-4542-9797-0611BA19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9F1D8-6451-453F-AF4D-C7967F07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750B9-8064-419F-8E03-5AD28AA5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F274C-1E27-4CA4-A5EE-34B817AA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E24AE-80D6-4F17-B170-6331D0F5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7DBAF-0D15-4EFE-BEF1-66ACC621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BFCED-0F42-4759-BE64-B63EF5A0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5929-FFEE-4128-9AA4-1382AC58A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DFDC1-78CF-4912-8F2E-11F82D7B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A4377-B557-458B-8766-0BCB0C6E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27E8A-9D5A-4C57-BE43-704F3A72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F01F8-14B8-4207-B850-250117FE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EB7B9-FA7B-445E-A9F7-416A5C19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1489E-34BF-4B2C-B53E-C96E4834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0218E-67F9-4785-9CC4-E42DC758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694B2-F23D-47C1-9E6A-0A4719032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4F388-8776-4E96-ADF5-6763E887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7C67B-8A3B-47E9-9653-B3208A56E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CE9-EE06-4401-95F9-7C3D65E0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76676-FF5B-4D9A-A047-C83AA1E0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E5D84-8225-49A1-BE8C-0606DB95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F92FF-BBB3-4D1A-B26B-D80A9CDF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B8800-7B97-4D04-826D-B2F03766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D166B-AA30-4154-9395-2CEC7804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D93BE-8034-4D2B-BCF6-9D9C375F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66380-F0BB-4F6A-99D0-4D2BF86AD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E27A1-614F-4F6D-9CB8-2D3395F6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82048-D448-494D-A928-61576EEF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3A975-483E-4814-AC71-FBA464B1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B7F-1336-45A8-843E-48272431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4D186-FCCD-445A-BA65-F84C0683B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045D-A873-4525-B022-2CA4C520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FF0-0A07-46D2-81FA-61DB4A08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C8C-7910-4396-BC81-3DA69DC3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F95815-7729-4321-94B3-FD5D6375902E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316CC3-4FE7-43D4-A43B-AAAB7B8535FD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F80C9-A2AC-4AAE-B6BD-5F60FDB1DE38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D378C-6407-49AF-B50F-D7126CDCD115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39486C-7A12-4101-9DDB-7DD7CCB4646F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030320" y="402732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5b74"/>
                </a:solidFill>
                <a:latin typeface="Franklin Gothic Book"/>
              </a:rPr>
              <a:t>Δημιουργός: Κούλης Ιωάννης</a:t>
            </a: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  <a:p>
            <a:pPr algn="ctr"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7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2841120" y="1789200"/>
            <a:ext cx="7434360" cy="179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KINDS OF TRIANGLES IN TERMS OF THEIR SIDES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33320" y="338040"/>
            <a:ext cx="74912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Shapes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952200" y="1425240"/>
            <a:ext cx="78865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25" name="Ορθογώνιο 2"/>
          <p:cNvSpPr/>
          <p:nvPr/>
        </p:nvSpPr>
        <p:spPr>
          <a:xfrm rot="1306800">
            <a:off x="1436760" y="2052360"/>
            <a:ext cx="914400" cy="914400"/>
          </a:xfrm>
          <a:prstGeom prst="rect">
            <a:avLst/>
          </a:prstGeom>
          <a:solidFill>
            <a:srgbClr val="00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Ισοσκελές τρίγωνο 3"/>
          <p:cNvSpPr/>
          <p:nvPr/>
        </p:nvSpPr>
        <p:spPr>
          <a:xfrm>
            <a:off x="2643120" y="1824120"/>
            <a:ext cx="782640" cy="1112760"/>
          </a:xfrm>
          <a:prstGeom prst="triangle">
            <a:avLst>
              <a:gd name="adj" fmla="val 50000"/>
            </a:avLst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Ορθογώνιο 4"/>
          <p:cNvSpPr/>
          <p:nvPr/>
        </p:nvSpPr>
        <p:spPr>
          <a:xfrm>
            <a:off x="5667480" y="1965240"/>
            <a:ext cx="1419120" cy="889200"/>
          </a:xfrm>
          <a:prstGeom prst="rect">
            <a:avLst/>
          </a:prstGeom>
          <a:solidFill>
            <a:srgbClr val="ffff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Διάγραμμα ροής: Διεργασία 5"/>
          <p:cNvSpPr/>
          <p:nvPr/>
        </p:nvSpPr>
        <p:spPr>
          <a:xfrm>
            <a:off x="7451640" y="2549520"/>
            <a:ext cx="1193760" cy="622440"/>
          </a:xfrm>
          <a:prstGeom prst="flowChartProcess">
            <a:avLst/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Παραλληλόγραμμο 6"/>
          <p:cNvSpPr/>
          <p:nvPr/>
        </p:nvSpPr>
        <p:spPr>
          <a:xfrm>
            <a:off x="2409840" y="4403880"/>
            <a:ext cx="1189080" cy="820440"/>
          </a:xfrm>
          <a:prstGeom prst="parallelogram">
            <a:avLst>
              <a:gd name="adj" fmla="val 25007"/>
            </a:avLst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Τραπέζιο 7"/>
          <p:cNvSpPr/>
          <p:nvPr/>
        </p:nvSpPr>
        <p:spPr>
          <a:xfrm>
            <a:off x="6568920" y="5138640"/>
            <a:ext cx="1320840" cy="822600"/>
          </a:xfrm>
          <a:prstGeom prst="pie">
            <a:avLst/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Ορθογώνιο τρίγωνο 8"/>
          <p:cNvSpPr/>
          <p:nvPr/>
        </p:nvSpPr>
        <p:spPr>
          <a:xfrm rot="4737000">
            <a:off x="1775880" y="3456000"/>
            <a:ext cx="741240" cy="1189080"/>
          </a:xfrm>
          <a:prstGeom prst="rtTriangle">
            <a:avLst/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Ρόμβος 9"/>
          <p:cNvSpPr/>
          <p:nvPr/>
        </p:nvSpPr>
        <p:spPr>
          <a:xfrm>
            <a:off x="4013280" y="4654440"/>
            <a:ext cx="623880" cy="1471680"/>
          </a:xfrm>
          <a:prstGeom prst="diamond">
            <a:avLst/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Ισοσκελές τρίγωνο 10"/>
          <p:cNvSpPr/>
          <p:nvPr/>
        </p:nvSpPr>
        <p:spPr>
          <a:xfrm>
            <a:off x="2849400" y="2917800"/>
            <a:ext cx="1417680" cy="100656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Ορθογώνιο τρίγωνο 11"/>
          <p:cNvSpPr/>
          <p:nvPr/>
        </p:nvSpPr>
        <p:spPr>
          <a:xfrm>
            <a:off x="7110360" y="3340080"/>
            <a:ext cx="1020960" cy="1008000"/>
          </a:xfrm>
          <a:prstGeom prst="rtTriangle">
            <a:avLst/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Ορθογώνιο τρίγωνο 12"/>
          <p:cNvSpPr/>
          <p:nvPr/>
        </p:nvSpPr>
        <p:spPr>
          <a:xfrm rot="3912000">
            <a:off x="4640760" y="2493000"/>
            <a:ext cx="1055880" cy="993600"/>
          </a:xfrm>
          <a:prstGeom prst="rtTriangle">
            <a:avLst/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Ισοσκελές τρίγωνο 13"/>
          <p:cNvSpPr/>
          <p:nvPr/>
        </p:nvSpPr>
        <p:spPr>
          <a:xfrm>
            <a:off x="1006560" y="5346720"/>
            <a:ext cx="3020760" cy="914400"/>
          </a:xfrm>
          <a:prstGeom prst="triangle">
            <a:avLst>
              <a:gd name="adj" fmla="val 50000"/>
            </a:avLst>
          </a:prstGeom>
          <a:solidFill>
            <a:srgbClr val="318b71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Ισοσκελές τρίγωνο 14"/>
          <p:cNvSpPr/>
          <p:nvPr/>
        </p:nvSpPr>
        <p:spPr>
          <a:xfrm rot="4444200">
            <a:off x="5068800" y="3681360"/>
            <a:ext cx="2368440" cy="622080"/>
          </a:xfrm>
          <a:prstGeom prst="triangle">
            <a:avLst>
              <a:gd name="adj" fmla="val 50000"/>
            </a:avLst>
          </a:prstGeom>
          <a:solidFill>
            <a:srgbClr val="3e8853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Ορθογώνιο τρίγωνο 15"/>
          <p:cNvSpPr/>
          <p:nvPr/>
        </p:nvSpPr>
        <p:spPr>
          <a:xfrm>
            <a:off x="5491080" y="5207040"/>
            <a:ext cx="325440" cy="636480"/>
          </a:xfrm>
          <a:prstGeom prst="rtTriangle">
            <a:avLst/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217080"/>
            <a:ext cx="9225000" cy="13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aration of shapes according to the numbers of their sides (triangles).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0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4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2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43" name="Ισοσκελές τρίγωνο 1"/>
          <p:cNvSpPr/>
          <p:nvPr/>
        </p:nvSpPr>
        <p:spPr>
          <a:xfrm>
            <a:off x="1968480" y="1943280"/>
            <a:ext cx="782640" cy="1112760"/>
          </a:xfrm>
          <a:prstGeom prst="triangle">
            <a:avLst>
              <a:gd name="adj" fmla="val 50000"/>
            </a:avLst>
          </a:prstGeom>
          <a:solidFill>
            <a:srgbClr val="a8ecef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Ορθογώνιο τρίγωνο 2"/>
          <p:cNvSpPr/>
          <p:nvPr/>
        </p:nvSpPr>
        <p:spPr>
          <a:xfrm rot="4737000">
            <a:off x="1735920" y="4695840"/>
            <a:ext cx="741240" cy="1189080"/>
          </a:xfrm>
          <a:prstGeom prst="rtTriangle">
            <a:avLst/>
          </a:prstGeom>
          <a:solidFill>
            <a:srgbClr val="30525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Ισοσκελές τρίγωνο 3"/>
          <p:cNvSpPr/>
          <p:nvPr/>
        </p:nvSpPr>
        <p:spPr>
          <a:xfrm>
            <a:off x="3365640" y="4973760"/>
            <a:ext cx="1417320" cy="1008000"/>
          </a:xfrm>
          <a:prstGeom prst="triangle">
            <a:avLst>
              <a:gd name="adj" fmla="val 50000"/>
            </a:avLst>
          </a:prstGeom>
          <a:solidFill>
            <a:srgbClr val="42ba97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Ορθογώνιο τρίγωνο 4"/>
          <p:cNvSpPr/>
          <p:nvPr/>
        </p:nvSpPr>
        <p:spPr>
          <a:xfrm>
            <a:off x="6885000" y="4973760"/>
            <a:ext cx="1020600" cy="1008000"/>
          </a:xfrm>
          <a:prstGeom prst="rtTriangle">
            <a:avLst/>
          </a:prstGeom>
          <a:solidFill>
            <a:srgbClr val="2683c6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Ορθογώνιο τρίγωνο 5"/>
          <p:cNvSpPr/>
          <p:nvPr/>
        </p:nvSpPr>
        <p:spPr>
          <a:xfrm rot="3912000">
            <a:off x="7089480" y="2276280"/>
            <a:ext cx="1057320" cy="993960"/>
          </a:xfrm>
          <a:prstGeom prst="rtTriangle">
            <a:avLst/>
          </a:prstGeom>
          <a:solidFill>
            <a:srgbClr val="ffff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Ισοσκελές τρίγωνο 6"/>
          <p:cNvSpPr/>
          <p:nvPr/>
        </p:nvSpPr>
        <p:spPr>
          <a:xfrm>
            <a:off x="3830760" y="2085840"/>
            <a:ext cx="2981160" cy="20718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Ισοσκελές τρίγωνο 7"/>
          <p:cNvSpPr/>
          <p:nvPr/>
        </p:nvSpPr>
        <p:spPr>
          <a:xfrm rot="4444200">
            <a:off x="7473600" y="3754440"/>
            <a:ext cx="2367000" cy="62388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6240" y="473040"/>
            <a:ext cx="90122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istics of triangles in terms of their sides.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1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53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54" name="TextBox 9"/>
          <p:cNvSpPr/>
          <p:nvPr/>
        </p:nvSpPr>
        <p:spPr>
          <a:xfrm>
            <a:off x="1047600" y="1971720"/>
            <a:ext cx="825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ene                           no side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sceles                        2 equal s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ilateral                       3 sides eq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Βέλος: Δεξιό 10"/>
          <p:cNvSpPr/>
          <p:nvPr/>
        </p:nvSpPr>
        <p:spPr>
          <a:xfrm>
            <a:off x="3613320" y="2200320"/>
            <a:ext cx="1244520" cy="225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1cade4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Βέλος: Δεξιό 11"/>
          <p:cNvSpPr/>
          <p:nvPr/>
        </p:nvSpPr>
        <p:spPr>
          <a:xfrm>
            <a:off x="3666960" y="3073320"/>
            <a:ext cx="1244880" cy="2253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ff0000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Βέλος: Δεξιό 12"/>
          <p:cNvSpPr/>
          <p:nvPr/>
        </p:nvSpPr>
        <p:spPr>
          <a:xfrm>
            <a:off x="3586320" y="3933720"/>
            <a:ext cx="1244520" cy="225360"/>
          </a:xfrm>
          <a:prstGeom prst="rightArrow">
            <a:avLst>
              <a:gd name="adj1" fmla="val 50000"/>
              <a:gd name="adj2" fmla="val 50008"/>
            </a:avLst>
          </a:prstGeom>
          <a:solidFill>
            <a:srgbClr val="62a39f"/>
          </a:solidFill>
          <a:ln w="34920">
            <a:solidFill>
              <a:srgbClr val="0647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79520" y="812880"/>
            <a:ext cx="629136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259" name="14 - Θέση περιεχομένου" descr="ep.png"/>
          <p:cNvPicPr/>
          <p:nvPr/>
        </p:nvPicPr>
        <p:blipFill>
          <a:blip r:embed="rId1"/>
          <a:stretch/>
        </p:blipFill>
        <p:spPr>
          <a:xfrm>
            <a:off x="1733400" y="287280"/>
            <a:ext cx="6891480" cy="5580000"/>
          </a:xfrm>
          <a:prstGeom prst="rect">
            <a:avLst/>
          </a:prstGeom>
          <a:ln w="0">
            <a:noFill/>
          </a:ln>
        </p:spPr>
      </p:pic>
      <p:pic>
        <p:nvPicPr>
          <p:cNvPr id="260" name="Εικόνα 3" descr=""/>
          <p:cNvPicPr/>
          <p:nvPr/>
        </p:nvPicPr>
        <p:blipFill>
          <a:blip r:embed="rId2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61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62" name="Εικόνα 5" descr=""/>
          <p:cNvPicPr/>
          <p:nvPr/>
        </p:nvPicPr>
        <p:blipFill>
          <a:blip r:embed="rId4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455560" y="677880"/>
            <a:ext cx="5800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πέκταση της δραστηριότητας  </a:t>
            </a:r>
            <a:endParaRPr b="0" lang="en-US" sz="32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4" name="Θέση περιεχομένου 2" descr=""/>
          <p:cNvPicPr/>
          <p:nvPr/>
        </p:nvPicPr>
        <p:blipFill>
          <a:blip r:embed="rId1"/>
          <a:stretch/>
        </p:blipFill>
        <p:spPr>
          <a:xfrm>
            <a:off x="2154240" y="2179800"/>
            <a:ext cx="6734160" cy="3416040"/>
          </a:xfrm>
          <a:prstGeom prst="rect">
            <a:avLst/>
          </a:prstGeom>
          <a:ln w="0">
            <a:noFill/>
          </a:ln>
        </p:spPr>
      </p:pic>
      <p:pic>
        <p:nvPicPr>
          <p:cNvPr id="265" name="Εικόνα 3" descr=""/>
          <p:cNvPicPr/>
          <p:nvPr/>
        </p:nvPicPr>
        <p:blipFill>
          <a:blip r:embed="rId2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66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67" name="Εικόνα 5" descr=""/>
          <p:cNvPicPr/>
          <p:nvPr/>
        </p:nvPicPr>
        <p:blipFill>
          <a:blip r:embed="rId4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25760" y="3311640"/>
            <a:ext cx="53625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Thank you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9" name="Εικόνα 3" descr=""/>
          <p:cNvPicPr/>
          <p:nvPr/>
        </p:nvPicPr>
        <p:blipFill>
          <a:blip r:embed="rId1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70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71" name="Εικόνα 5" descr=""/>
          <p:cNvPicPr/>
          <p:nvPr/>
        </p:nvPicPr>
        <p:blipFill>
          <a:blip r:embed="rId3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8:23:55Z</dcterms:modified>
  <cp:revision>141</cp:revision>
  <dc:subject/>
  <dc:title>Παρουσίαση του PowerPoint</dc:title>
</cp:coreProperties>
</file>