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3D3-4FE2-48AB-8567-CA2CDF49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BC7-A4A8-4F2B-A319-0DBD886F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91A-8390-4CDA-B473-187F9F87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8FA-3BB5-4F3E-ABFC-94BCE797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CE2D-9FEA-4116-BC5F-D7CC9A20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0709-90CE-4D06-94F8-459BEE8B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AACB-CAD3-4FEC-8AF2-D9CB8F31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818B-F26D-450B-8934-891D431B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807F-AD5A-40E1-8D33-64B6937E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156C-7809-4B88-8F67-F5BBE61D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2C2E-D20D-4577-9A6C-1E4AFFF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937-7B90-4EB2-8746-1E894C9C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2503-3D29-4636-B2CB-42BC98B4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410C-A73E-4E66-AB21-C544697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8447-1CB5-4DBD-9D13-83DBC5D5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EC52-CC3C-499E-B23A-F03D8E4B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F89F-0E85-4D30-BE6D-DC10C2D8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3DF8-0389-4FA7-992B-28E0A8BA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3873-3898-477F-AAF2-27FE7965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A8A4-2E8F-4005-A613-71D5D3D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4503-75EE-4B9C-B470-0C12A24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366E-F6ED-43D1-A88D-9991595D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61E-A9C8-48F8-ADB2-75DC4B33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D11F-2FA4-425B-992E-FA81C2DA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C6D4-2090-4D54-9474-64E90FFE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BFE1-A7B7-42C2-887C-B0CD809F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1726-A84D-49DC-8ED1-50AB9BFC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4C8A-9281-4239-AD35-EE506A70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E985-58CA-4AFE-B38E-FC18A89C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5C84-D56F-4E80-AAD7-F50352F8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79487-A2B6-4D61-A906-AE268C43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756C-42D4-437E-9E55-5E0DA774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7DB5-B4AC-4C02-BE9E-9AA924D8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F57-5F5A-4E61-932D-0D6B83E7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6B88-FB3A-4E1F-B81C-6FF6E287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6BBB8-3B2F-475A-9B80-A897892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6B96-BD8F-4B5A-B966-1B1FB8F7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6D2B-A2F3-4C26-983F-E988739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87299-F91E-4FE7-B7FE-F508A92B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8625-60C5-4BCD-8607-9FA037A4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0B4A-8612-4B03-A7A1-A0FEE99D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0127B-54B5-40DD-9095-6633A482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3A55-D0F5-47DE-AA33-6B22A847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C718-45C0-45C3-BB06-A2ABD50D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14E-E96A-4473-84F1-A8C979B8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949EC-D3F6-418C-8CAC-47252B2C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6D97-4B88-432D-8BD7-3E4EF7DB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B4084-CBB6-4B3C-8DA7-28BE31FB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911AB-3017-4FEF-9FE7-26728E8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5791B-7DCD-4C87-8ED4-7BC318E8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6B0FF-56E4-44A7-9255-FB6B974A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4F59-248C-4DE7-B4D5-C6474E48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F4DF-9958-4DB6-B74E-3D9C83F4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4B60-0211-4279-BCB1-0A42F44C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02E3-6169-40DD-9121-506D4EFB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FFD-750D-4427-8E48-B4A7440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C275-37B0-48A9-A4C7-162E75CF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161-E6D3-47F7-B536-5CD22A7F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08D-53D9-4C25-8755-99E2D83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167-2830-49E8-B867-0B0ED40E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4AFD3-6CC1-4CE6-ABD9-5E29D6EAE1AA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1931B-E77D-4169-9F5E-F947EA73BD6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F27DB-73E6-493F-81FB-4C73F3B539FB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5F2FA-8EAA-489D-B6A7-390DF6DE0F8F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6627A-5AC4-4CEA-A917-72B4506BB5F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Κούλης Ιωάννη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841120" y="1789200"/>
            <a:ext cx="743436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KINDS OF TRIANGLES IN TERMS OF THEIR SIDES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33320" y="338040"/>
            <a:ext cx="7491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hapes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52200" y="1425240"/>
            <a:ext cx="78865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2"/>
          <p:cNvSpPr/>
          <p:nvPr/>
        </p:nvSpPr>
        <p:spPr>
          <a:xfrm rot="1306800">
            <a:off x="1436760" y="2052360"/>
            <a:ext cx="914400" cy="914400"/>
          </a:xfrm>
          <a:prstGeom prst="rect">
            <a:avLst/>
          </a:prstGeom>
          <a:solidFill>
            <a:srgbClr val="00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Ισοσκελές τρίγωνο 3"/>
          <p:cNvSpPr/>
          <p:nvPr/>
        </p:nvSpPr>
        <p:spPr>
          <a:xfrm>
            <a:off x="2643120" y="182412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Ορθογώνιο 4"/>
          <p:cNvSpPr/>
          <p:nvPr/>
        </p:nvSpPr>
        <p:spPr>
          <a:xfrm>
            <a:off x="5667480" y="1965240"/>
            <a:ext cx="1419120" cy="889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Διάγραμμα ροής: Διεργασία 5"/>
          <p:cNvSpPr/>
          <p:nvPr/>
        </p:nvSpPr>
        <p:spPr>
          <a:xfrm>
            <a:off x="7451640" y="2549520"/>
            <a:ext cx="1193760" cy="622440"/>
          </a:xfrm>
          <a:prstGeom prst="flowChartProcess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Παραλληλόγραμμο 6"/>
          <p:cNvSpPr/>
          <p:nvPr/>
        </p:nvSpPr>
        <p:spPr>
          <a:xfrm>
            <a:off x="2409840" y="4403880"/>
            <a:ext cx="1189080" cy="820440"/>
          </a:xfrm>
          <a:prstGeom prst="parallelogram">
            <a:avLst>
              <a:gd name="adj" fmla="val 25007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Τραπέζιο 7"/>
          <p:cNvSpPr/>
          <p:nvPr/>
        </p:nvSpPr>
        <p:spPr>
          <a:xfrm>
            <a:off x="6568920" y="5138640"/>
            <a:ext cx="1320840" cy="822600"/>
          </a:xfrm>
          <a:prstGeom prst="pi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τρίγωνο 8"/>
          <p:cNvSpPr/>
          <p:nvPr/>
        </p:nvSpPr>
        <p:spPr>
          <a:xfrm rot="4737000">
            <a:off x="1775880" y="3456000"/>
            <a:ext cx="741240" cy="1189080"/>
          </a:xfrm>
          <a:prstGeom prst="rtTriangl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Ρόμβος 9"/>
          <p:cNvSpPr/>
          <p:nvPr/>
        </p:nvSpPr>
        <p:spPr>
          <a:xfrm>
            <a:off x="4013280" y="4654440"/>
            <a:ext cx="623880" cy="1471680"/>
          </a:xfrm>
          <a:prstGeom prst="diamond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Ισοσκελές τρίγωνο 10"/>
          <p:cNvSpPr/>
          <p:nvPr/>
        </p:nvSpPr>
        <p:spPr>
          <a:xfrm>
            <a:off x="2849400" y="2917800"/>
            <a:ext cx="1417680" cy="1006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Ορθογώνιο τρίγωνο 11"/>
          <p:cNvSpPr/>
          <p:nvPr/>
        </p:nvSpPr>
        <p:spPr>
          <a:xfrm>
            <a:off x="7110360" y="3340080"/>
            <a:ext cx="102096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Ορθογώνιο τρίγωνο 12"/>
          <p:cNvSpPr/>
          <p:nvPr/>
        </p:nvSpPr>
        <p:spPr>
          <a:xfrm rot="3912000">
            <a:off x="4640760" y="2493000"/>
            <a:ext cx="1055880" cy="99360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Ισοσκελές τρίγωνο 13"/>
          <p:cNvSpPr/>
          <p:nvPr/>
        </p:nvSpPr>
        <p:spPr>
          <a:xfrm>
            <a:off x="1006560" y="5346720"/>
            <a:ext cx="3020760" cy="914400"/>
          </a:xfrm>
          <a:prstGeom prst="triangle">
            <a:avLst>
              <a:gd name="adj" fmla="val 50000"/>
            </a:avLst>
          </a:prstGeom>
          <a:solidFill>
            <a:srgbClr val="318b71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Ισοσκελές τρίγωνο 14"/>
          <p:cNvSpPr/>
          <p:nvPr/>
        </p:nvSpPr>
        <p:spPr>
          <a:xfrm rot="4444200">
            <a:off x="5068800" y="3681360"/>
            <a:ext cx="2368440" cy="622080"/>
          </a:xfrm>
          <a:prstGeom prst="triangle">
            <a:avLst>
              <a:gd name="adj" fmla="val 50000"/>
            </a:avLst>
          </a:prstGeom>
          <a:solidFill>
            <a:srgbClr val="3e8853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Ορθογώνιο τρίγωνο 15"/>
          <p:cNvSpPr/>
          <p:nvPr/>
        </p:nvSpPr>
        <p:spPr>
          <a:xfrm>
            <a:off x="5491080" y="5207040"/>
            <a:ext cx="325440" cy="63648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217080"/>
            <a:ext cx="92250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shapes according to the numbers of their sides (triangles)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3" name="Ισοσκελές τρίγωνο 1"/>
          <p:cNvSpPr/>
          <p:nvPr/>
        </p:nvSpPr>
        <p:spPr>
          <a:xfrm>
            <a:off x="1968480" y="194328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a8ece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Ορθογώνιο τρίγωνο 2"/>
          <p:cNvSpPr/>
          <p:nvPr/>
        </p:nvSpPr>
        <p:spPr>
          <a:xfrm rot="4737000">
            <a:off x="1735920" y="4695840"/>
            <a:ext cx="741240" cy="1189080"/>
          </a:xfrm>
          <a:prstGeom prst="rtTriangle">
            <a:avLst/>
          </a:prstGeom>
          <a:solidFill>
            <a:srgbClr val="30525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Ισοσκελές τρίγωνο 3"/>
          <p:cNvSpPr/>
          <p:nvPr/>
        </p:nvSpPr>
        <p:spPr>
          <a:xfrm>
            <a:off x="3365640" y="4973760"/>
            <a:ext cx="1417320" cy="1008000"/>
          </a:xfrm>
          <a:prstGeom prst="triangle">
            <a:avLst>
              <a:gd name="adj" fmla="val 50000"/>
            </a:avLst>
          </a:prstGeom>
          <a:solidFill>
            <a:srgbClr val="42ba97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Ορθογώνιο τρίγωνο 4"/>
          <p:cNvSpPr/>
          <p:nvPr/>
        </p:nvSpPr>
        <p:spPr>
          <a:xfrm>
            <a:off x="6885000" y="4973760"/>
            <a:ext cx="102060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Ορθογώνιο τρίγωνο 5"/>
          <p:cNvSpPr/>
          <p:nvPr/>
        </p:nvSpPr>
        <p:spPr>
          <a:xfrm rot="3912000">
            <a:off x="7089480" y="2276280"/>
            <a:ext cx="1057320" cy="993960"/>
          </a:xfrm>
          <a:prstGeom prst="rtTriangle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Ισοσκελές τρίγωνο 6"/>
          <p:cNvSpPr/>
          <p:nvPr/>
        </p:nvSpPr>
        <p:spPr>
          <a:xfrm>
            <a:off x="3830760" y="2085840"/>
            <a:ext cx="2981160" cy="20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Ισοσκελές τρίγωνο 7"/>
          <p:cNvSpPr/>
          <p:nvPr/>
        </p:nvSpPr>
        <p:spPr>
          <a:xfrm rot="4444200">
            <a:off x="7473600" y="3754440"/>
            <a:ext cx="2367000" cy="6238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6240" y="473040"/>
            <a:ext cx="9012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triangles in terms of their sides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5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1047600" y="1971720"/>
            <a:ext cx="825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ne                           no sid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sceles                        2 equal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lateral                       3 sides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Βέλος: Δεξιό 10"/>
          <p:cNvSpPr/>
          <p:nvPr/>
        </p:nvSpPr>
        <p:spPr>
          <a:xfrm>
            <a:off x="3613320" y="22003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Βέλος: Δεξιό 11"/>
          <p:cNvSpPr/>
          <p:nvPr/>
        </p:nvSpPr>
        <p:spPr>
          <a:xfrm>
            <a:off x="3666960" y="3073320"/>
            <a:ext cx="1244880" cy="225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Βέλος: Δεξιό 12"/>
          <p:cNvSpPr/>
          <p:nvPr/>
        </p:nvSpPr>
        <p:spPr>
          <a:xfrm>
            <a:off x="3586320" y="39337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62a39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62913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59" name="14 - Θέση περιεχομένου" descr="ep.png"/>
          <p:cNvPicPr/>
          <p:nvPr/>
        </p:nvPicPr>
        <p:blipFill>
          <a:blip r:embed="rId1"/>
          <a:stretch/>
        </p:blipFill>
        <p:spPr>
          <a:xfrm>
            <a:off x="1733400" y="287280"/>
            <a:ext cx="6891480" cy="558000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3" descr=""/>
          <p:cNvPicPr/>
          <p:nvPr/>
        </p:nvPicPr>
        <p:blipFill>
          <a:blip r:embed="rId2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5" descr=""/>
          <p:cNvPicPr/>
          <p:nvPr/>
        </p:nvPicPr>
        <p:blipFill>
          <a:blip r:embed="rId4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5800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 της δραστηριότητας 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54240" y="2179800"/>
            <a:ext cx="6734160" cy="341604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67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25760" y="3311640"/>
            <a:ext cx="5362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Thank you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9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70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71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23:55Z</dcterms:modified>
  <cp:revision>141</cp:revision>
  <dc:subject/>
  <dc:title>Παρουσίαση του PowerPoint</dc:title>
</cp:coreProperties>
</file>